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5D14-4DF5-4101-84EB-D8E3599A5F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7EF4-F4C8-430E-9508-76F496398BC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8E03-70BE-4C00-8BA5-8A7A7C4A39F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5A44-11C1-4C17-8834-7845C315021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2186-30B7-4E57-803C-6C9DA98F398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52131-C1C6-4BEC-96F9-E4466C263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CDE63-A177-4BD6-9B8D-D6C693307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5D01-9CAB-493F-B0C0-8A0F584E7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404BE-97F0-47BB-94A6-793A9746C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CD55-7787-4E93-ACE8-881CBBB68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ED55A-69CD-47CD-A5ED-BA1BFABA0E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13B16-D518-47EC-9C7F-61F9184721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DF09A-1F5E-4712-805F-FCB35593FA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36EC6-3595-4CFE-B83F-71203CF54B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9B3BF-46A2-47DE-A0CE-7FDBCDC388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ADE14-CF76-44FD-A9A1-68DBFECA63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F1467-932B-4AC5-9B62-9B84E87117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77C40-68FB-4FC7-AE0F-05A038C94B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828BE-8B65-407A-943B-90A24F50EB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8715F-98CB-4B29-BF14-D1A9943293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50126-5414-4940-ABCE-D8B341C43C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EBD56-113F-437F-B9B1-D84FCC4310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F26FB-9828-4D2A-956C-E7E695BBD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B3A7-84CB-4BC5-82C6-4198A603D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6C173-9FB0-4360-B467-A7119B805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744C-45C0-4547-8A4E-EC62D8BCE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FFD8C-9245-43FC-AF37-2B02A03E8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9F094-E5B2-4087-B546-6B11BC153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39A4-2E33-49C8-B456-150B438A6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0EA3-A39B-4735-85DF-FE8E51F702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C1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E0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0" y="6237360"/>
            <a:ext cx="8913960" cy="239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E0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11A0-51E0-4266-B1C0-4542D46883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12 Subtest 1: Improved Deblocking Filter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icheng An, Qian Huang, Xun Guo, Yu-Wen Huang and Shawmin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Tek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Xun G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16-23 March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ing uni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according to sampling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4:2:0, 4x4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4:2:2, 4x8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4:4:4, 8x8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Filtering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or B is intra co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conditions with luma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iltering unit of 4x4, line 1 is used instead of line 2 in l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ed Chroma Fil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页脚占位符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4472-A790-47F3-A099-A45E4C7E679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IDF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8006-BFDD-4DB8-86A8-D7EF400119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71680" y="1071720"/>
            <a:ext cx="805464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test conditions in JCTVC-D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 1 – modified luma filter and chroma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 2 – modified chroma filter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 Ericsson and Sony for cross-verifying our results (E256, E0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7A77-8B1D-4F00-B91B-010682E38A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6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for Experiment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8F97-E3D3-4D15-8B90-4109599F5A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6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39760" y="1042920"/>
          <a:ext cx="4597560" cy="1717920"/>
        </p:xfrm>
        <a:graphic>
          <a:graphicData uri="http://schemas.openxmlformats.org/drawingml/2006/table">
            <a:tbl>
              <a:tblPr/>
              <a:tblGrid>
                <a:gridCol w="866880"/>
                <a:gridCol w="622440"/>
                <a:gridCol w="622080"/>
                <a:gridCol w="621000"/>
                <a:gridCol w="622080"/>
                <a:gridCol w="620640"/>
                <a:gridCol w="622440"/>
              </a:tblGrid>
              <a:tr h="16200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-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-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</a:tr>
              <a:tr h="17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ea6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ea6a"/>
                    </a:solidFill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a6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a6a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046240" y="2730600"/>
          <a:ext cx="4597560" cy="1717560"/>
        </p:xfrm>
        <a:graphic>
          <a:graphicData uri="http://schemas.openxmlformats.org/drawingml/2006/table">
            <a:tbl>
              <a:tblPr/>
              <a:tblGrid>
                <a:gridCol w="863640"/>
                <a:gridCol w="622440"/>
                <a:gridCol w="622080"/>
                <a:gridCol w="622440"/>
                <a:gridCol w="622080"/>
                <a:gridCol w="622440"/>
                <a:gridCol w="622440"/>
              </a:tblGrid>
              <a:tr h="16200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-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-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</a:tr>
              <a:tr h="17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ea6a"/>
                    </a:solidFill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039760" y="4424400"/>
          <a:ext cx="4597560" cy="1704960"/>
        </p:xfrm>
        <a:graphic>
          <a:graphicData uri="http://schemas.openxmlformats.org/drawingml/2006/table">
            <a:tbl>
              <a:tblPr/>
              <a:tblGrid>
                <a:gridCol w="866880"/>
                <a:gridCol w="622440"/>
                <a:gridCol w="622080"/>
                <a:gridCol w="621000"/>
                <a:gridCol w="622080"/>
                <a:gridCol w="620640"/>
                <a:gridCol w="622440"/>
              </a:tblGrid>
              <a:tr h="162000">
                <a:tc row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-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-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for Experiment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页脚占位符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灯片编号占位符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D334-EC85-4F4B-9AE1-A7CECAFABA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039760" y="1042920"/>
          <a:ext cx="4597560" cy="1717920"/>
        </p:xfrm>
        <a:graphic>
          <a:graphicData uri="http://schemas.openxmlformats.org/drawingml/2006/table">
            <a:tbl>
              <a:tblPr/>
              <a:tblGrid>
                <a:gridCol w="866880"/>
                <a:gridCol w="622440"/>
                <a:gridCol w="622080"/>
                <a:gridCol w="621000"/>
                <a:gridCol w="622080"/>
                <a:gridCol w="620640"/>
                <a:gridCol w="622440"/>
              </a:tblGrid>
              <a:tr h="16200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-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-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046240" y="2730600"/>
          <a:ext cx="4597560" cy="1717560"/>
        </p:xfrm>
        <a:graphic>
          <a:graphicData uri="http://schemas.openxmlformats.org/drawingml/2006/table">
            <a:tbl>
              <a:tblPr/>
              <a:tblGrid>
                <a:gridCol w="863640"/>
                <a:gridCol w="622440"/>
                <a:gridCol w="622080"/>
                <a:gridCol w="622440"/>
                <a:gridCol w="622080"/>
                <a:gridCol w="622440"/>
                <a:gridCol w="622440"/>
              </a:tblGrid>
              <a:tr h="16200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-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-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039760" y="4424400"/>
          <a:ext cx="4597560" cy="1704960"/>
        </p:xfrm>
        <a:graphic>
          <a:graphicData uri="http://schemas.openxmlformats.org/drawingml/2006/table">
            <a:tbl>
              <a:tblPr/>
              <a:tblGrid>
                <a:gridCol w="866880"/>
                <a:gridCol w="622440"/>
                <a:gridCol w="622080"/>
                <a:gridCol w="621000"/>
                <a:gridCol w="622080"/>
                <a:gridCol w="620640"/>
                <a:gridCol w="622440"/>
              </a:tblGrid>
              <a:tr h="162000">
                <a:tc row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-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-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039680" y="2851200"/>
          <a:ext cx="6958080" cy="2554200"/>
        </p:xfrm>
        <a:graphic>
          <a:graphicData uri="http://schemas.openxmlformats.org/drawingml/2006/table">
            <a:tbl>
              <a:tblPr/>
              <a:tblGrid>
                <a:gridCol w="1704960"/>
                <a:gridCol w="1690920"/>
                <a:gridCol w="850680"/>
                <a:gridCol w="857520"/>
                <a:gridCol w="954000"/>
                <a:gridCol w="900000"/>
              </a:tblGrid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M 2.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[s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xperiment 1 [s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xperiment 2 [s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E-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8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C-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E-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0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C-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2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E-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0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C-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ding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页脚占位符 3"/>
          <p:cNvSpPr/>
          <p:nvPr/>
        </p:nvSpPr>
        <p:spPr>
          <a:xfrm>
            <a:off x="1219320" y="3503520"/>
            <a:ext cx="288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灯片编号占位符 4"/>
          <p:cNvSpPr/>
          <p:nvPr/>
        </p:nvSpPr>
        <p:spPr>
          <a:xfrm>
            <a:off x="4950000" y="3503520"/>
            <a:ext cx="463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5D4D-9565-4FB5-BC15-9C817622CBE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ontent Placeholder 2"/>
          <p:cNvSpPr/>
          <p:nvPr/>
        </p:nvSpPr>
        <p:spPr>
          <a:xfrm>
            <a:off x="571680" y="1071720"/>
            <a:ext cx="8054640" cy="49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ing time is measured on a singl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est 1 and test 2 have similar decoding time as that of HM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roved deblocking filter (IDF) algorithm has been investig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BD-rate reductions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2%, 1.8% and 1.7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Y, U and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can be observed in subjective quality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m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ig difference in subjective quality between IDF and HEVC DF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exity of IDF is almost the same to that of HEVC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 to be accepted or partially accepted by HE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5B7C-56A0-4E5F-919A-4851256CAE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矩形 3" descr=""/>
          <p:cNvPicPr/>
          <p:nvPr/>
        </p:nvPicPr>
        <p:blipFill>
          <a:blip r:embed="rId1"/>
          <a:stretch/>
        </p:blipFill>
        <p:spPr>
          <a:xfrm>
            <a:off x="2279520" y="2766960"/>
            <a:ext cx="4578480" cy="1152720"/>
          </a:xfrm>
          <a:prstGeom prst="rect">
            <a:avLst/>
          </a:prstGeom>
          <a:ln w="0">
            <a:noFill/>
          </a:ln>
        </p:spPr>
      </p:pic>
      <p:sp>
        <p:nvSpPr>
          <p:cNvPr id="211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1ED2-4932-485F-A442-1938A3D870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roved deblocking filter (IDF) is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luma deblocking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chroma deblocking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rate re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component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2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ve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%, 1.5%, 0.9%, 1.1%, 0.9%, 1.2% for HE-AI, LC-AI, HE-RA, LC-RA, HE-LD and LC-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component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8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ve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4%, 3.0%, 1.8%, 1.8%, 0.7%, 1.8% for HE-AI, LC-AI, HE-RA, LC-RA, HE-LD and LC-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component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7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ve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6%, 3.4%, 0.7%, 1.9%, 0.9%, 1.9% for HE-AI, LC-AI, HE-RA, LC-RA, HE-LD and LC-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ncoding and decoding time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3DF6-57AA-4689-BE96-D5E8FB6C0D8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IDF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9C2E-56B3-4297-80F2-1D34A7EA7A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27120" y="1123560"/>
            <a:ext cx="4665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ing process is based on 8x8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ing dec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ther a boundary should be fi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the pixels of line 2 and line 5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ther a weak filter or a strong filter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Line by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ed6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locking Filter in HM2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556F-9DCC-4473-ADEC-9A14ED7694C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7"/>
          <p:cNvGraphicFramePr/>
          <p:nvPr/>
        </p:nvGraphicFramePr>
        <p:xfrm>
          <a:off x="5891040" y="1730520"/>
          <a:ext cx="3167280" cy="26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91040" y="1730520"/>
                    <a:ext cx="3167280" cy="26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3"/>
          <p:cNvSpPr/>
          <p:nvPr/>
        </p:nvSpPr>
        <p:spPr>
          <a:xfrm>
            <a:off x="5291280" y="2403360"/>
            <a:ext cx="73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5292720" y="338472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posed IDF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AE81-98C0-4D7C-A214-FF255C5052A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DF in HM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ing process is based on 8x8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ixel lines are used in filter decis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ma deblocking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y strength (BS)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ing 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ering deci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er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s and clipping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 filter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a deblocking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:2:0, 8x8 -&gt;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filtering deci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IDF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FC7C-75D3-4EA4-8E91-B48A745090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boundary, BS=2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neighboring blocks has non-zero transform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ed from H.2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ense when transform size is equal to predictio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 can be larger than PU in HE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check for TU 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ed Luma Filter – Modification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页脚占位符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42C8-3ABB-4F44-9866-DF6ACAAB048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26760" y="11379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 of filter decision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measure the gradient across block 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onditions for i=2 and 5 are true, the boundary is decided to be fi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p0i – q0i| &lt;  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p1i – p0i| &lt;  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q1i – q0i| &lt;  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α and Tβ are derived using α and 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 of filter selection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measure the gradient across the second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ach line, 2 conditions are true, strong filter is used, otherwise, weak filter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p0i – q0i| &lt; (α &gt;&gt; 2) – (α &gt;&gt;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q1i -q0i | + |q2i -q0i | + |q3i -q0i | + |p1i -p0i | + |p2i -p0i | + |p3i -p0i | &lt; ((β-4)&lt;&lt;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ed Luma Filter – Modification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DCA8-DB7C-4F21-B3A8-27ADA2D2AD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and clipping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ne more threshold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α, for filtering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ified clipping values to filter more in large Q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eak filte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ified coefficients for computing delta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condition for the second pixel from the bound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ed Luma Filter Modification 3&amp;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页脚占位符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灯片编号占位符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C7BB-E88A-4FB8-B537-26B0B987186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/>
  <dc:description/>
  <dc:language>en-US</dc:language>
  <cp:lastModifiedBy>xun guo</cp:lastModifiedBy>
  <dcterms:modified xsi:type="dcterms:W3CDTF">2011-03-18T14:20:23Z</dcterms:modified>
  <cp:revision>1595</cp:revision>
  <dc:subject/>
  <dc:title>CE8 Subtest 1: Improved Deblocking Filter (IDF)</dc:title>
</cp:coreProperties>
</file>