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F965-0523-4344-8869-968EC7EC7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7955-815D-47DB-BCBE-A14F2C111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E7A6-0FDD-465F-ACFF-78BB7896B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682E-C678-4857-AFBC-E398C6FFA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CE5A-8C5A-482F-92BA-3348A51CB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31125-E85D-456E-9A57-575F874A29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B09E2-5793-4F0E-802D-627AB8E6FF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F5384-B4D9-42BB-A1E7-6B19ADBEF7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21BA-255B-4053-950A-44FF0EB0AA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F6685-29D3-4299-87D4-17E1CDB9AF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12E5-E26C-467D-9335-2E6BB8961F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3970-837C-4FCF-9488-860EFF5F65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74588-1B32-4235-89BC-36454793C9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490F6-6166-4EBE-ABA5-65ED02A1A4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B61BC-D9E0-4D0A-A57A-95A09664AE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A32B-6728-4CD5-9CE2-EA99711E90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E008F-116E-4F42-A57D-B100E07617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8ABB0-46E7-43D4-B4FC-C087D9663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2D7F-2DAB-465E-94A7-B8E867151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5CA3-9807-4555-9E44-4AD4EA935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35F9-6FB4-42C0-86F9-4CB01F76A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B779-E56E-43C9-A7B9-864FE0792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1CA2-AEBD-460E-AEFF-A9340CB6B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B8FA-4DE9-4E02-8A84-443BBB62E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E53-D4A1-4CE0-9D27-39B78F59B8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0" y="6237360"/>
            <a:ext cx="891396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8D9-4125-4B07-9D13-7FAFE9382D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76 luma filter + E079 chroma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of the C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40F0-63DC-41BA-BCB9-2FE829E94D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0" y="1790640"/>
          <a:ext cx="4597560" cy="1314360"/>
        </p:xfrm>
        <a:graphic>
          <a:graphicData uri="http://schemas.openxmlformats.org/drawingml/2006/table">
            <a:tbl>
              <a:tblPr/>
              <a:tblGrid>
                <a:gridCol w="866880"/>
                <a:gridCol w="622080"/>
                <a:gridCol w="622440"/>
                <a:gridCol w="620640"/>
                <a:gridCol w="622440"/>
                <a:gridCol w="620640"/>
                <a:gridCol w="622440"/>
              </a:tblGrid>
              <a:tr h="17136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286000" y="3152880"/>
          <a:ext cx="4597560" cy="1619280"/>
        </p:xfrm>
        <a:graphic>
          <a:graphicData uri="http://schemas.openxmlformats.org/drawingml/2006/table">
            <a:tbl>
              <a:tblPr/>
              <a:tblGrid>
                <a:gridCol w="863640"/>
                <a:gridCol w="622440"/>
                <a:gridCol w="622080"/>
                <a:gridCol w="622440"/>
                <a:gridCol w="622080"/>
                <a:gridCol w="622440"/>
                <a:gridCol w="622440"/>
              </a:tblGrid>
              <a:tr h="46656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286000" y="4819680"/>
          <a:ext cx="4597560" cy="1324080"/>
        </p:xfrm>
        <a:graphic>
          <a:graphicData uri="http://schemas.openxmlformats.org/drawingml/2006/table">
            <a:tbl>
              <a:tblPr/>
              <a:tblGrid>
                <a:gridCol w="866880"/>
                <a:gridCol w="622080"/>
                <a:gridCol w="622440"/>
                <a:gridCol w="620640"/>
                <a:gridCol w="622440"/>
                <a:gridCol w="620640"/>
                <a:gridCol w="622440"/>
              </a:tblGrid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/>
  <dc:description/>
  <dc:language>en-US</dc:language>
  <cp:lastModifiedBy>xun guo</cp:lastModifiedBy>
  <dcterms:modified xsi:type="dcterms:W3CDTF">2011-03-20T13:59:20Z</dcterms:modified>
  <cp:revision>1597</cp:revision>
  <dc:subject/>
  <dc:title>CE8 Subtest 1: Improved Deblocking Filter (IDF)</dc:title>
</cp:coreProperties>
</file>