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B7C6-4637-425A-9BEC-DE20029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8036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C712-EAFD-43EE-8055-B03C640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8036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78036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5044-7400-4175-B26F-FCCCB895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91440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91440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8036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78036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78036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661C-BE6C-4341-B31F-0B90F11A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0305-9DA5-44D1-B30B-C6D94B1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D40D-0FD5-4CA8-80DA-1BEEEB7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91440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B12E-4374-4B9A-AF2C-2800E44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56E9-EB5D-414A-914D-EC68EB1E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AC93-776B-4224-A14C-31E4A355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91440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8036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4548-DCD4-4FD2-BEEF-D37BE14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78036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CF6C-6C0C-4D15-87C0-17BBD4A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91440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8036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8D51-6F52-4763-86FC-975BC65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98440" indent="-284040">
              <a:spcBef>
                <a:spcPts val="799"/>
              </a:spcBef>
              <a:buClr>
                <a:srgbClr val="ffcc00"/>
              </a:buClr>
              <a:buFont typeface="Calibri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8404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01960" indent="-2844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01960" indent="-28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01960" indent="-28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E69-3F54-427C-A553-D70111C9430D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0" y="6445080"/>
            <a:ext cx="8561520" cy="184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ecoidea.jpg"/>
          <p:cNvPicPr/>
          <p:nvPr/>
        </p:nvPicPr>
        <p:blipFill>
          <a:blip r:embed="rId3"/>
          <a:stretch/>
        </p:blipFill>
        <p:spPr>
          <a:xfrm>
            <a:off x="8610480" y="6400800"/>
            <a:ext cx="419400" cy="277920"/>
          </a:xfrm>
          <a:prstGeom prst="rect">
            <a:avLst/>
          </a:prstGeom>
          <a:ln w="0">
            <a:noFill/>
          </a:ln>
        </p:spPr>
      </p:pic>
      <p:pic>
        <p:nvPicPr>
          <p:cNvPr id="5" name="Straight Connector 8" descr=""/>
          <p:cNvPicPr/>
          <p:nvPr/>
        </p:nvPicPr>
        <p:blipFill>
          <a:blip r:embed="rId4"/>
          <a:stretch/>
        </p:blipFill>
        <p:spPr>
          <a:xfrm>
            <a:off x="-19080" y="743040"/>
            <a:ext cx="9186840" cy="42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DD5-3650-4BA4-A7D7-BCF31D5F21A2}" type="datetime"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/0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Mode Dependent 2-step Transform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for Intra Coding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alibri"/>
                <a:ea typeface="ＭＳ Ｐゴシック"/>
              </a:rPr>
              <a:t>Youji Shibah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alibri"/>
                <a:ea typeface="ＭＳ Ｐゴシック"/>
              </a:rPr>
              <a:t>Takahiro Nis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33cc"/>
                </a:solidFill>
                <a:latin typeface="Calibri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76320" y="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alibri"/>
                <a:ea typeface="ＭＳ Ｐゴシック"/>
              </a:rPr>
              <a:t>JCTVC-E074</a:t>
            </a:r>
            <a:r>
              <a:rPr b="0" lang="ja-JP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6320" y="380880"/>
            <a:ext cx="396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Calibri"/>
                <a:ea typeface="ＭＳ Ｐゴシック"/>
              </a:rPr>
              <a:t>5</a:t>
            </a:r>
            <a:r>
              <a:rPr b="0" lang="en-US" sz="1400" spc="-1" strike="noStrike" baseline="30000">
                <a:solidFill>
                  <a:srgbClr val="0033cc"/>
                </a:solidFill>
                <a:latin typeface="Calibri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33cc"/>
                </a:solidFill>
                <a:latin typeface="Calibri"/>
                <a:ea typeface="ＭＳ Ｐゴシック"/>
              </a:rPr>
              <a:t> JCT-VC Meeting: Geneva, CH, 16-23 March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5084-5E07-421F-B818-F2492BAE54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Proposed Method (3)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t-width: 32 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ory requir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4x4 7bit transform matrix for large bl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4x4 7bit transform matrix for 4x4 bl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34 2bit array. (same table is already included in HMV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additional de-Quantization 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ion other than trans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additional operation for norm adjus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multiply of de-quantization table is applied against the input of inverse 1st (core) transform. It is not changed from the HM dataflo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aptive shift up/down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were two shift operations to be applied. 1st one is a shift up for the de-Quantization, (QP %6)  and 2nd one is a shift down for the reduction of inverse 2nd transform output. They are canceled each other and the shift up/down is done once according to the resulting relative numb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ditional shift d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s invoked when both horizontal and vertical inverse 2nd transform are do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6D6-9B8A-4AAC-9F35-7634A0CF7827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9B04-1F02-4969-81B1-8F8BF801D6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Introductio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KLT which is designed for intra prediction residual is an effective technology in terms of coding efficienc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ever, its complexity is higher than DCT’s in terms of number of operation and encoder/decoder software runt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ontribution presents an approach for the unification of Mode Dependent Transform and 2 step transform, which encoding / decoding runtimes are comparable with those of HMV2 softw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59D-4F42-41A6-B246-8E8CBF2346B9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7E71-A7EA-46B2-8F69-12C4D4F38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Proposed Method (1)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-step Trans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d for 8x8, 16x16 and 32x32 transform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st Transform is either of Chen-DCT or AVC transfo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transform is 4x4 KLT, and it is applied to low frequency compon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Reduction of number of oper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KLT is controlled according to the table on intra prediction m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explicit signaling to sel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KLT matri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need for additional RD loop in enco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Reduction of encoding ru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911E-F6D8-4C19-B033-DE3FB187DA3E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7660-2653-4F96-996C-2F23E3864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Proposed Method (2)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DST model base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transform matr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transform matrix is defined based on optimal D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variance matrix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KLT is deriv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the covariance matrix presented in JCTVC-B24 (I2R) and JCTVC-C108(Samsu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modified to have a gentle sloop,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matrix for all large transform bloc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matrix which is designed for transform 8x8 block are used for other larger transform blocks, 16x16 and 32x3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Utilization of the study of optimal transform for intra resid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aptive DST/DCT transform is used for 4x4 transform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-step transform is not used, since DST 4x4 is low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umber of operation / block i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(N^3). 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a width of transform bl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its for 4x4 block is smallest in all transform block siz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2B2B-C350-43D2-B2FA-1320CFE5FDA3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7FBC-16FF-4761-964E-D0D014458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Experimental Results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144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ble below shows results of proposed method with reference to HM version 2 (negative BD-rate value indicates gai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A080-CABE-4F25-9678-8C7DC7F7CFD1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1752480"/>
          <a:ext cx="7162560" cy="4467240"/>
        </p:xfrm>
        <a:graphic>
          <a:graphicData uri="http://schemas.openxmlformats.org/drawingml/2006/table">
            <a:tbl>
              <a:tblPr/>
              <a:tblGrid>
                <a:gridCol w="1249200"/>
                <a:gridCol w="986040"/>
                <a:gridCol w="985680"/>
                <a:gridCol w="985680"/>
                <a:gridCol w="984240"/>
                <a:gridCol w="986040"/>
                <a:gridCol w="98568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4E14-9EB3-474C-A19C-D14A2AA03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omparison with DST8x8 (1)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eduction of total operation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572000"/>
            <a:ext cx="6019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98440" indent="-284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d to 13 % multiply operatio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84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Calibri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d to 52 % total operatio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080" y="2438280"/>
            <a:ext cx="685800" cy="685800"/>
          </a:xfrm>
          <a:prstGeom prst="rightArrow">
            <a:avLst>
              <a:gd name="adj1" fmla="val 46296"/>
              <a:gd name="adj2" fmla="val 3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3494160" cy="2235240"/>
        </p:xfrm>
        <a:graphic>
          <a:graphicData uri="http://schemas.openxmlformats.org/drawingml/2006/table">
            <a:tbl>
              <a:tblPr/>
              <a:tblGrid>
                <a:gridCol w="2058840"/>
                <a:gridCol w="1435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ropo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D 2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d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hif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52880" y="1600200"/>
          <a:ext cx="3749760" cy="2224080"/>
        </p:xfrm>
        <a:graphic>
          <a:graphicData uri="http://schemas.openxmlformats.org/drawingml/2006/table">
            <a:tbl>
              <a:tblPr/>
              <a:tblGrid>
                <a:gridCol w="2059200"/>
                <a:gridCol w="844560"/>
                <a:gridCol w="8460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daptive 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d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hif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75720" y="4092480"/>
            <a:ext cx="67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 complexity reduction to 1step adaptive DST/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D213-976B-4BEB-9B44-9E620362DE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omparison with DST8x8 (2)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able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0" y="1752480"/>
          <a:ext cx="3749760" cy="2895840"/>
        </p:xfrm>
        <a:graphic>
          <a:graphicData uri="http://schemas.openxmlformats.org/drawingml/2006/table">
            <a:tbl>
              <a:tblPr/>
              <a:tblGrid>
                <a:gridCol w="2058840"/>
                <a:gridCol w="844560"/>
                <a:gridCol w="84636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daptive 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Gain @ Intra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Gain @ Intra 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09480" y="1752480"/>
          <a:ext cx="3494160" cy="2895840"/>
        </p:xfrm>
        <a:graphic>
          <a:graphicData uri="http://schemas.openxmlformats.org/drawingml/2006/table">
            <a:tbl>
              <a:tblPr/>
              <a:tblGrid>
                <a:gridCol w="2059200"/>
                <a:gridCol w="143496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ropo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D 2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E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D 2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D 2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D 2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Gain @ Intra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Gain @ Intra 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980280" y="5334120"/>
            <a:ext cx="65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arable performance to 1step adaptive DST/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477F-EBC9-4A2C-9D4F-788350185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Conclusions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contribution proposes a low complexity unification of Mode Dependent Transform and 2-step transform for large transform bloc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crease of encoding runtime can be small by mode depend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crease of number of operation can be small by 2-step trans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5960"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provides 1.1% and 1.7% gain for Intra HE and Intra 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recommend JCT-VC to adopt the mode dependent 2-step transform for large transform blocks (8x8-32x32) into 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DA9-C21B-41C6-83F0-B57288991A93}" type="slidenum">
              <a:rPr b="0" lang="ja-JP" sz="14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3504-7805-4728-9E35-67589502F9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63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  <a:ea typeface="ＭＳ Ｐゴシック"/>
              </a:rPr>
              <a:t>Thank you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84A9-19F9-4E2E-A67E-03027AF88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6:35:21Z</dcterms:created>
  <dc:creator>Viktor Wahadaniah</dc:creator>
  <dc:description/>
  <dc:language>en-US</dc:language>
  <cp:lastModifiedBy>Shibahara Youji</cp:lastModifiedBy>
  <dcterms:modified xsi:type="dcterms:W3CDTF">2011-03-16T04:25:43Z</dcterms:modified>
  <cp:revision>14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