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9" descr="p3_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7e2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12480" y="1267920"/>
            <a:ext cx="85071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87e2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87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45"/>
          <p:cNvGrpSpPr/>
          <p:nvPr/>
        </p:nvGrpSpPr>
        <p:grpSpPr>
          <a:xfrm>
            <a:off x="9325080" y="5229360"/>
            <a:ext cx="1764360" cy="1455120"/>
            <a:chOff x="9325080" y="5229360"/>
            <a:chExt cx="1764360" cy="1455120"/>
          </a:xfrm>
        </p:grpSpPr>
        <p:grpSp>
          <p:nvGrpSpPr>
            <p:cNvPr id="4" name="Group 46"/>
            <p:cNvGrpSpPr/>
            <p:nvPr/>
          </p:nvGrpSpPr>
          <p:grpSpPr>
            <a:xfrm>
              <a:off x="9910800" y="5229360"/>
              <a:ext cx="1178640" cy="1455120"/>
              <a:chOff x="9910800" y="5229360"/>
              <a:chExt cx="1178640" cy="1455120"/>
            </a:xfrm>
          </p:grpSpPr>
          <p:grpSp>
            <p:nvGrpSpPr>
              <p:cNvPr id="5" name="Group 47"/>
              <p:cNvGrpSpPr/>
              <p:nvPr/>
            </p:nvGrpSpPr>
            <p:grpSpPr>
              <a:xfrm>
                <a:off x="9910800" y="5229360"/>
                <a:ext cx="207720" cy="1455120"/>
                <a:chOff x="9910800" y="5229360"/>
                <a:chExt cx="207720" cy="1455120"/>
              </a:xfrm>
            </p:grpSpPr>
            <p:sp>
              <p:nvSpPr>
                <p:cNvPr id="6" name="Rectangle 52"/>
                <p:cNvSpPr/>
                <p:nvPr/>
              </p:nvSpPr>
              <p:spPr>
                <a:xfrm>
                  <a:off x="9910800" y="5229360"/>
                  <a:ext cx="207720" cy="207720"/>
                </a:xfrm>
                <a:prstGeom prst="rect">
                  <a:avLst/>
                </a:prstGeom>
                <a:solidFill>
                  <a:srgbClr val="f08c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56"/>
                <p:cNvSpPr/>
                <p:nvPr/>
              </p:nvSpPr>
              <p:spPr>
                <a:xfrm>
                  <a:off x="9910800" y="5645160"/>
                  <a:ext cx="207720" cy="207720"/>
                </a:xfrm>
                <a:prstGeom prst="rect">
                  <a:avLst/>
                </a:prstGeom>
                <a:solidFill>
                  <a:srgbClr val="e4007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60"/>
                <p:cNvSpPr/>
                <p:nvPr/>
              </p:nvSpPr>
              <p:spPr>
                <a:xfrm>
                  <a:off x="9910800" y="6060960"/>
                  <a:ext cx="207720" cy="207720"/>
                </a:xfrm>
                <a:prstGeom prst="rect">
                  <a:avLst/>
                </a:prstGeom>
                <a:solidFill>
                  <a:srgbClr val="696969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64"/>
                <p:cNvSpPr/>
                <p:nvPr/>
              </p:nvSpPr>
              <p:spPr>
                <a:xfrm>
                  <a:off x="9910800" y="6476760"/>
                  <a:ext cx="207720" cy="207720"/>
                </a:xfrm>
                <a:prstGeom prst="rect">
                  <a:avLst/>
                </a:prstGeom>
                <a:solidFill>
                  <a:srgbClr val="fff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" name="Rectangle 53"/>
              <p:cNvSpPr/>
              <p:nvPr/>
            </p:nvSpPr>
            <p:spPr>
              <a:xfrm>
                <a:off x="10235160" y="5229360"/>
                <a:ext cx="207720" cy="207720"/>
              </a:xfrm>
              <a:prstGeom prst="rect">
                <a:avLst/>
              </a:prstGeom>
              <a:solidFill>
                <a:srgbClr val="0087e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57"/>
              <p:cNvSpPr/>
              <p:nvPr/>
            </p:nvSpPr>
            <p:spPr>
              <a:xfrm>
                <a:off x="10235160" y="5645160"/>
                <a:ext cx="207720" cy="207720"/>
              </a:xfrm>
              <a:prstGeom prst="rect">
                <a:avLst/>
              </a:prstGeom>
              <a:solidFill>
                <a:srgbClr val="fff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61"/>
              <p:cNvSpPr/>
              <p:nvPr/>
            </p:nvSpPr>
            <p:spPr>
              <a:xfrm>
                <a:off x="10235160" y="6060960"/>
                <a:ext cx="207720" cy="207720"/>
              </a:xfrm>
              <a:prstGeom prst="rect">
                <a:avLst/>
              </a:prstGeom>
              <a:solidFill>
                <a:srgbClr val="cad1a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65"/>
              <p:cNvSpPr/>
              <p:nvPr/>
            </p:nvSpPr>
            <p:spPr>
              <a:xfrm>
                <a:off x="10235160" y="6476760"/>
                <a:ext cx="207720" cy="207720"/>
              </a:xfrm>
              <a:prstGeom prst="rect">
                <a:avLst/>
              </a:prstGeom>
              <a:solidFill>
                <a:srgbClr val="f08c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54"/>
              <p:cNvSpPr/>
              <p:nvPr/>
            </p:nvSpPr>
            <p:spPr>
              <a:xfrm>
                <a:off x="10554120" y="5229360"/>
                <a:ext cx="207720" cy="207720"/>
              </a:xfrm>
              <a:prstGeom prst="rect">
                <a:avLst/>
              </a:prstGeom>
              <a:solidFill>
                <a:srgbClr val="fff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58"/>
              <p:cNvSpPr/>
              <p:nvPr/>
            </p:nvSpPr>
            <p:spPr>
              <a:xfrm>
                <a:off x="10554120" y="5645160"/>
                <a:ext cx="207720" cy="20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62"/>
              <p:cNvSpPr/>
              <p:nvPr/>
            </p:nvSpPr>
            <p:spPr>
              <a:xfrm>
                <a:off x="10554120" y="6060960"/>
                <a:ext cx="207720" cy="207720"/>
              </a:xfrm>
              <a:prstGeom prst="rect">
                <a:avLst/>
              </a:prstGeom>
              <a:solidFill>
                <a:srgbClr val="005c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66"/>
              <p:cNvSpPr/>
              <p:nvPr/>
            </p:nvSpPr>
            <p:spPr>
              <a:xfrm>
                <a:off x="10554120" y="6476760"/>
                <a:ext cx="207720" cy="207720"/>
              </a:xfrm>
              <a:prstGeom prst="rect">
                <a:avLst/>
              </a:prstGeom>
              <a:solidFill>
                <a:srgbClr val="dd0955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55"/>
              <p:cNvSpPr/>
              <p:nvPr/>
            </p:nvSpPr>
            <p:spPr>
              <a:xfrm>
                <a:off x="10881720" y="5229360"/>
                <a:ext cx="207720" cy="207720"/>
              </a:xfrm>
              <a:prstGeom prst="rect">
                <a:avLst/>
              </a:prstGeom>
              <a:solidFill>
                <a:srgbClr val="5f1987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59"/>
              <p:cNvSpPr/>
              <p:nvPr/>
            </p:nvSpPr>
            <p:spPr>
              <a:xfrm>
                <a:off x="10881720" y="5645160"/>
                <a:ext cx="207720" cy="207720"/>
              </a:xfrm>
              <a:prstGeom prst="rect">
                <a:avLst/>
              </a:prstGeom>
              <a:solidFill>
                <a:srgbClr val="0087e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63"/>
              <p:cNvSpPr/>
              <p:nvPr/>
            </p:nvSpPr>
            <p:spPr>
              <a:xfrm>
                <a:off x="10881720" y="6060960"/>
                <a:ext cx="207720" cy="207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67"/>
              <p:cNvSpPr/>
              <p:nvPr/>
            </p:nvSpPr>
            <p:spPr>
              <a:xfrm>
                <a:off x="10881720" y="6476760"/>
                <a:ext cx="207720" cy="207720"/>
              </a:xfrm>
              <a:prstGeom prst="rect">
                <a:avLst/>
              </a:prstGeom>
              <a:solidFill>
                <a:srgbClr val="00afc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" name="Text Box 64"/>
            <p:cNvSpPr/>
            <p:nvPr/>
          </p:nvSpPr>
          <p:spPr>
            <a:xfrm>
              <a:off x="9325080" y="522936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b2b2b2"/>
                  </a:solidFill>
                  <a:latin typeface="Arial"/>
                </a:rPr>
                <a:t>Theme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Text Box 65"/>
            <p:cNvSpPr/>
            <p:nvPr/>
          </p:nvSpPr>
          <p:spPr>
            <a:xfrm>
              <a:off x="9325080" y="566064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b2b2b2"/>
                  </a:solidFill>
                  <a:latin typeface="Arial"/>
                </a:rPr>
                <a:t>Theme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Text Box 66"/>
            <p:cNvSpPr/>
            <p:nvPr/>
          </p:nvSpPr>
          <p:spPr>
            <a:xfrm>
              <a:off x="9325080" y="602100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b2b2b2"/>
                  </a:solidFill>
                  <a:latin typeface="Arial"/>
                </a:rPr>
                <a:t>Theme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Text Box 67"/>
            <p:cNvSpPr/>
            <p:nvPr/>
          </p:nvSpPr>
          <p:spPr>
            <a:xfrm>
              <a:off x="9325080" y="6453000"/>
              <a:ext cx="57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b2b2b2"/>
                  </a:solidFill>
                  <a:latin typeface="Arial"/>
                </a:rPr>
                <a:t>Theme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" name="Rectangle 8"/>
          <p:cNvSpPr/>
          <p:nvPr/>
        </p:nvSpPr>
        <p:spPr>
          <a:xfrm>
            <a:off x="-2260440" y="5157720"/>
            <a:ext cx="2152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中文标题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体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: 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黑体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号：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30-32p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色彩：蓝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中文副标题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体：华文细黑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号：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20-22p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色彩：黑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子目录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(2-5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级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体：华文细黑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号：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18p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色彩：黑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1" descr="p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7e2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312480" y="1339920"/>
            <a:ext cx="8507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87e2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87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-1368360" y="5661000"/>
            <a:ext cx="1260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中文标题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体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: 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黑体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号：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30-32p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色彩：蓝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中文副标题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体：华文细黑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号：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20-22p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色彩：白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p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7e2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7e2"/>
              </a:buClr>
              <a:buSzPct val="4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87e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87e2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2" descr="p1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>
            <a:off x="-2405160" y="5673600"/>
            <a:ext cx="229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中文标题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体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: 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黑体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号：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35-47p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色彩：主题蓝色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中文副标题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体：华文细黑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字号：</a:t>
            </a: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24-28p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900" spc="-1" strike="noStrike">
                <a:solidFill>
                  <a:srgbClr val="b2b2b2"/>
                </a:solidFill>
                <a:latin typeface="宋体"/>
              </a:rPr>
              <a:t>色彩：反白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7e2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12480" y="1267920"/>
            <a:ext cx="85071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87e2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87e2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87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87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7e2"/>
                </a:solidFill>
                <a:latin typeface="Arial"/>
              </a:rPr>
              <a:t>CE5: Adaptive Coding of InterPredMode Syntax Element (JCTVC-E072)</a:t>
            </a:r>
            <a:endParaRPr b="0" lang="en-US" sz="32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6836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n Zhang, Ming LI, Ping W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7e2"/>
                </a:solidFill>
                <a:latin typeface="Arial"/>
              </a:rPr>
              <a:t>Previous work</a:t>
            </a: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12480" y="1213920"/>
            <a:ext cx="8507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JCTVC-D275, an adaptive coding method is proposed for inter prediction modes related syntax element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ntax element name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_mode_coding_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introduced to P/B-slice header to indicate different coding types used in current slice to code the syntax elements of InterPredMod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ing type is defined as type of coding order of the InterPredMode related el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ncoder determin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_mode_coding_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the current slice according to the statistical results of the occurrence of the inter-frame prediction modes obtained from the previous coded slice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7e2"/>
                </a:solidFill>
                <a:latin typeface="Arial"/>
              </a:rPr>
              <a:t>Improvement</a:t>
            </a: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12480" y="1267920"/>
            <a:ext cx="8507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HM2.0, CU split flag is involved in this adaptive coding method wit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_mode_coding_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fined 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28760" y="2214720"/>
          <a:ext cx="8429400" cy="4000320"/>
        </p:xfrm>
        <a:graphic>
          <a:graphicData uri="http://schemas.openxmlformats.org/drawingml/2006/table">
            <a:tbl>
              <a:tblPr/>
              <a:tblGrid>
                <a:gridCol w="2668320"/>
                <a:gridCol w="5761080"/>
              </a:tblGrid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P_MRG_TER_T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SkipFlag first, then MergeFlag, InterFl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P_TER_MRG_T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Skipflag first, then InterFlag, MergeFl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P_TRA_MRG_T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Skipflag first, then IntraFlag, MergeFl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RG_SKP_TER_T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MergeFlag first, then SkipFlag, InterFl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RG_TER_SKP_T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MergeFlag first, then InterFlag, SkipFl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RG_TRA_SKP_T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MergeFlag first, then IntraFlag, SkipFl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_SKP_MRG_T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InterFlag first, then SkipFlag, MergeFl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_MRG_SKP_T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InterFlag first, then MergeFlag, SkipFl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_TRA_SKP_M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InterFlag first, then IntraFlag, SkipFl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_SKP_MRG_T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IntraFlag first, then SkipFlag, MergeFl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_MRG_SKP_T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IntraFlag first, then MergeFlag, SkipFl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_TER_SKP_MR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ing IntraFlag first, then InterFlag, SkipFl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12480" y="714240"/>
            <a:ext cx="8507160" cy="573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over, CU split flag is jointly coded with the InterPredMode flags, which employs the coding types indicated b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_flag_coding_ty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s belo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ding order of the split flag is signaled based on the already determined coding order of InterPredMode flags among different quad-tree layers of CU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28760" y="2000160"/>
          <a:ext cx="8501040" cy="2643120"/>
        </p:xfrm>
        <a:graphic>
          <a:graphicData uri="http://schemas.openxmlformats.org/drawingml/2006/table">
            <a:tbl>
              <a:tblPr/>
              <a:tblGrid>
                <a:gridCol w="2692440"/>
                <a:gridCol w="5808600"/>
              </a:tblGrid>
              <a:tr h="66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T_FLAG_1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itFlag in 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oding order of inter prediction m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T_FLAG_2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itFlag in 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oding order of inter prediction m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T_FLAG_3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itFlag in 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coding order of inter prediction m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T_FLAG_E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itFlag in last coding order of inter prediction mo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7e2"/>
                </a:solidFill>
                <a:latin typeface="Arial"/>
              </a:rPr>
              <a:t>Slice header syntax</a:t>
            </a: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85840" y="1357200"/>
          <a:ext cx="8501040" cy="4643640"/>
        </p:xfrm>
        <a:graphic>
          <a:graphicData uri="http://schemas.openxmlformats.org/drawingml/2006/table">
            <a:tbl>
              <a:tblPr/>
              <a:tblGrid>
                <a:gridCol w="6642000"/>
                <a:gridCol w="568440"/>
                <a:gridCol w="1290600"/>
              </a:tblGrid>
              <a:tr h="331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lice_header( ) {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escrip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first_lctb_in_sl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lice_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ic_parameter_set_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frame_n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(v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if( IdrPicFlag 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idr_pic_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	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ic_order_cnt_ls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(v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	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if( slice_type  = =  P  | |  slice_type  = =  B ) {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red_mode_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ding_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1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lit_flag_coding_type_depth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lit_flag_coding_type_depth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1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lit_flag_coding_type_depth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(v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1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136440"/>
                          <a:tab algn="l" pos="272880"/>
                          <a:tab algn="l" pos="411120"/>
                          <a:tab algn="l" pos="547560"/>
                          <a:tab algn="l" pos="685800"/>
                          <a:tab algn="l" pos="822240"/>
                          <a:tab algn="l" pos="958680"/>
                          <a:tab algn="l" pos="1096920"/>
                          <a:tab algn="l" pos="12333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num_ref_idx_active_override_fla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(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7e2"/>
                </a:solidFill>
                <a:latin typeface="Arial"/>
              </a:rPr>
              <a:t>Experimental Results</a:t>
            </a: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71760" y="1143000"/>
          <a:ext cx="6215040" cy="5143680"/>
        </p:xfrm>
        <a:graphic>
          <a:graphicData uri="http://schemas.openxmlformats.org/drawingml/2006/table">
            <a:tbl>
              <a:tblPr/>
              <a:tblGrid>
                <a:gridCol w="1157040"/>
                <a:gridCol w="858960"/>
                <a:gridCol w="858960"/>
                <a:gridCol w="860400"/>
                <a:gridCol w="825480"/>
                <a:gridCol w="826920"/>
                <a:gridCol w="827280"/>
              </a:tblGrid>
              <a:tr h="595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oC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LoC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　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7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VALUE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NUM!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2480" y="352080"/>
            <a:ext cx="849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7e2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87e2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12480" y="1267920"/>
            <a:ext cx="8507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document, an alternative adaptive coding method for InterPredMode information is proposed, which works at slice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demonstrated by the experimental results, the proposed method achieves an average efficiency improvement of 0.2% with none computational complexity increment/decre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recommended to further study this syntax elements adaptive coding at slice or frame level in a CE or AH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87e2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would like to thank Qualcomm for their cross-check work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1:25:14Z</dcterms:created>
  <dc:creator>liming</dc:creator>
  <dc:description/>
  <cp:keywords>培训教材</cp:keywords>
  <dc:language>en-US</dc:language>
  <cp:lastModifiedBy>liming</cp:lastModifiedBy>
  <dcterms:modified xsi:type="dcterms:W3CDTF">2011-03-17T17:41:55Z</dcterms:modified>
  <cp:revision>9</cp:revision>
  <dc:subject/>
  <dc:title>CE5: Adaptive Coding of InterPredMode Syntax Element (JCTVC-E072)</dc:title>
</cp:coreProperties>
</file>