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C5E-A72A-41B4-870E-35915E49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C29-946E-4374-8F26-731376B0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8D8-5F77-4799-9EA4-4412080B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731-6B86-4262-BB5B-665D1B8F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4E9-EA54-4413-AB75-E494D956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EFB-E979-4E40-BDC1-C5E8A9D8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263-3B55-4166-95A2-353A0720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4BC-6D22-496F-9087-3DE38C96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456-3CA9-47B8-A144-8BB48520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D2D-1388-4339-9AD9-71204A34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A41-75AE-4385-B817-C6844F75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452-4D5F-4F60-8BDB-E1C74A5D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659D2-6F5E-4672-B19F-CB4B3A6659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G Re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kaj Topiw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Co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hukar Budag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jan Jo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676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s of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Operations (mults, adds, shif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and Memory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Rang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itwidth of data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itwidth of accumulators/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30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10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300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98503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Plan for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4800" indent="-334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roposals and cross-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radeoffs in performance vs complexity (in several dimensions) of proposed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consensus on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76360" indent="-561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7 Alt Tr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6360" indent="-561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10 Core Transform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meeting in next 24hrs, t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Transforms Ah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084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Guangzhou, Continued in Dae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: Pankaj Topiwala, FastV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ce-Chai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Cohen, Mitsub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hukar Budagavi,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jan Joshi, Qualco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8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0840" indent="-42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udy the transforms in the HM design, including compression performance, computational complexity, dynamic range, clipping, storage requirement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erform analysis of block transform design and architecture, including software and hardware consider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cuss transform-related Core Experiments, and identify potential synergies or incompatibilities related to the tools being tested in the 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port the results and conclusions of these discussions and experiments to the JCT-V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ce Dae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084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ref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number of reflector em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n advancing designs, complexity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 trans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trans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rang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084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Transforms, CE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4-pt to 32-pt transforms, approx. D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 complexity reduction without perf.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Transforms, CE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s specific to intra-coding (ROT, MDDT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 performance gain without high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10 Core Transform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14480" y="2655720"/>
          <a:ext cx="6332760" cy="1802160"/>
        </p:xfrm>
        <a:graphic>
          <a:graphicData uri="http://schemas.openxmlformats.org/drawingml/2006/table">
            <a:tbl>
              <a:tblPr/>
              <a:tblGrid>
                <a:gridCol w="1765440"/>
                <a:gridCol w="1622160"/>
                <a:gridCol w="1579680"/>
                <a:gridCol w="1365480"/>
              </a:tblGrid>
              <a:tr h="1506600">
                <a:tc>
                  <a:txBody>
                    <a:bodyPr lIns="90000" rIns="90000" tIns="187200" bIns="46800" anchor="t">
                      <a:noAutofit/>
                    </a:bodyPr>
                    <a:p>
                      <a:pPr algn="just">
                        <a:lnSpc>
                          <a:spcPct val="70000"/>
                        </a:lnSpc>
                        <a:tabLst>
                          <a:tab algn="l" pos="0"/>
                          <a:tab algn="ctr" pos="1550880"/>
                          <a:tab algn="r" pos="3365640"/>
                          <a:tab algn="l" pos="3616200"/>
                          <a:tab algn="l" pos="4343400"/>
                          <a:tab algn="l" pos="5064120"/>
                          <a:tab algn="l" pos="578808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ge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Saved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ctr" pos="1550880"/>
                          <a:tab algn="r" pos="3365640"/>
                          <a:tab algn="l" pos="3616200"/>
                          <a:tab algn="l" pos="4343400"/>
                          <a:tab algn="l" pos="5064120"/>
                          <a:tab algn="l" pos="578808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Proposals and Cross-Check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ctr" pos="1550880"/>
                          <a:tab algn="r" pos="3365640"/>
                          <a:tab algn="l" pos="3616200"/>
                          <a:tab algn="l" pos="4343400"/>
                          <a:tab algn="l" pos="5064120"/>
                          <a:tab algn="l" pos="578808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s-Check Normal Q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-Check Low/High Q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Su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38988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sco/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24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36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ung/FastV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27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| 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41436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VDO/Samsung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35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o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35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nverge | Sha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4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|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8988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VDO/Samsung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27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sco/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23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36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| 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389880"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37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ung/FastV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27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sco/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23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64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|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28600" y="1600200"/>
          <a:ext cx="9600840" cy="5187600"/>
        </p:xfrm>
        <a:graphic>
          <a:graphicData uri="http://schemas.openxmlformats.org/drawingml/2006/table">
            <a:tbl>
              <a:tblPr/>
              <a:tblGrid>
                <a:gridCol w="2675880"/>
                <a:gridCol w="2458440"/>
                <a:gridCol w="2393640"/>
                <a:gridCol w="2072880"/>
              </a:tblGrid>
              <a:tr h="966960"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n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-Check Normal Q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-Check Low/High Q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Su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030320"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sco/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24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36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ung/FastV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27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| 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126080"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VDO/Samsun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3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35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nverge | Sha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41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| ~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030680"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VDO/Samsung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27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sco/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23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36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| 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033560"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37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ung/FastV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27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sco/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23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08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| 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30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7 Alternative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300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7280" y="1600200"/>
            <a:ext cx="90439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10 Topic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084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, integer transforms, perf. matches 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arithmetic complexity (mults, adds, shif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nvenience/speed of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storage and bandwidth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range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16-pt and 32-pt arithmetic not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7 Topic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s for Intra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DT simplification: DCT/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rotational trans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mode-dependent trans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-D adaptive selection of DCT or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s for Inter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-D adaptive selection of DCT or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9:48:21Z</dcterms:created>
  <dc:creator>pankaj topiwala</dc:creator>
  <dc:description/>
  <dc:language>en-US</dc:language>
  <cp:lastModifiedBy/>
  <cp:revision>1</cp:revision>
  <dc:subject/>
  <dc:title/>
</cp:coreProperties>
</file>