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4A9F7-3B70-4353-8029-201EC0512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2"/>
          <p:cNvSpPr>
            <a:spLocks noGrp="1"/>
          </p:cNvSpPr>
          <p:nvPr>
            <p:ph/>
          </p:nvPr>
        </p:nvSpPr>
        <p:spPr>
          <a:xfrm>
            <a:off x="457200" y="620280"/>
            <a:ext cx="82296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57200" y="3495960"/>
            <a:ext cx="82296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9AC6F-BA36-460F-95BC-10D1F03C6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457200" y="620280"/>
            <a:ext cx="40158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4240" y="620280"/>
            <a:ext cx="40158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457200" y="3495960"/>
            <a:ext cx="40158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4240" y="3495960"/>
            <a:ext cx="40158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779CF-458E-4B8D-AC52-D08A866B1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457200" y="620280"/>
            <a:ext cx="26496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39640" y="620280"/>
            <a:ext cx="26496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22080" y="620280"/>
            <a:ext cx="26496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57200" y="3495960"/>
            <a:ext cx="26496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39640" y="3495960"/>
            <a:ext cx="26496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22080" y="3495960"/>
            <a:ext cx="26496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31BEA-9CF8-4B36-9667-C36B876CC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2"/>
          <p:cNvSpPr>
            <a:spLocks noGrp="1"/>
          </p:cNvSpPr>
          <p:nvPr>
            <p:ph type="subTitle"/>
          </p:nvPr>
        </p:nvSpPr>
        <p:spPr>
          <a:xfrm>
            <a:off x="457200" y="620280"/>
            <a:ext cx="8229600" cy="5505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22911-518F-4D72-ADE9-64D1246D6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7BBDF-934E-400B-9913-28AEBA529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457200" y="620280"/>
            <a:ext cx="4015800" cy="5505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4240" y="620280"/>
            <a:ext cx="4015800" cy="5505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BD7CE-DA0B-48F1-9C65-ED66FF381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CB6F6-8E77-46C2-9215-583056144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0"/>
            <a:ext cx="8229600" cy="28782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20024-6ABF-4B7C-AAE3-06226002C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457200" y="620280"/>
            <a:ext cx="40158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4240" y="620280"/>
            <a:ext cx="4015800" cy="5505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457200" y="3495960"/>
            <a:ext cx="40158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38763-303A-4AFE-9ED8-389E52D43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2"/>
          <p:cNvSpPr>
            <a:spLocks noGrp="1"/>
          </p:cNvSpPr>
          <p:nvPr>
            <p:ph/>
          </p:nvPr>
        </p:nvSpPr>
        <p:spPr>
          <a:xfrm>
            <a:off x="457200" y="620280"/>
            <a:ext cx="4015800" cy="55054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4240" y="620280"/>
            <a:ext cx="40158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4240" y="3495960"/>
            <a:ext cx="40158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E2116-63D0-4C3A-8654-D1AC4229F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2"/>
          <p:cNvSpPr>
            <a:spLocks noGrp="1"/>
          </p:cNvSpPr>
          <p:nvPr>
            <p:ph/>
          </p:nvPr>
        </p:nvSpPr>
        <p:spPr>
          <a:xfrm>
            <a:off x="457200" y="620280"/>
            <a:ext cx="40158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4240" y="620280"/>
            <a:ext cx="40158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457200" y="3495960"/>
            <a:ext cx="8229600" cy="2625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AEA08-0F19-46C8-B0B0-D58F5050F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8675280" y="-360"/>
            <a:ext cx="468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0F7B-AF94-4EE1-955F-AEE923956D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G on 3.1 Skip/Direct/Merge</a:t>
            </a:r>
            <a:endParaRPr b="0" lang="en-US" sz="2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J. Han &amp; TK Ta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2DFD967-345B-4504-999E-B1993C75F1CC}"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G on 3.1 Skip/Direct/Merge</a:t>
            </a:r>
            <a:endParaRPr b="0" lang="en-US" sz="2800" spc="-1" strike="noStrike">
              <a:solidFill>
                <a:srgbClr val="000000"/>
              </a:solidFill>
              <a:latin typeface="Arial"/>
            </a:endParaRPr>
          </a:p>
        </p:txBody>
      </p:sp>
      <p:sp>
        <p:nvSpPr>
          <p:cNvPr id="44" name="PlaceHolder 2"/>
          <p:cNvSpPr>
            <a:spLocks noGrp="1"/>
          </p:cNvSpPr>
          <p:nvPr>
            <p:ph/>
          </p:nvPr>
        </p:nvSpPr>
        <p:spPr>
          <a:xfrm>
            <a:off x="457200" y="620640"/>
            <a:ext cx="8229600" cy="62373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G report JCTVC-D441</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K. Tan, W.-J. Han, B. Bross , J. Jung, K. McCann, Y. Suzuki, G. Clare, H. Schwarz</a:t>
            </a:r>
            <a:r>
              <a:rPr b="0" lang="en-SG" sz="1600" spc="-1" strike="noStrike">
                <a:solidFill>
                  <a:srgbClr val="000000"/>
                </a:solidFill>
                <a:latin typeface="Arial"/>
              </a:rPr>
              <a:t>, J. Chen</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of things already agreed in Group A</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ble NxN PU split for CUs &gt; 8x8</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mode off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oral Center</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ic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CU partial merge (JCTVC-D233) using PU Merg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discussion on 3.1.e vs. 3.1.t </a:t>
            </a:r>
            <a:endParaRPr b="0"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959BB79-A578-4744-AADA-36F3F47DF8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000" y="0"/>
            <a:ext cx="828036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ing CU partial merge (JCTVC-D233) using PU Merging</a:t>
            </a:r>
            <a:endParaRPr b="0" lang="en-US" sz="2800" spc="-1" strike="noStrike">
              <a:solidFill>
                <a:srgbClr val="000000"/>
              </a:solidFill>
              <a:latin typeface="Arial"/>
            </a:endParaRPr>
          </a:p>
        </p:txBody>
      </p:sp>
      <p:sp>
        <p:nvSpPr>
          <p:cNvPr id="46" name="PlaceHolder 2"/>
          <p:cNvSpPr>
            <a:spLocks noGrp="1"/>
          </p:cNvSpPr>
          <p:nvPr>
            <p:ph/>
          </p:nvPr>
        </p:nvSpPr>
        <p:spPr>
          <a:xfrm>
            <a:off x="457200" y="1125000"/>
            <a:ext cx="8229600" cy="54723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simulation with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e (PU merging, Mrg Skip) &amp;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t (PU merging, AMVP Skip)</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restrictions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coder onl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coder &amp; Decoder </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variants achieve the same encoder speedup as JCTVC-D233</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coder only change has a loss up to 1.5% </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s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dopt PU partial merging (PU level merge with restric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CU is split into 2NxN or Nx2N then </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PU is inferred to be merged</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cond PU signaling follows JCTVC-D314 (allows either merge flag or MV coding)</a:t>
            </a:r>
            <a:endParaRPr b="0" lang="en-US" sz="1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FFCE0C5C-82BE-4DBA-8F7A-88141C0EC7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discussion on 3.1.e vs. 3.1.t </a:t>
            </a:r>
            <a:endParaRPr b="0" lang="en-US" sz="2800" spc="-1" strike="noStrike">
              <a:solidFill>
                <a:srgbClr val="000000"/>
              </a:solidFill>
              <a:latin typeface="Arial"/>
            </a:endParaRPr>
          </a:p>
        </p:txBody>
      </p:sp>
      <p:sp>
        <p:nvSpPr>
          <p:cNvPr id="48"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erence between 3.1.e and 3.1.t is that in 3.1.t skip is enabled with derivation of the MV from MV Coding, in 3.1.e, there is no skip mode but there is a merge with no residua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s to create a CE on MV Derivation Proces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of the CE</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ke 3.1.t  (Direct off is included)</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al Merge (encoder and decoder restrictio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ble NxN PU split </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oral Center</a:t>
            </a:r>
            <a:endParaRPr b="0" lang="en-US" sz="1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AFCE009-A47B-4CF7-9735-B667A2112C10}"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01:18:50Z</dcterms:created>
  <dc:creator>tktan</dc:creator>
  <dc:description/>
  <dc:language>en-US</dc:language>
  <cp:lastModifiedBy>tktan</cp:lastModifiedBy>
  <dcterms:modified xsi:type="dcterms:W3CDTF">2011-01-24T03:49:10Z</dcterms:modified>
  <cp:revision>8</cp:revision>
  <dc:subject/>
  <dc:title>Slide 1</dc:title>
</cp:coreProperties>
</file>