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ED9-D39B-4329-9653-DC69F4F1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4D4-8CBA-4A60-AFEA-5A1CF3A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270-3EDF-41D9-8F12-C83416F8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924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680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168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924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680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F50-5440-4EB4-91C3-8D24CD98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EFCB-8037-4AB9-8894-5EB9F1EE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DA53-B234-4919-B42F-CCB8B8A3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EB9C-87C9-4A82-8F6B-CC110712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B7A1-0D34-4C2E-9B0B-AB2CB79C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FC92-06DB-448F-A694-C265933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9F24-9334-4938-9E26-DA55ECA3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752B-30A4-4436-A718-B059935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4AB2-C7B8-4FB1-91D7-0A64F16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4CFE-875B-4294-B991-8D5E51AF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9365-3AA0-4D7B-94C4-C1C1A2FB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87CA-A907-4675-969F-6204F29C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CCD0-2045-48E0-8891-AC2D1CAB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8924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76800" y="15235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0168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8924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76800" y="387360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314E-C9EB-4516-9CBF-48D2CE6A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09B-D32C-4D55-89A0-A177007F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86E-782B-47ED-86E0-5E9C6A06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992-C4FB-4BDC-8AD3-3B4143F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F34-10BD-4C76-BB03-38DCE98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AF0-88BB-4C85-957A-C117FF3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87360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AEB-5720-4A5E-8E7C-D04252A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5235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1680" y="387360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350-1BFF-4A2D-8509-4360CB1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919fa8"/>
              </a:gs>
              <a:gs pos="100000">
                <a:srgbClr val="ddf2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95880"/>
            <a:ext cx="8305920" cy="3049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400800"/>
            <a:ext cx="8763120" cy="30492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76320"/>
            <a:ext cx="8534520" cy="3045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808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2424-0290-434C-82AE-5756601CCB69}" type="slidenum">
              <a:rPr b="0" lang="zh-CN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525780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7913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7242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1911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65760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1240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90920"/>
              <a:ext cx="9144000" cy="533160"/>
            </a:xfrm>
            <a:prstGeom prst="rect">
              <a:avLst/>
            </a:prstGeom>
            <a:gradFill rotWithShape="0">
              <a:gsLst>
                <a:gs pos="0">
                  <a:srgbClr val="a8b8c2"/>
                </a:gs>
                <a:gs pos="100000">
                  <a:srgbClr val="ddf2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0"/>
              <a:ext cx="9144000" cy="2590920"/>
              <a:chOff x="0" y="0"/>
              <a:chExt cx="9144000" cy="259092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20574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52388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990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4572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a8b8c2"/>
                  </a:gs>
                  <a:gs pos="100000">
                    <a:srgbClr val="dd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8311-3C89-4817-8558-BA3451F2B4B1}" type="slidenum">
              <a:rPr b="0" lang="zh-CN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4191120" y="0"/>
              <a:ext cx="4952880" cy="4572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90720" y="1523880"/>
              <a:ext cx="815328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3720" y="990720"/>
              <a:ext cx="7010280" cy="533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791320"/>
              <a:ext cx="7467480" cy="533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632448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457200"/>
              <a:ext cx="6019920" cy="53352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8080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 Black"/>
                <a:ea typeface="黑体"/>
              </a:rPr>
              <a:t>Directional interpolation filter: alternative directions for f, i, k, q </a:t>
            </a:r>
            <a:endParaRPr b="1" lang="en-US" sz="4400" spc="-1" strike="noStrike">
              <a:solidFill>
                <a:srgbClr val="9900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58560" y="4149720"/>
            <a:ext cx="6404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Hongbo Zhu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</a:rPr>
              <a:t>JCTVC-D438</a:t>
            </a:r>
            <a:endParaRPr b="0" lang="en-US" sz="32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4B98-7594-4789-A3C7-C597A4E59D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3280" y="368280"/>
          <a:ext cx="8064360" cy="53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368280"/>
                    <a:ext cx="8064360" cy="53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0" y="6427800"/>
                <a:ext cx="8964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L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-17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78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417680" y="5877000"/>
                <a:ext cx="61657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-17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78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3D2-4979-4BE3-A0AF-C2B0021CA33B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65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54080" y="-27000"/>
          <a:ext cx="679464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-27000"/>
                    <a:ext cx="67946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9280" y="5842080"/>
                <a:ext cx="8964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W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-17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78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4B8-AF7F-4266-A8E2-D73479F25064}" type="slidenum">
              <a:t>3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719280" y="-31680"/>
          <a:ext cx="6288120" cy="68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-31680"/>
                    <a:ext cx="6288120" cy="68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0" y="6093000"/>
                <a:ext cx="8928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-17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78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5D4-DE93-4D8A-ABD6-2B88BC1B71F0}" type="slidenum">
              <a:t>4</a:t>
            </a:fld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4920" y="-27000"/>
          <a:ext cx="8858160" cy="57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27000"/>
                    <a:ext cx="8858160" cy="57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5950080"/>
                <a:ext cx="9144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i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-17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E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78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283-E7DC-4FD7-B100-13429D8FD034}" type="slidenum">
              <a:t>5</a:t>
            </a:fld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24000" y="1413000"/>
          <a:ext cx="8820000" cy="4116240"/>
        </p:xfrm>
        <a:graphic>
          <a:graphicData uri="http://schemas.openxmlformats.org/drawingml/2006/table">
            <a:tbl>
              <a:tblPr/>
              <a:tblGrid>
                <a:gridCol w="2205000"/>
                <a:gridCol w="2206440"/>
                <a:gridCol w="2205000"/>
                <a:gridCol w="2203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ilter for f, i, k, q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Load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ddition or subtract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IF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w direction DIF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eduction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492480" y="484200"/>
            <a:ext cx="81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mputational Complexity Comparis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12B-AF21-46FE-9686-99C99F19002F}" type="slidenum">
              <a:t>6</a:t>
            </a:fld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01680" y="228600"/>
          <a:ext cx="8539920" cy="5793120"/>
        </p:xfrm>
        <a:graphic>
          <a:graphicData uri="http://schemas.openxmlformats.org/drawingml/2006/table">
            <a:tbl>
              <a:tblPr/>
              <a:tblGrid>
                <a:gridCol w="3294720"/>
                <a:gridCol w="1701360"/>
                <a:gridCol w="1499400"/>
                <a:gridCol w="2044440"/>
              </a:tblGrid>
              <a:tr h="7959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andom Access Low complexity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quence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DR-Y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DR-U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BDR-V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lass A average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4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2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lass B average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3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lass C average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lass D average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0.4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0.3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-0.1 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32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32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138-3D1E-4236-876E-D43A7B9EECA4}" type="slidenum">
              <a:t>7</a:t>
            </a:fld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More Development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More accurate computation for the most important half-pel pix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Extent to 8-tap interpolaton filte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Include the algorithm in CE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Incorporate the algorithm into the standard as the low complexity too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AFA-A92D-4587-85E4-011B006D22D5}" type="slidenum">
              <a:t>8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igw</cp:lastModifiedBy>
  <dcterms:modified xsi:type="dcterms:W3CDTF">2011-01-24T15:43:59Z</dcterms:modified>
  <cp:revision>1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6</vt:r8>
  </property>
</Properties>
</file>