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FB7-AFEF-4526-B5CF-244FE08E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D0B-BEAB-46D9-B7B3-656F0B7D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857-2368-4161-A2D8-378C8EA0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3B6-A3EF-4F82-A9F5-5E3D13F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ED4-20D5-47C3-896E-1D94E84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958-C6F1-464F-A8F6-860CB11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D92-6E04-4397-BC7E-89B3D9B5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890-229D-42C6-9320-D8B81BA7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4EF-AE90-4832-968D-772BC6A3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4B6-0871-4B05-BE3C-8BC0FB5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B06-E880-4481-BC87-00FCA23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2C4-042A-4514-AD99-9CEC6D0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-360"/>
            <a:ext cx="4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1D5-C2D7-4FB0-8B35-72E2C9132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of uni-prediction simplification in B slices</a:t>
            </a:r>
            <a:r>
              <a:rPr b="0" lang="en-S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D421 / m19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Suzuki &amp; TK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T DOCOMO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0DE-6D2A-4D11-8539-92A4A68ED2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620640"/>
            <a:ext cx="84358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600" spc="-1" strike="noStrike">
                <a:solidFill>
                  <a:srgbClr val="000000"/>
                </a:solidFill>
                <a:latin typeface="Arial"/>
              </a:rPr>
              <a:t>Uni-prediction simplification in B slices was adopted at the last meeting based of JCTVC-C278 and JCTVC-C2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_L1 is removed from inter_pred_idc when List 0 and List 1 are identi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for inter_pred_idc changes depending on contents of List 0 and Li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 Pred_L0 and Pred_L1 into a single Pred_L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_pred_idc always indicate Bi-pred or Pred_LC, on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entropy coding and encoder search on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er solution and more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redundancy in cases other than just when List 0 and List 1 are identi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0 and List 1 have same elements but in different ord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0 and List 1 have overlapping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1 is a subset of List 2, and vice-ver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3% to -1.0% BD-rate improv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 to 30% reduction in encoding time. (encoder only option is poss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oposal is a generalization of the current HM method and it is proposed that the simplification be extended with this propos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681-C9AC-4FE6-AA78-EB416106B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Combin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437440" cy="183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3919680"/>
            <a:ext cx="8569080" cy="22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EFA-F783-4773-B9FA-58CC9569F8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(C500) Comm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68360" y="620640"/>
          <a:ext cx="6407280" cy="2930760"/>
        </p:xfrm>
        <a:graphic>
          <a:graphicData uri="http://schemas.openxmlformats.org/drawingml/2006/table">
            <a:tbl>
              <a:tblPr/>
              <a:tblGrid>
                <a:gridCol w="1081440"/>
                <a:gridCol w="882360"/>
                <a:gridCol w="895320"/>
                <a:gridCol w="885960"/>
                <a:gridCol w="884160"/>
                <a:gridCol w="893880"/>
                <a:gridCol w="88416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68360" y="3789360"/>
          <a:ext cx="6418440" cy="2938320"/>
        </p:xfrm>
        <a:graphic>
          <a:graphicData uri="http://schemas.openxmlformats.org/drawingml/2006/table">
            <a:tbl>
              <a:tblPr/>
              <a:tblGrid>
                <a:gridCol w="1081440"/>
                <a:gridCol w="885600"/>
                <a:gridCol w="897120"/>
                <a:gridCol w="887400"/>
                <a:gridCol w="885600"/>
                <a:gridCol w="895320"/>
                <a:gridCol w="8859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257-2826-4721-B749-E51CED99A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ferences in L0 and L1 – Random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627280" y="981000"/>
          <a:ext cx="6048360" cy="2734920"/>
        </p:xfrm>
        <a:graphic>
          <a:graphicData uri="http://schemas.openxmlformats.org/drawingml/2006/table">
            <a:tbl>
              <a:tblPr/>
              <a:tblGrid>
                <a:gridCol w="1019880"/>
                <a:gridCol w="835200"/>
                <a:gridCol w="844200"/>
                <a:gridCol w="835560"/>
                <a:gridCol w="834120"/>
                <a:gridCol w="843840"/>
                <a:gridCol w="835560"/>
              </a:tblGrid>
              <a:tr h="249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27280" y="4076640"/>
          <a:ext cx="6044760" cy="2665080"/>
        </p:xfrm>
        <a:graphic>
          <a:graphicData uri="http://schemas.openxmlformats.org/drawingml/2006/table">
            <a:tbl>
              <a:tblPr/>
              <a:tblGrid>
                <a:gridCol w="1019520"/>
                <a:gridCol w="834840"/>
                <a:gridCol w="843120"/>
                <a:gridCol w="834840"/>
                <a:gridCol w="834480"/>
                <a:gridCol w="843480"/>
                <a:gridCol w="834480"/>
              </a:tblGrid>
              <a:tr h="252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79280" y="4772160"/>
            <a:ext cx="220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extension with 2 ref in L0 &amp;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C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3760" y="1557360"/>
            <a:ext cx="220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2 ref in L0 &amp;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C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368-9336-495C-881C-BC07914197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f in L0 and 2 ref in L1 – Random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411280" y="700200"/>
          <a:ext cx="6193080" cy="2819160"/>
        </p:xfrm>
        <a:graphic>
          <a:graphicData uri="http://schemas.openxmlformats.org/drawingml/2006/table">
            <a:tbl>
              <a:tblPr/>
              <a:tblGrid>
                <a:gridCol w="1044720"/>
                <a:gridCol w="853920"/>
                <a:gridCol w="865440"/>
                <a:gridCol w="855720"/>
                <a:gridCol w="853920"/>
                <a:gridCol w="863640"/>
                <a:gridCol w="85572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79280" y="4772160"/>
            <a:ext cx="220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extension with 4 ref in L0 &amp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f in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C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760" y="1557360"/>
            <a:ext cx="220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4 ref in L0 &amp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f in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C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401920" y="3860640"/>
          <a:ext cx="6202440" cy="2779560"/>
        </p:xfrm>
        <a:graphic>
          <a:graphicData uri="http://schemas.openxmlformats.org/drawingml/2006/table">
            <a:tbl>
              <a:tblPr/>
              <a:tblGrid>
                <a:gridCol w="1045800"/>
                <a:gridCol w="856440"/>
                <a:gridCol w="864360"/>
                <a:gridCol w="858240"/>
                <a:gridCol w="856440"/>
                <a:gridCol w="865800"/>
                <a:gridCol w="855360"/>
              </a:tblGrid>
              <a:tr h="249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617-9B40-4F76-8EB8-7ED7DB91CA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f in L0 and 2 ref in L1 – Low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56000" y="714240"/>
          <a:ext cx="6130800" cy="2930400"/>
        </p:xfrm>
        <a:graphic>
          <a:graphicData uri="http://schemas.openxmlformats.org/drawingml/2006/table">
            <a:tbl>
              <a:tblPr/>
              <a:tblGrid>
                <a:gridCol w="1033200"/>
                <a:gridCol w="846360"/>
                <a:gridCol w="855720"/>
                <a:gridCol w="847440"/>
                <a:gridCol w="846360"/>
                <a:gridCol w="855720"/>
                <a:gridCol w="846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79280" y="4772160"/>
            <a:ext cx="220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extension with 4 ref in L0 &amp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f in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C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3760" y="1557360"/>
            <a:ext cx="220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4 ref in L0 &amp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f in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C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56000" y="3860640"/>
          <a:ext cx="6130800" cy="2878200"/>
        </p:xfrm>
        <a:graphic>
          <a:graphicData uri="http://schemas.openxmlformats.org/drawingml/2006/table">
            <a:tbl>
              <a:tblPr/>
              <a:tblGrid>
                <a:gridCol w="1017360"/>
                <a:gridCol w="806400"/>
                <a:gridCol w="868680"/>
                <a:gridCol w="857160"/>
                <a:gridCol w="858600"/>
                <a:gridCol w="865440"/>
                <a:gridCol w="857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6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7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7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7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8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9F3-805E-485A-8D8D-ADBB4DF78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125360"/>
          <a:ext cx="8569080" cy="278316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224000"/>
                <a:gridCol w="1222200"/>
                <a:gridCol w="1224000"/>
                <a:gridCol w="1225800"/>
                <a:gridCol w="122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ref in L0, 2 ref in L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 ref in L0, 2 ref in L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ndom acc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ndom access Lo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ndom acc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ndom access Lo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dela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delay Lo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erage Y BD-r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3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.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4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561-CF84-41E8-AFCA-FC10F3AA2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8:41:05Z</dcterms:created>
  <dc:creator>tktan</dc:creator>
  <dc:description/>
  <dc:language>en-US</dc:language>
  <cp:lastModifiedBy>tktan</cp:lastModifiedBy>
  <dcterms:modified xsi:type="dcterms:W3CDTF">2011-01-22T01:43:22Z</dcterms:modified>
  <cp:revision>6</cp:revision>
  <dc:subject/>
  <dc:title>Extension of uni-prediction simplification in B slices </dc:title>
</cp:coreProperties>
</file>