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F6C6-59FB-4507-83DA-1E3875A07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A45E-C54B-46F0-B709-69A526550BB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AA18-2AD0-4092-8BEA-B5F80844AF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72AF-AF36-4ED5-978B-9C30EC0C15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B98B-B045-4E35-A4FD-B16268BE2C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47E6-9469-4E7C-B915-812A16202C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BD4A-1374-43EC-A546-94BA2438E9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B15C-6D0E-40FF-B685-033DCAA683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855E-A9FB-487D-8E49-DB98992C5C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606F-C8DC-46D8-9FEC-1802D07628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FF09-97CF-491E-895C-8BCE28B258C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BAF9C-FF7D-48F8-AEA5-E556538B5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50F5-AC9F-4152-B702-555804C4814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82447-380B-4F49-832F-0FF7149852F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69559-9B6C-44C4-A38D-A428056264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4DAFE-2917-4460-B370-F589E44D1C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D0C4E-843A-4CDE-A60B-4763F44A1B7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6F906-94A7-43E0-B4CF-BA26155B92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D5C40-AA98-463D-A0B1-CE2F2E76D6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2A892-4F46-4CBA-9C98-5573EB3C93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3CA44-B27A-4548-9B9B-45B7F6AB04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A31C6-E516-460C-8156-BAEF7B1FCE0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3F03A-AD1C-40B8-AE2C-3DCB63638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CCCC-2774-46CE-BE03-5596BF9DCB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DB519-FD25-40BE-95A4-9D85EC22730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F1576-1C0E-4F22-88AD-7E22B663C1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72424-F8FA-4ABD-9D67-F0D0206C79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7A723-342D-45D1-9119-C75618F3B57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B7F9C-2922-43FC-8462-4690A8FD0F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ECBE7-6A00-4799-A50F-60DF6A7716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DD450-5F9C-4862-AB82-3D60F4E4C8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19CE6-6EF7-4D68-AB6F-195CCA0E16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A00EA-24C9-4F11-B6CB-0FD319F950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F2AD3-672D-4F1B-A1B7-6005ACFCF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2722-16A7-4BB1-99B7-561817E7863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7F693-45FE-4740-BB53-5B95A153AC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A45C7-A5ED-4358-8293-B99A86F6C8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E8915-1E27-4C4F-B387-B77A377809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6E93-D30A-45A5-BA8F-3621C62056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A4D8-2814-4C7B-B3C7-6486138027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651E-738F-4D09-9C40-CA9CA81154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CBCC5-6AA8-4DD3-9B27-EC3115BDF4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3FF2-F2FD-475C-A015-87CCE6E2246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99A9-58C2-4C36-8E84-F2FABDAB89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4B96-B20F-4126-93DC-1E60D7E05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C655-6E54-4E6C-BE75-875C61E76B0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EE35-1026-4A78-8A0F-F85979820B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3DA9-BF22-4C5D-A103-9440637C22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BBE2-D9D7-462D-80FE-5528538801B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E22E-886D-42C6-B05A-0D08FEE6D4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800D-F51E-4EC8-BC50-F48A885CD9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A386-4335-47A8-BD52-AA7B5E681A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3AF0-F128-4CE1-B9F7-E42BD6F85A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4FB0-481B-46FE-99DE-65AFFF7760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2017-CD28-419C-B587-2456D95FF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6BF1-D3AE-47A8-808B-B010FFA41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096A-27FF-41BC-A827-6FEE9F3BE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5DD4-9C34-4336-A12A-EBA66BC0AE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CD7E-C3B9-456F-B9CE-565C1EFCE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6446-1025-4EF5-B715-810CAE89BC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E6B2-F6AE-4FF5-A274-1E25E8A5A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40A0-5175-46D6-85D0-E84FA9596C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291-3E42-4451-9969-C3D5B11A1D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D59-D592-4446-9607-CA14836566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B5C-4C74-4E50-A3D0-913B817713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179-1585-497C-965F-9A5A177150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40D-A373-4C32-933B-3109DE2C1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6B58-D1C1-4BF6-8E7B-DC3EE4A845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545-1257-455F-AD83-3D6C13E855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2F3-661E-474D-8A43-971A805C4C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A49-902C-4515-A5EE-B547C8A2BB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905-4BCE-4E0F-AD52-001D838A58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2A9-3DAF-4113-8B61-B501C6ADDB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AB4-07CF-4B24-9033-18857FD96A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0A7-C030-4EF8-A9DE-3B117FA660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6B79-EDE3-41AE-B159-9C90CD4B16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F5B9-697A-4D04-A49E-502A01323C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5E04-8023-418F-94FE-7F109DE6F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1D73-DE40-4010-AE3E-D19AC90B8F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64FA-BF25-487F-A40B-E46CF5AAD3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F48BE-0AC7-4D1D-BE29-41B479C8AA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16E4-959A-4FFB-ADF4-B7CB517F4D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D4157-CA89-42AB-B387-1DD9ABF826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B2204-5384-41C9-BB26-7B0BD9A883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CE6FE-6458-42AA-9DAB-8B03F9E989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2BA60-A207-4704-A12F-8D561C6A25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100C4-3224-4F9F-B109-5EAADE74CC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7E0C5-82C4-485B-860F-FC862CE030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7F68-48BB-45AA-B624-2D1A6088B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8089-6F99-4122-A81F-971DAE14C0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6B6BE-C332-4D52-B7EF-15344D02DF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8C0BE-8C5F-4FC9-B08E-90E467708D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8A8B8-3A85-4FBA-8C79-F565BBC646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B259E-CDF0-487B-B964-F699B05147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6326-11D3-4A12-AEBF-95C8F14079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A74F1-B839-4C53-A0A1-8DB0953364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C147D-D86E-4BBE-87F0-419C422CDD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80DC5-4361-4445-B5DE-BA2E93EABA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24A45-46AD-489F-96D0-6C686629EE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29D9-BB59-4039-9B8C-798B10BCD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2F29-1A9E-44FC-A5F4-8E8647F931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4967F-77CD-4A3D-96C1-47AD3B57C2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964-883E-42A0-8A30-F942881EE39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C5D6-7890-4455-935E-6AC3C3737A8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75F8-C1C0-4714-A74E-EF9C772EAB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97F9-03C2-45F5-9FD7-B47720BAE3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5A7C-3821-409C-ABC6-1010D2D764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6143-03D7-4A53-AAB1-F777633269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256-AD3B-4B01-B2A1-B907E29A28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F7AB-4B9A-45DC-B477-C2ACA1F101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C3F9-D318-4A18-8FD7-4985391FD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11AA-BD49-4DF6-9695-C23C5C87CA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6D20-5778-4C0B-8E5D-3B3EBB1D144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14DF-15FE-4C1A-AC41-8EDEB446F8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98F-B46A-4E67-869F-B66037E263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8A27F-4C09-4DEE-AF9B-1FAF9B8309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0152D-8C4F-49BA-B040-03CCA0B903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C0F21-A0E6-4DCF-AE14-689573CD6F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46FF2-ED3B-4B5C-8809-8ADF9298E8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8EAAA-D591-4643-BBC3-E407012A93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C78C7-E5A0-408B-A66C-EDD7D3D7E1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A8CCC-0303-4984-8A6C-F22705965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5852-97AC-454D-85EC-9610AF03A8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F5074-8C08-4D48-8FD8-AE9A4C8F50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A4275-FA0A-44AD-BCE5-80660DFDEB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469F7-16A4-406B-817D-604DF271C5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153BE8-81EA-4AB8-9ECF-FE7B8D3007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EA24B-944C-40E1-BC09-BF3CFFBE6B5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E8095-4D8F-48F7-BC4D-D62D9A03B8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08BD5-91F6-41BA-9CA9-C163898898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57F72-1AE7-4900-BCC4-73573A3B5F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5B6B1-04D9-4EC5-A062-506988D501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5BF09-26D0-4A0B-A673-B1ED50CB1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10D6-B789-4B2D-91C4-2D85FEE687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6047A-DCE0-4ADC-B4A7-F3E312F147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01C95-32EB-4F65-B558-1A4E6725FF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7A7DF-83C4-4949-B153-5599EFFE74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6B0E8-B218-439C-A81B-F775112662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67AD9-F54F-4D9F-B6CD-933E202738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9EF55-3D3E-4219-AD67-B6846D5CDA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07B22-86D8-456E-BBCC-702EF86E27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7D90-C4D6-4EBF-A69E-E5C9A81AA6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5AC1-DB4D-4271-9EE2-93C5DB8952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2993-77A4-49DE-A13F-D64B123D1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4931-3821-4F5D-94C1-98374E5B45F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C277-3C56-43AE-B29E-5E76AC18B69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4CA9-B276-4373-87BC-A347100A643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22A-77FF-4A96-A98C-9ADA1097FEB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C38-5CB8-46CB-A0D7-1D16343FA66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84B3-D28E-4B1B-BB63-2116AA260A7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E29-8FED-4E9A-9FF1-2CAE5843D6F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5EE-CC9A-4C78-88C0-5C0F21EB23E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55D-9F32-4F49-B24E-7EEDCABCAE4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5A8-B50F-436E-AD52-678EB35BFF8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FDAB-4847-4B3B-8F44-00783B7C4C81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F8A-7ABE-4DED-B9B1-1FE278BAB74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E209-BA18-4DE9-B7F8-5E44466C24E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304920" y="1752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D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397: A New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Interpolation Filtering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447920" y="3376440"/>
            <a:ext cx="5333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 JCT Meeting i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Daegu, 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20-28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B123-CF3C-418D-B484-9E76A6CC8FC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14400" y="1905120"/>
          <a:ext cx="7709040" cy="3047760"/>
        </p:xfrm>
        <a:graphic>
          <a:graphicData uri="http://schemas.openxmlformats.org/drawingml/2006/table">
            <a:tbl>
              <a:tblPr/>
              <a:tblGrid>
                <a:gridCol w="1200240"/>
                <a:gridCol w="963360"/>
                <a:gridCol w="973440"/>
                <a:gridCol w="1081080"/>
                <a:gridCol w="963360"/>
                <a:gridCol w="973080"/>
                <a:gridCol w="1554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 LoCo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1C61-AC0F-4F10-9BFE-8A8251BB17C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technique provides an average of 0.6%-0.9% reduction in BD-Rate for the Luminance samples when compared to the TMuC 0.9 technique (for both the Low Delay profiles and the Random Access LC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ing efficiency gains decrease for the large video sequences (Classes E, A and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expected because the new filters become more generic as the pictures become too large (not enough adaptivity to provide significant coding efficiency gai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lution is to split each picture into multiple slices and generate three adaptive filters for each sl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008B-DAE4-4085-8ECF-73AC409C881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er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that of the TMuC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-case additional complexity: Decoding of two distinct AIF filters (¼ and ¾ filters use same coefficients) for each video picture/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r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two distinct AIF filters for each video picture/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mplexity depends on the application at h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as large as 50% (MV &amp; coefficient  generation, decis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have no additional complexity: Use two special pre-determined AIF filters for sets of video sequences having similar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C1A-E5BA-4E0F-8407-B908B65AAB1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commend that the JCT-VC committ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he evaluation of this new AIF technique for possible adoption into the HM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e simulation experiments and harmonize the proposed tool with other AIF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CD0-82E5-419E-81F8-307DF663D09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echniqu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selection &amp;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-generate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fficiency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mplexity pro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&amp; 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8821800" y="613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D827-29BD-485F-B5AC-BB3A2450D91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MuC 0.9 AIF filtering does not allow for the use of content- and/or application-adaptive AIF fi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908-CC00-4FB1-A42E-4B7D067C791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 Filter Se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etween TMuC 0.9 filter or new AIF filter for each picture/slice &amp; sub-sampl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IF filter can be determined by a specific application and/or generated on-line (i.e., optimized for the picture/sl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sample position group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in TMuC 0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 TMuC 0.9 filter or new AIF filter for each one of three groups of sub-sample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information (i.e., the decision &amp; coefficient bits) is reduced without significant coding efficiency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756-2E36-41A0-86A6-7C8B8B729E5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Object 12"/>
          <p:cNvGraphicFramePr/>
          <p:nvPr/>
        </p:nvGraphicFramePr>
        <p:xfrm>
          <a:off x="1139760" y="1447920"/>
          <a:ext cx="71154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447920"/>
                    <a:ext cx="7115400" cy="2209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1" name="Object 13"/>
          <p:cNvGraphicFramePr/>
          <p:nvPr/>
        </p:nvGraphicFramePr>
        <p:xfrm>
          <a:off x="1143000" y="3809880"/>
          <a:ext cx="708660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7086600" cy="22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B79D-860D-4402-8A8D-0064C6367A8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838080" y="1523880"/>
          <a:ext cx="7239240" cy="1371600"/>
        </p:xfrm>
        <a:graphic>
          <a:graphicData uri="http://schemas.openxmlformats.org/drawingml/2006/table">
            <a:tbl>
              <a:tblPr/>
              <a:tblGrid>
                <a:gridCol w="1484280"/>
                <a:gridCol w="5754960"/>
              </a:tblGrid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-1, 5, -12, 20,-40, 229,  76, -32, 16, -8, 4,-1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-1, 8, -16, 24,-48, 161, 161, -48, 24, -16, 8,-1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-1, 4, -8, 16, -32,  76, 229, -40, 20, -12, 5,-1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Rectangle 3"/>
          <p:cNvSpPr/>
          <p:nvPr/>
        </p:nvSpPr>
        <p:spPr>
          <a:xfrm>
            <a:off x="152280" y="315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MuC 0.9 12-tap separable filters for HE profiles (scaled by 2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838080" y="4038480"/>
          <a:ext cx="7315200" cy="1371600"/>
        </p:xfrm>
        <a:graphic>
          <a:graphicData uri="http://schemas.openxmlformats.org/drawingml/2006/table">
            <a:tbl>
              <a:tblPr/>
              <a:tblGrid>
                <a:gridCol w="1447920"/>
                <a:gridCol w="586728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0, a1, a2, a3, a4, a5, a6, a7, a8, a9, a10, a11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b0, b1, b2, b3, b4, b5, b5, b4, b3, b2, b1, b0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11, a10, a9, a8, a7, a6, a5, a4, a3, a2, a1, a0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Rectangle 4"/>
          <p:cNvSpPr/>
          <p:nvPr/>
        </p:nvSpPr>
        <p:spPr>
          <a:xfrm>
            <a:off x="228600" y="55123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12-tap separable filters for HE profiles (scaled by 2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ACA3-D830-453C-B5D6-DA828531A2E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838080" y="1676520"/>
          <a:ext cx="7239240" cy="1371600"/>
        </p:xfrm>
        <a:graphic>
          <a:graphicData uri="http://schemas.openxmlformats.org/drawingml/2006/table">
            <a:tbl>
              <a:tblPr/>
              <a:tblGrid>
                <a:gridCol w="1484280"/>
                <a:gridCol w="5754960"/>
              </a:tblGrid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3,  -15,  111,   37,  -10,    2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2,  -10,    78,   78,  -10,    2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2,  -10,    37, 111,  -15,    3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Rectangle 3"/>
          <p:cNvSpPr/>
          <p:nvPr/>
        </p:nvSpPr>
        <p:spPr>
          <a:xfrm>
            <a:off x="304920" y="31993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MuC 0.9 6-tap separable filters for Low Complexity profiles (scaled by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838080" y="4038480"/>
          <a:ext cx="7315200" cy="1371600"/>
        </p:xfrm>
        <a:graphic>
          <a:graphicData uri="http://schemas.openxmlformats.org/drawingml/2006/table">
            <a:tbl>
              <a:tblPr/>
              <a:tblGrid>
                <a:gridCol w="1447920"/>
                <a:gridCol w="586728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0, a1, a2, a3, a4, a5 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b0, b1, b2, b2, b1, b0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5, a4, a3, a2, a1, a0  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4"/>
          <p:cNvSpPr/>
          <p:nvPr/>
        </p:nvSpPr>
        <p:spPr>
          <a:xfrm>
            <a:off x="304920" y="5512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6-tap separable filters for Low Complexity profiles (scaled by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168-F313-46E1-852B-00A473689D5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 Filter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Estimate MVs using TMuC 0.9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Estimate filter coefficient values by minimizing the energy of prediction errors after performing MC prediction using MVs from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 Filter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differences between filter coefficient values and corresponding TMuC 0.9 filter coeffici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rofiles use 9-bit quantization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o profiles use 8-bit quantization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F11-2C7F-4CBF-8555-850805C67D0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447920" y="2073240"/>
          <a:ext cx="5948280" cy="3048120"/>
        </p:xfrm>
        <a:graphic>
          <a:graphicData uri="http://schemas.openxmlformats.org/drawingml/2006/table">
            <a:tbl>
              <a:tblPr/>
              <a:tblGrid>
                <a:gridCol w="2082600"/>
                <a:gridCol w="963720"/>
                <a:gridCol w="973080"/>
                <a:gridCol w="19288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dministrator</cp:lastModifiedBy>
  <cp:lastPrinted>2009-04-22T19:24:48Z</cp:lastPrinted>
  <dcterms:modified xsi:type="dcterms:W3CDTF">2011-01-19T19:58:15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