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Ericsson  |  2010-10-04  |  Page </a:t>
            </a:r>
            <a:fld id="{9DBE1B08-2A10-4826-8A8B-3CD21834B51E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720" y="2097000"/>
            <a:ext cx="8352000" cy="1463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4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4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5" name="Logo_TM" descr=""/>
          <p:cNvPicPr/>
          <p:nvPr/>
        </p:nvPicPr>
        <p:blipFill>
          <a:blip r:embed="rId2"/>
          <a:stretch/>
        </p:blipFill>
        <p:spPr>
          <a:xfrm>
            <a:off x="4162320" y="-17640"/>
            <a:ext cx="803520" cy="99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Ericsson Capital TT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3480" y="2249640"/>
            <a:ext cx="8351640" cy="12193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8585a"/>
                </a:solidFill>
                <a:latin typeface="Ericsson Capital TT"/>
              </a:rPr>
              <a:t>constrained intra source code implementation</a:t>
            </a:r>
            <a:endParaRPr b="0" lang="en-US" sz="40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Ericsson Capital TT"/>
              </a:rPr>
              <a:t>JCTvc-D386</a:t>
            </a:r>
            <a:endParaRPr b="0" lang="en-US" sz="2600" spc="-1" strike="noStrike">
              <a:solidFill>
                <a:srgbClr val="58585a"/>
              </a:solidFill>
              <a:latin typeface="Ericsson Capital TT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Ericsson Capital TT"/>
              </a:rPr>
              <a:t>Rickard Sjöberg, jonatan samuelsson</a:t>
            </a:r>
            <a:endParaRPr b="0" lang="en-US" sz="2600" spc="-1" strike="noStrike">
              <a:solidFill>
                <a:srgbClr val="58585a"/>
              </a:solidFill>
              <a:latin typeface="Ericsson Capital TT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Ericsson Capital TT"/>
              </a:rPr>
              <a:t>ericsson AB</a:t>
            </a:r>
            <a:endParaRPr b="0" lang="en-US" sz="26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summary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5920" y="1449360"/>
            <a:ext cx="8315280" cy="512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9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Constrained Intra has been part of all TMuC and HM specification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It enables Intra macroblock refresh and may also be important for future scalability extension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he BD-rate penalty of Constrained Intra is in the 1.5 to 2.0 percent range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It is not yet implemented in the source code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=&gt; Ericsson decided to implement Constrained Intra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Our first target was to implement constrained intra exactly as it is done in AVC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But we found that Intra prediction in a quad-tree framework was undefined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34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Incidentally, we choose the same Intra prediction scheme as document D094 from Panasonic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Otherwise, implementation impact of Constrained Intra is very small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34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hanges to GetPUAbove(), GetPULeft() etc to add check for block types of neighboring blocks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34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hanges to </a:t>
            </a:r>
            <a:r>
              <a:rPr b="0" sz="1400" spc="-1" strike="noStrike">
                <a:solidFill>
                  <a:srgbClr val="58585a"/>
                </a:solidFill>
                <a:latin typeface="Arial"/>
              </a:rPr>
              <a:t>initAdiPattern</a:t>
            </a:r>
            <a:r>
              <a:rPr b="0" lang="sv-SE" sz="1400" spc="-1" strike="noStrike">
                <a:solidFill>
                  <a:srgbClr val="58585a"/>
                </a:solidFill>
                <a:latin typeface="Arial"/>
              </a:rPr>
              <a:t>() and </a:t>
            </a:r>
            <a:r>
              <a:rPr b="0" sz="1400" spc="-1" strike="noStrike">
                <a:solidFill>
                  <a:srgbClr val="58585a"/>
                </a:solidFill>
                <a:latin typeface="Arial"/>
              </a:rPr>
              <a:t>initAdiPatternChroma</a:t>
            </a:r>
            <a:r>
              <a:rPr b="0" lang="sv-SE" sz="1400" spc="-1" strike="noStrike">
                <a:solidFill>
                  <a:srgbClr val="58585a"/>
                </a:solidFill>
                <a:latin typeface="Arial"/>
              </a:rPr>
              <a:t>() to check all neighboring blocks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We propose: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hat Constrained Intra is implemented into HM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Either the NEC (D086) method or the Panasonic (D094) method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Ericsson volunteer to carefully cross-check the implementation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80928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Intra prediction method 1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66640" y="2484360"/>
            <a:ext cx="3691080" cy="3691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6720" y="1267920"/>
            <a:ext cx="8747280" cy="809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 fontScale="99000"/>
          </a:bodyPr>
          <a:p>
            <a:pPr marL="174240" indent="-1742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Interpolation when two neighboring prediction pixels are available (p1+p2+1)&gt;&gt;1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4240" indent="-1742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Extrapolation when only one neighboring prediction pixel is available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4240" indent="-1742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Use (128 &lt;&lt; increased_bit_depth) when no prediction pixels are available (e.g. first CU in a slice)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4240" indent="-1742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Identical to the D094 method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80928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Intra prediction method 2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6720" y="1267920"/>
            <a:ext cx="8747280" cy="809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Decisions taken on pseudo-PUs of same size as the current PU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If any Inter PU is found, all pseudo-PU pixels are marked not available for prediction 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Identical to the D086 method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57360" y="2484360"/>
            <a:ext cx="51782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summary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7000" y="1358640"/>
            <a:ext cx="8315280" cy="855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Our Proposal: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That Constrained Intra is implemented into HM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Either the D094 method or the D086 method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Ericsson volunteer to carefully cross-check the implementation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57360" y="2978280"/>
            <a:ext cx="2790720" cy="279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392720" y="2951280"/>
            <a:ext cx="4275000" cy="2862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80200" y="2631960"/>
            <a:ext cx="6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D094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5320" y="2619360"/>
            <a:ext cx="6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D08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813888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results constrained intra on/off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11280" y="1314360"/>
            <a:ext cx="558180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Logo_ChapterSlide_Normal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>EAB/TVV Rickard Sjöberg</dc:creator>
  <dc:description>Rev PA1</dc:description>
  <cp:keywords/>
  <dc:language>en-US</dc:language>
  <cp:lastModifiedBy>Rickard Sjöberg</cp:lastModifiedBy>
  <dcterms:modified xsi:type="dcterms:W3CDTF">2011-01-22T01:45:55Z</dcterms:modified>
  <cp:revision>164</cp:revision>
  <dc:subject/>
  <dc:title>Fine granularity slic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0-10-04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1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/>
  </property>
  <property fmtid="{D5CDD505-2E9C-101B-9397-08002B2CF9AE}" pid="13" name="MiddleFooterField">
    <vt:lpwstr>Ericsson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>EAB/TVV Rickard Sjöberg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0-10-04</vt:lpwstr>
  </property>
  <property fmtid="{D5CDD505-2E9C-101B-9397-08002B2CF9AE}" pid="22" name="SecurityClass">
    <vt:lpwstr>Ericsson Internal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Ericsson Capital TT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1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0</vt:bool>
  </property>
  <property fmtid="{D5CDD505-2E9C-101B-9397-08002B2CF9AE}" pid="38" name="optFooterCVLCopyright">
    <vt:bool>0</vt:bool>
  </property>
  <property fmtid="{D5CDD505-2E9C-101B-9397-08002B2CF9AE}" pid="39" name="optFooterCVLDate">
    <vt:bool>1</vt:bool>
  </property>
  <property fmtid="{D5CDD505-2E9C-101B-9397-08002B2CF9AE}" pid="40" name="optFooterCVLDocNo">
    <vt:bool>1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Ericsson Internal</vt:lpwstr>
  </property>
  <property fmtid="{D5CDD505-2E9C-101B-9397-08002B2CF9AE}" pid="46" name="x">
    <vt:lpwstr>1</vt:lpwstr>
  </property>
</Properties>
</file>