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1BFE-FF6B-44BF-8864-B6AB35CD7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EFB8-42F6-4067-8B13-E495D7C4D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46CD-B708-4A09-82F5-57AB4C3B0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2599-5688-48C2-A3B0-5A743715C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E38A-3455-4EDE-AFAD-EDB220678A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89E5-FF3D-420C-9745-E64FD2FA0F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DB9A-49FD-4B98-9EC0-057E53636C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0B74-9A68-4E99-A1F2-ECAB558525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7D1F-3966-485E-BF29-3F9ED58522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DF71-9C76-449F-93F5-293D033625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9F81-B085-473B-AAA4-0A2062E4F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459E-51CD-4297-B170-2AB9F7F20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4BC6-D9CE-49A9-B088-8B47DE0A56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4D34-1FB9-4F2A-8DCC-7763E6FD5D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E081-6C39-4577-9E85-F7F639F70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90DA-9F0C-46E5-BE3D-6582CF9480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0775-A8B0-43DF-BDFC-5AE4599316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0F7-42C1-480F-8918-F4D1F0A161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A4C-EC01-40D5-81FB-D58127A4FD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C9D-525F-4851-AD7B-EB152B5F22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12E-E75C-4B40-AEF0-2B9FEA40A0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69C-C1C0-466F-8516-5D7788BF4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7A84-97A3-4C4D-9CB0-5A857803F7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79D-7AEB-4573-B7B8-E0490F07E3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B40-B6F2-4B88-B4DA-04D34ABF18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F83-D1CB-43F9-A9D7-0ABE921E93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998-0437-4E30-955A-0DFDCEF26B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97B-3DA0-4E9F-8DB6-828E42A411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9F7-DCA7-4BEC-96EB-B58E78889F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9DA-1066-48EB-A3E6-D5F73D9EE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0AA1-7C49-48A0-9547-F2865461B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48E8-6699-4EF4-9302-519F1D6E6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886C-6AB1-4D12-9E60-F74554FB9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D87E-EDB3-4049-B00B-5AF1221E4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6BB7-8BA7-452A-B6A8-1200D710F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E4D4-0271-4ADA-ACBF-A20ADCDD9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7383-F763-4383-BDD8-A847556C26A2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5B0A-8123-44DE-A2A9-24257E1E2E7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D64A-52F1-4CE3-BB2D-1F6B87B01454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F8B-DC73-45EF-B24F-FB92BC6F3A6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EF2E-07DB-432A-8FDA-BD37571675B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4920" y="1752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D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385: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Loop Filtering Using Multiple Filter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3376440"/>
            <a:ext cx="53337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 JCT Meeting i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Daegu, 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20-28 Januar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C741-7F3F-4E62-A80F-0F70EA8668A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ains relative to TMuC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0.9% BD-Rate for Low Delay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0.4% in BD-Rate for Random Acces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ains decrease for larger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two shapes does not provide enough adaptivity for very large vide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lution is to split each picture into multiple slices and then generate diamond- and cross-shaped ALF filters for each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60A6-C45C-428C-99D9-E42D746A03E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838080" y="1447920"/>
          <a:ext cx="747900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4790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70920" y="5537160"/>
            <a:ext cx="86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uC 0.9 ALF requires a maximum of 21 multiplications and 41 ad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3E1-4D8B-4512-B7B1-5EB3B81184A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76320" y="2120760"/>
          <a:ext cx="48765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20760"/>
                    <a:ext cx="48765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5"/>
          <p:cNvSpPr/>
          <p:nvPr/>
        </p:nvSpPr>
        <p:spPr>
          <a:xfrm>
            <a:off x="0" y="176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8"/>
          <p:cNvGraphicFramePr/>
          <p:nvPr/>
        </p:nvGraphicFramePr>
        <p:xfrm>
          <a:off x="4952880" y="2324160"/>
          <a:ext cx="4038840" cy="29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324160"/>
                    <a:ext cx="403884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1"/>
          <p:cNvSpPr/>
          <p:nvPr/>
        </p:nvSpPr>
        <p:spPr>
          <a:xfrm>
            <a:off x="71280" y="5537160"/>
            <a:ext cx="85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new ALF requires a maximum of 13 multiplications and 25 ad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C3B-EAE8-4663-B6EC-FCA017622CF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494000"/>
          <a:ext cx="7620120" cy="1706400"/>
        </p:xfrm>
        <a:graphic>
          <a:graphicData uri="http://schemas.openxmlformats.org/drawingml/2006/table">
            <a:tbl>
              <a:tblPr/>
              <a:tblGrid>
                <a:gridCol w="2913120"/>
                <a:gridCol w="2297160"/>
                <a:gridCol w="240984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i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 [%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 [%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H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7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2% (</a:t>
                      </a:r>
                      <a:r>
                        <a:rPr b="0" lang="fr-FR" sz="2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9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% (</a:t>
                      </a:r>
                      <a:r>
                        <a:rPr b="0" lang="fr-FR" sz="2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25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8% (</a:t>
                      </a:r>
                      <a:r>
                        <a:rPr b="0" lang="fr-FR" sz="2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87%</a:t>
                      </a: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93"/>
          <p:cNvSpPr/>
          <p:nvPr/>
        </p:nvSpPr>
        <p:spPr>
          <a:xfrm>
            <a:off x="380880" y="3352680"/>
            <a:ext cx="7620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 decoding times for the new ALF are lower only for Intra (where mostly 9x9 diamond-shaped filters used in the TMuC 0.9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st-case decoding time of the new ALF is ~90% of that of the TMuC 0.9 (estimated by using only 9x9 diamond-shaped filter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bc2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LF does not increase encoding time substantially (except for Intra Only); Encoding time reduced using a parallel implement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9F32-4869-4BAE-A2CF-4998E71A79B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3520" y="1905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: Cross-shaped filter’s 13-tap vertical filter size too large for so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: Reduce vertical s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technique (9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technique (7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7F1A-AB4D-45D2-BDFB-565111E8993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5552-E772-4DA5-A482-F9624878B34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 (9 Li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152280" y="2286000"/>
          <a:ext cx="8839440" cy="25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83944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6DC8-40EB-4A3D-887D-CE7D176C2DA2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 (9 Li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90720" y="2000160"/>
          <a:ext cx="7010280" cy="3029040"/>
        </p:xfrm>
        <a:graphic>
          <a:graphicData uri="http://schemas.openxmlformats.org/drawingml/2006/table">
            <a:tbl>
              <a:tblPr/>
              <a:tblGrid>
                <a:gridCol w="1736640"/>
                <a:gridCol w="1736640"/>
                <a:gridCol w="1887480"/>
                <a:gridCol w="1649520"/>
              </a:tblGrid>
              <a:tr h="505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293C-D3A9-4D94-8C9D-22095FE0194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317F-9D87-42F5-8E41-845E82AA86E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 (7 Li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380880" y="2362320"/>
          <a:ext cx="8153640" cy="29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15364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8B9-5388-461B-B93B-EC163D91B7F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 (7 li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38080" y="2133720"/>
          <a:ext cx="7467840" cy="2925720"/>
        </p:xfrm>
        <a:graphic>
          <a:graphicData uri="http://schemas.openxmlformats.org/drawingml/2006/table">
            <a:tbl>
              <a:tblPr/>
              <a:tblGrid>
                <a:gridCol w="2316240"/>
                <a:gridCol w="1709640"/>
                <a:gridCol w="1729080"/>
                <a:gridCol w="1712880"/>
              </a:tblGrid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worst-case decoder complexity for non-Intra (~1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average/worst-case decoder complexity for Intra (12%/1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ghtly higher encoding times (w/o a parallel implemen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friendly encoding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d coding efficiency (13, 9 li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0.9% in BD-Rate for Low Delay HE (13 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0.4% in BD-Rate for Random Access HE (13 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0.4% in BD-Rate for Low Delay HE (9 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coding efficiency (7 li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inue evaluation of ALF using multiple shapes for possible adoption into the 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8F3F-70A1-41A6-91EB-15E35F91F7D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B40E-8D94-4D18-B405-958C0C2F8B3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echnique: ALF using two filte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821800" y="613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16BE-3235-41C2-980F-BD3552C68A6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: Low Delay 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1523880"/>
          <a:ext cx="8001000" cy="4389480"/>
        </p:xfrm>
        <a:graphic>
          <a:graphicData uri="http://schemas.openxmlformats.org/drawingml/2006/table">
            <a:tbl>
              <a:tblPr/>
              <a:tblGrid>
                <a:gridCol w="636480"/>
                <a:gridCol w="1344600"/>
                <a:gridCol w="1676520"/>
                <a:gridCol w="2209680"/>
                <a:gridCol w="2133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u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ed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ed technique (9 lin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ed technique (7 lin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 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y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2C34-39A5-475B-9748-5C01AC0C0D3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69E8-AF13-4FAA-B751-3008DA86F66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uC 0.9 ALF worst-case decoder complexity is too hi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coefficients for 9x9 diamond-shaped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multiplies &amp; 41 adds per filtered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filter shape limits coding effici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7B10-A07A-4066-9F34-FFB9F3F72B9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B1C9-F256-4A18-B770-DE1B440DF5E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ets of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#1: 7x7 diamond-shaped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#2: 13x13 cross-shaped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icture, select among follow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-based ALF using Filter Se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-based ALF using Filter Set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-based ALF using Filter Se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-based ALF using Filter Set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LF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60B8-CF7B-4D23-B4EF-1D4FAEA5A2D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DC8F-3264-4554-8747-60B02738CBE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914400" y="1689120"/>
          <a:ext cx="762012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89120"/>
                    <a:ext cx="762012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699-654A-4E57-90FE-C797DFC1253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CBC9-1171-4734-A001-8320B00AB35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533520" y="1600200"/>
          <a:ext cx="8153280" cy="42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532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169-9199-4354-A193-C7CD58090FA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7010280" cy="4038480"/>
        </p:xfrm>
        <a:graphic>
          <a:graphicData uri="http://schemas.openxmlformats.org/drawingml/2006/table">
            <a:tbl>
              <a:tblPr/>
              <a:tblGrid>
                <a:gridCol w="1736640"/>
                <a:gridCol w="1736640"/>
                <a:gridCol w="1887480"/>
                <a:gridCol w="1649520"/>
              </a:tblGrid>
              <a:tr h="5047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FC98-5DA3-4F2B-A23F-654C60EE31D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90720" y="1676520"/>
          <a:ext cx="6933960" cy="4114800"/>
        </p:xfrm>
        <a:graphic>
          <a:graphicData uri="http://schemas.openxmlformats.org/drawingml/2006/table">
            <a:tbl>
              <a:tblPr/>
              <a:tblGrid>
                <a:gridCol w="1509480"/>
                <a:gridCol w="1801800"/>
                <a:gridCol w="1820880"/>
                <a:gridCol w="1801800"/>
              </a:tblGrid>
              <a:tr h="514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60BF-D962-430A-9DDD-5FA2D7D2348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676520"/>
          <a:ext cx="6934320" cy="4114800"/>
        </p:xfrm>
        <a:graphic>
          <a:graphicData uri="http://schemas.openxmlformats.org/drawingml/2006/table">
            <a:tbl>
              <a:tblPr/>
              <a:tblGrid>
                <a:gridCol w="1509840"/>
                <a:gridCol w="1801800"/>
                <a:gridCol w="1820880"/>
                <a:gridCol w="1801800"/>
              </a:tblGrid>
              <a:tr h="514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dministrator</cp:lastModifiedBy>
  <cp:lastPrinted>2009-04-22T19:24:48Z</cp:lastPrinted>
  <dcterms:modified xsi:type="dcterms:W3CDTF">2011-01-26T09:02:5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