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5B4D5-818D-425B-AFAC-F9C1C605EC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118EE-D3EA-4F70-BE4E-E5D0E39DA7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444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784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AB043-20B7-4BD8-BD70-60EEAD166B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D34CD-859F-40D9-AE41-3DAF699278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B263F-38C9-4091-B40D-B434F21C5B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9A11D-06D1-48FF-BEC2-5B31EF097D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8B853-D0EC-4B7C-935E-B00150D0E8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F8CF3-0FB0-4B98-B4DB-0791E43E77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1CD45-C63B-4D0C-A50A-E1D41517C3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7C59B-EEA7-4C25-A3DF-9CFA538184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58720" y="259920"/>
            <a:ext cx="806472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49000" y="1484280"/>
            <a:ext cx="806436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49000" y="3605400"/>
            <a:ext cx="806436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C305C-89C1-4EE4-9720-1CB82A2EA0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58720" y="259920"/>
            <a:ext cx="806472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49000" y="1484280"/>
            <a:ext cx="393516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1440" y="1484280"/>
            <a:ext cx="393516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49000" y="3605400"/>
            <a:ext cx="393516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1440" y="3605400"/>
            <a:ext cx="393516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D2276-FE39-4F89-87C4-DAAA4759D7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58720" y="259920"/>
            <a:ext cx="806472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49000" y="1484280"/>
            <a:ext cx="259632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75640" y="1484280"/>
            <a:ext cx="259632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01920" y="1484280"/>
            <a:ext cx="259632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49000" y="3605400"/>
            <a:ext cx="259632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75640" y="3605400"/>
            <a:ext cx="259632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01920" y="3605400"/>
            <a:ext cx="259632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31538-7289-4548-962A-327645E4FD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58720" y="259920"/>
            <a:ext cx="806472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549000" y="1484280"/>
            <a:ext cx="806436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58720" y="259920"/>
            <a:ext cx="806472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49000" y="1484280"/>
            <a:ext cx="806436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58720" y="259920"/>
            <a:ext cx="806472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49000" y="1484280"/>
            <a:ext cx="393516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81440" y="1484280"/>
            <a:ext cx="393516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58720" y="259920"/>
            <a:ext cx="806472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558720" y="259920"/>
            <a:ext cx="8064720" cy="43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58720" y="259920"/>
            <a:ext cx="806472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49000" y="1484280"/>
            <a:ext cx="393516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1440" y="1484280"/>
            <a:ext cx="393516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49000" y="3605400"/>
            <a:ext cx="393516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58720" y="259920"/>
            <a:ext cx="806472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49000" y="1484280"/>
            <a:ext cx="806436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EED3A-B6D8-49EB-A6DD-9645F351D6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58720" y="259920"/>
            <a:ext cx="806472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49000" y="1484280"/>
            <a:ext cx="393516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1440" y="1484280"/>
            <a:ext cx="393516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81440" y="3605400"/>
            <a:ext cx="393516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58720" y="259920"/>
            <a:ext cx="806472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49000" y="1484280"/>
            <a:ext cx="393516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1440" y="1484280"/>
            <a:ext cx="393516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49000" y="3605400"/>
            <a:ext cx="806436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8720" y="259920"/>
            <a:ext cx="806472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49000" y="1484280"/>
            <a:ext cx="806436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49000" y="3605400"/>
            <a:ext cx="806436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58720" y="259920"/>
            <a:ext cx="806472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49000" y="1484280"/>
            <a:ext cx="393516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1440" y="1484280"/>
            <a:ext cx="393516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49000" y="3605400"/>
            <a:ext cx="393516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81440" y="3605400"/>
            <a:ext cx="393516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58720" y="259920"/>
            <a:ext cx="806472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49000" y="1484280"/>
            <a:ext cx="259632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75640" y="1484280"/>
            <a:ext cx="259632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01920" y="1484280"/>
            <a:ext cx="259632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49000" y="3605400"/>
            <a:ext cx="259632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75640" y="3605400"/>
            <a:ext cx="259632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01920" y="3605400"/>
            <a:ext cx="259632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58720" y="259920"/>
            <a:ext cx="806472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49000" y="1484280"/>
            <a:ext cx="806436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2F02C-0A17-4D4E-BCBF-C3388F7661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58720" y="259920"/>
            <a:ext cx="806472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49000" y="1484280"/>
            <a:ext cx="393516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1440" y="1484280"/>
            <a:ext cx="393516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FD678-8F7A-42DD-AEDD-AC39E1048A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58720" y="259920"/>
            <a:ext cx="806472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6D7BB-F533-4109-AB27-DA1646EB2F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58720" y="259920"/>
            <a:ext cx="8064720" cy="43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67DA9-6C2D-4E6F-8A15-26E6C4773C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58720" y="259920"/>
            <a:ext cx="806472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49000" y="1484280"/>
            <a:ext cx="393516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440" y="1484280"/>
            <a:ext cx="393516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49000" y="3605400"/>
            <a:ext cx="393516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479E0-0763-455E-8602-819DE0AC2A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58720" y="259920"/>
            <a:ext cx="806472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49000" y="1484280"/>
            <a:ext cx="393516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1440" y="1484280"/>
            <a:ext cx="393516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1440" y="3605400"/>
            <a:ext cx="393516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44F3F-7C76-47CC-965C-6C4D52AF78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58720" y="259920"/>
            <a:ext cx="806472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49000" y="1484280"/>
            <a:ext cx="393516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1440" y="1484280"/>
            <a:ext cx="393516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49000" y="3605400"/>
            <a:ext cx="806436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C5F37-E19D-4499-9BBB-AE6B739571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BlackBerry_Logo_Preferred_Black_New"/>
          <p:cNvPicPr/>
          <p:nvPr/>
        </p:nvPicPr>
        <p:blipFill>
          <a:blip r:embed="rId2"/>
          <a:stretch/>
        </p:blipFill>
        <p:spPr>
          <a:xfrm>
            <a:off x="423720" y="6343560"/>
            <a:ext cx="1633680" cy="3636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58720" y="259920"/>
            <a:ext cx="806472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49000" y="1484280"/>
            <a:ext cx="806436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2520" indent="-452520"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861840" indent="-230040">
              <a:spcBef>
                <a:spcPts val="751"/>
              </a:spcBef>
              <a:buClr>
                <a:srgbClr val="000000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255680" indent="-214200">
              <a:spcBef>
                <a:spcPts val="751"/>
              </a:spcBef>
              <a:buClr>
                <a:srgbClr val="00000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844640" indent="-228600">
              <a:spcBef>
                <a:spcPts val="75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4" marL="2252520" indent="-228600">
              <a:spcBef>
                <a:spcPts val="75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5" marL="2252520" indent="-228600">
              <a:spcBef>
                <a:spcPts val="75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6" marL="2252520" indent="-228600">
              <a:spcBef>
                <a:spcPts val="75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953120" y="6424200"/>
            <a:ext cx="87444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58FD7-1277-467F-B523-DCCAC129ACFF}" type="slidenum">
              <a:rPr b="0" lang="en-US" sz="11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8" descr="BlackBerry_Logo_Preferred_White_New [Converted].png"/>
          <p:cNvPicPr/>
          <p:nvPr/>
        </p:nvPicPr>
        <p:blipFill>
          <a:blip r:embed="rId2"/>
          <a:stretch/>
        </p:blipFill>
        <p:spPr>
          <a:xfrm>
            <a:off x="439560" y="6346800"/>
            <a:ext cx="1617840" cy="358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58720" y="259920"/>
            <a:ext cx="806472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49000" y="1484280"/>
            <a:ext cx="806436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2520" indent="-452520"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861840" indent="-230040">
              <a:spcBef>
                <a:spcPts val="751"/>
              </a:spcBef>
              <a:buClr>
                <a:srgbClr val="000000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255680" indent="-214200">
              <a:spcBef>
                <a:spcPts val="751"/>
              </a:spcBef>
              <a:buClr>
                <a:srgbClr val="00000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844640" indent="-228600">
              <a:spcBef>
                <a:spcPts val="75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4" marL="2252520" indent="-228600">
              <a:spcBef>
                <a:spcPts val="75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5" marL="2252520" indent="-228600">
              <a:spcBef>
                <a:spcPts val="75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6" marL="2252520" indent="-228600">
              <a:spcBef>
                <a:spcPts val="75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5"/>
          <p:cNvSpPr/>
          <p:nvPr/>
        </p:nvSpPr>
        <p:spPr>
          <a:xfrm>
            <a:off x="7953480" y="6424560"/>
            <a:ext cx="87444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50039-C08D-4D47-BA34-9551386AD619}" type="slidenum">
              <a:rPr b="0" lang="en-US" sz="11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4" descr="BlackBerry PPT Background_Red_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Text Box 6"/>
          <p:cNvSpPr/>
          <p:nvPr/>
        </p:nvSpPr>
        <p:spPr>
          <a:xfrm>
            <a:off x="7415640" y="6337440"/>
            <a:ext cx="13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Jan 23,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557360"/>
            <a:ext cx="7848720" cy="199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JCTVC-D384:Quantization with Hard-decision Partition and Adaptive Reconstruction Levels for the Low-delay Setting 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4000" y="3573000"/>
            <a:ext cx="557676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X. Yu, J. Wang, D.k. He, and  E.h. Yang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Research in Motion Ltd., Canada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5"/>
          <p:cNvSpPr/>
          <p:nvPr/>
        </p:nvSpPr>
        <p:spPr>
          <a:xfrm>
            <a:off x="7953480" y="6424560"/>
            <a:ext cx="87444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36B9B-FF23-47D7-9E81-1CF98D937365}" type="slidenum">
              <a:rPr b="0" lang="en-US" sz="11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58720" y="259920"/>
            <a:ext cx="806472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b8576"/>
                </a:solidFill>
                <a:latin typeface="Calibri"/>
              </a:rPr>
              <a:t>Outline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49000" y="1484280"/>
            <a:ext cx="561636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spcBef>
                <a:spcPts val="6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Background</a:t>
            </a:r>
            <a:endParaRPr b="1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861840" indent="-230040">
              <a:spcBef>
                <a:spcPts val="601"/>
              </a:spcBef>
              <a:buClr>
                <a:srgbClr val="000000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rd-decision quantiz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61840" indent="-230040">
              <a:spcBef>
                <a:spcPts val="601"/>
              </a:spcBef>
              <a:buClr>
                <a:srgbClr val="000000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aptive reconstruction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>
              <a:spcBef>
                <a:spcPts val="6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Algorithm Description</a:t>
            </a:r>
            <a:endParaRPr b="1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>
              <a:spcBef>
                <a:spcPts val="6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Results with the low-complexity low-delay setting</a:t>
            </a:r>
            <a:endParaRPr b="1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25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861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61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5"/>
          <p:cNvSpPr/>
          <p:nvPr/>
        </p:nvSpPr>
        <p:spPr>
          <a:xfrm>
            <a:off x="7953480" y="6424560"/>
            <a:ext cx="87444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839BC-1FC2-4B99-B898-029E4C2D613C}" type="slidenum">
              <a:rPr b="0" lang="en-US" sz="11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58720" y="259920"/>
            <a:ext cx="806472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d588e"/>
                </a:solidFill>
                <a:latin typeface="Calibri"/>
              </a:rPr>
              <a:t>Background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95280" y="1500120"/>
            <a:ext cx="7561440" cy="31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spcBef>
                <a:spcPts val="6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Hard decision quantization</a:t>
            </a:r>
            <a:endParaRPr b="1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25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>
              <a:spcBef>
                <a:spcPts val="6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Soft decision quantization / RDOQ</a:t>
            </a:r>
            <a:endParaRPr b="1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25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>
              <a:spcBef>
                <a:spcPts val="6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Adaptive reconstruction levels</a:t>
            </a:r>
            <a:endParaRPr b="1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5"/>
          <p:cNvSpPr/>
          <p:nvPr/>
        </p:nvSpPr>
        <p:spPr>
          <a:xfrm>
            <a:off x="7953480" y="6424560"/>
            <a:ext cx="87444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B571F-75BD-4DB8-AB74-3BAA9F153D30}" type="slidenum">
              <a:rPr b="0" lang="en-US" sz="11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58720" y="259920"/>
            <a:ext cx="806472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d588e"/>
                </a:solidFill>
                <a:latin typeface="Calibri"/>
              </a:rPr>
              <a:t>Algorithm description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1500120"/>
            <a:ext cx="8569440" cy="265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04000" indent="-50400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enote the data to be quantized as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0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e forward quantization partitions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into 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0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alibri"/>
              </a:rPr>
              <a:t>0 ,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, …,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, … . 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0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ith sizes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alibri"/>
              </a:rPr>
              <a:t>0 ,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, …,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, … . 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0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ith centroids 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040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040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4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Object 45"/>
              <p:cNvSpPr txBox="1"/>
              <p:nvPr/>
            </p:nvSpPr>
            <p:spPr>
              <a:xfrm>
                <a:off x="1547640" y="4149720"/>
                <a:ext cx="3024360" cy="13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c</m:t>
                            </m:r>
                          </m:e>
                        </m:acc>
                      </m:e>
                      <m:sub>
                        <m:r>
                          <m:t xml:space="preserve">u</m:t>
                        </m:r>
                        <m:r>
                          <m:t xml:space="preserve">=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p>
                      <m:e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(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)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5"/>
          <p:cNvSpPr/>
          <p:nvPr/>
        </p:nvSpPr>
        <p:spPr>
          <a:xfrm>
            <a:off x="7953480" y="6424560"/>
            <a:ext cx="87444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620E4-62F4-4C7D-9F0E-CA320678CF82}" type="slidenum">
              <a:rPr b="0" lang="en-US" sz="11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58720" y="259920"/>
            <a:ext cx="806472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d588e"/>
                </a:solidFill>
                <a:latin typeface="Calibri"/>
              </a:rPr>
              <a:t>Algorithm description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95280" y="1500120"/>
            <a:ext cx="8569440" cy="265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8000"/>
          </a:bodyPr>
          <a:p>
            <a:pPr marL="298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epresent the centroid as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8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8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8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Transmit       when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 &gt;T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ransmit   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8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Collect ARL for one frame and use it for coding the next frame.</a:t>
            </a:r>
            <a:endParaRPr b="1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8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Rectangle 4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Object 2"/>
              <p:cNvSpPr txBox="1"/>
              <p:nvPr/>
            </p:nvSpPr>
            <p:spPr>
              <a:xfrm>
                <a:off x="1619280" y="2060640"/>
                <a:ext cx="3673440" cy="13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p>
                      <m:e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(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)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sup>
                        </m:sSup>
                      </m:e>
                    </m:nary>
                    <m:r>
                      <m:t xml:space="preserve">−</m:t>
                    </m:r>
                    <m:r>
                      <m:t xml:space="preserve">i</m:t>
                    </m:r>
                    <m:r>
                      <m:t xml:space="preserve">⋅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9" name="Rectangle 4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Object 4"/>
              <p:cNvSpPr txBox="1"/>
              <p:nvPr/>
            </p:nvSpPr>
            <p:spPr>
              <a:xfrm>
                <a:off x="1763640" y="3357720"/>
                <a:ext cx="504720" cy="69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2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Object 6"/>
              <p:cNvSpPr txBox="1"/>
              <p:nvPr/>
            </p:nvSpPr>
            <p:spPr>
              <a:xfrm>
                <a:off x="2340000" y="3860640"/>
                <a:ext cx="4133880" cy="12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δ</m:t>
                        </m:r>
                      </m:e>
                    </m:acc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≤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b>
                          <m:sup/>
                          <m:e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≤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b>
                          <m:sup/>
                          <m:e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5"/>
          <p:cNvSpPr/>
          <p:nvPr/>
        </p:nvSpPr>
        <p:spPr>
          <a:xfrm>
            <a:off x="7953480" y="6424560"/>
            <a:ext cx="87444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705C1-8441-4CF0-AFF3-0C5351370D9D}" type="slidenum">
              <a:rPr b="0" lang="en-US" sz="11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4000" y="620280"/>
            <a:ext cx="806436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d588e"/>
                </a:solidFill>
                <a:latin typeface="Calibri"/>
              </a:rPr>
              <a:t>Lo-co low-delay,</a:t>
            </a:r>
            <a:br>
              <a:rPr sz="4000"/>
            </a:br>
            <a:r>
              <a:rPr b="1" lang="en-US" sz="4000" spc="-1" strike="noStrike">
                <a:solidFill>
                  <a:srgbClr val="2d588e"/>
                </a:solidFill>
                <a:latin typeface="Calibri"/>
              </a:rPr>
              <a:t> AQL+HDQ vs. RDOQ(anchor)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395280" y="1628640"/>
          <a:ext cx="4199040" cy="3629160"/>
        </p:xfrm>
        <a:graphic>
          <a:graphicData uri="http://schemas.openxmlformats.org/drawingml/2006/table">
            <a:tbl>
              <a:tblPr/>
              <a:tblGrid>
                <a:gridCol w="430200"/>
                <a:gridCol w="1319400"/>
                <a:gridCol w="1161720"/>
                <a:gridCol w="1287720"/>
              </a:tblGrid>
              <a:tr h="604800">
                <a:tc gridSpan="4">
                  <a:txBody>
                    <a:bodyPr lIns="66960" rIns="669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M0.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5160">
                <a:tc>
                  <a:txBody>
                    <a:bodyPr lIns="66960" rIns="669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69696"/>
                          </a:solidFill>
                          <a:latin typeface="Arial"/>
                          <a:ea typeface="Times New Roman"/>
                        </a:rPr>
                        <a:t>-0.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2.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.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4800">
                <a:tc>
                  <a:txBody>
                    <a:bodyPr lIns="66960" rIns="669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4.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6960" rIns="669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4.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04800">
                <a:tc>
                  <a:txBody>
                    <a:bodyPr lIns="66960" rIns="669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.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3.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6960" rIns="669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5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04800">
                <a:tc>
                  <a:txBody>
                    <a:bodyPr lIns="66960" rIns="669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69696"/>
                          </a:solidFill>
                          <a:latin typeface="Arial"/>
                          <a:ea typeface="Times New Roman"/>
                        </a:rPr>
                        <a:t>-0.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6960" rIns="669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.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4800">
                <a:tc>
                  <a:txBody>
                    <a:bodyPr lIns="66960" rIns="669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66960" rIns="669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.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66960" rIns="669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2.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66960" rIns="669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3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117" name="TextBox 4"/>
          <p:cNvSpPr/>
          <p:nvPr/>
        </p:nvSpPr>
        <p:spPr>
          <a:xfrm>
            <a:off x="1084680" y="5589720"/>
            <a:ext cx="800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 1: RDOQ outputs HDQ by 0.9; AQL outperforms RDOQ by 1.2%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 2: enc/dec time were not provided as tests were run on different clu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This will need to be verifi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4944960" y="1628640"/>
          <a:ext cx="4199040" cy="3629160"/>
        </p:xfrm>
        <a:graphic>
          <a:graphicData uri="http://schemas.openxmlformats.org/drawingml/2006/table">
            <a:tbl>
              <a:tblPr/>
              <a:tblGrid>
                <a:gridCol w="430200"/>
                <a:gridCol w="1319400"/>
                <a:gridCol w="1162080"/>
                <a:gridCol w="1287360"/>
              </a:tblGrid>
              <a:tr h="604800">
                <a:tc gridSpan="4">
                  <a:txBody>
                    <a:bodyPr lIns="66960" rIns="669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M0.9 +D35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5160">
                <a:tc>
                  <a:txBody>
                    <a:bodyPr lIns="66960" rIns="669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69696"/>
                          </a:solidFill>
                          <a:latin typeface="Arial"/>
                          <a:ea typeface="Times New Roman"/>
                        </a:rPr>
                        <a:t>-0.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2.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.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4800">
                <a:tc>
                  <a:txBody>
                    <a:bodyPr lIns="66960" rIns="669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.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4.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6960" rIns="669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4.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04800">
                <a:tc>
                  <a:txBody>
                    <a:bodyPr lIns="66960" rIns="669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.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4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6960" rIns="669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4.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04800">
                <a:tc>
                  <a:txBody>
                    <a:bodyPr lIns="66960" rIns="669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69696"/>
                          </a:solidFill>
                          <a:latin typeface="Arial"/>
                          <a:ea typeface="Times New Roman"/>
                        </a:rPr>
                        <a:t>-0.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6960" rIns="669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.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4800">
                <a:tc>
                  <a:txBody>
                    <a:bodyPr lIns="66960" rIns="669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66960" rIns="669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.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66960" rIns="669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2.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66960" rIns="6696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3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5"/>
          <p:cNvSpPr/>
          <p:nvPr/>
        </p:nvSpPr>
        <p:spPr>
          <a:xfrm>
            <a:off x="7953480" y="6424560"/>
            <a:ext cx="87444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671E8-C673-4078-84B2-489F6E3C6EDC}" type="slidenum">
              <a:rPr b="0" lang="en-US" sz="11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58720" y="259920"/>
            <a:ext cx="806472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d588e"/>
                </a:solidFill>
                <a:latin typeface="Calibri"/>
              </a:rPr>
              <a:t>Lo-co low-delay, </a:t>
            </a:r>
            <a:br>
              <a:rPr sz="4000"/>
            </a:br>
            <a:r>
              <a:rPr b="1" lang="en-US" sz="4000" spc="-1" strike="noStrike">
                <a:solidFill>
                  <a:srgbClr val="2d588e"/>
                </a:solidFill>
                <a:latin typeface="Calibri"/>
              </a:rPr>
              <a:t>RDOQ(anchor)  vs. HDQ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0" y="1484280"/>
          <a:ext cx="4248000" cy="4896000"/>
        </p:xfrm>
        <a:graphic>
          <a:graphicData uri="http://schemas.openxmlformats.org/drawingml/2006/table">
            <a:tbl>
              <a:tblPr/>
              <a:tblGrid>
                <a:gridCol w="1062000"/>
                <a:gridCol w="1063800"/>
                <a:gridCol w="1060200"/>
                <a:gridCol w="1062000"/>
              </a:tblGrid>
              <a:tr h="623880">
                <a:tc gridSpan="4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M0.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238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.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.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238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238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238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238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.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6238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88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4427640" y="1484280"/>
          <a:ext cx="4897440" cy="4952880"/>
        </p:xfrm>
        <a:graphic>
          <a:graphicData uri="http://schemas.openxmlformats.org/drawingml/2006/table">
            <a:tbl>
              <a:tblPr/>
              <a:tblGrid>
                <a:gridCol w="1224000"/>
                <a:gridCol w="1225440"/>
                <a:gridCol w="1224000"/>
                <a:gridCol w="1224000"/>
              </a:tblGrid>
              <a:tr h="619200">
                <a:tc gridSpan="4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M0.9 +D35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92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.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.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88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92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92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.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92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.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6192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88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58720" y="259920"/>
            <a:ext cx="806472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onclusions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9640" y="1125000"/>
            <a:ext cx="8064720" cy="406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11480" indent="-41148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DOQ relative complexity is increased by 8% when applying the optimizations defined in D356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11480" indent="-41148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QL outperforms RDOQ for the low-delay low-complexity setting.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11480" indent="-41148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urther assumptions (not fully tested)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84080" indent="-209160">
              <a:spcBef>
                <a:spcPts val="550"/>
              </a:spcBef>
              <a:buClr>
                <a:srgbClr val="000000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QL provides gains when RDOQ is off in all setting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84080" indent="-209160">
              <a:spcBef>
                <a:spcPts val="550"/>
              </a:spcBef>
              <a:buClr>
                <a:srgbClr val="000000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mplexity increase of AQL over HDQ is minimal for encoding; Complexity is reduced compared with anchor for encoding. Decoding complexity is roughly the sam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11480" indent="-41148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posal: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84080" indent="-209160">
              <a:spcBef>
                <a:spcPts val="601"/>
              </a:spcBef>
              <a:buClr>
                <a:srgbClr val="000000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urther study AQL for quantization design for HEV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4"/>
          <p:cNvSpPr/>
          <p:nvPr/>
        </p:nvSpPr>
        <p:spPr>
          <a:xfrm>
            <a:off x="7953480" y="6424560"/>
            <a:ext cx="87444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AD212-1F3A-4B51-8165-F81C24D1C36E}" type="slidenum">
              <a:rPr b="0" lang="en-US" sz="11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4T18:33:28Z</dcterms:created>
  <dc:creator>Elliot Ng</dc:creator>
  <dc:description/>
  <dc:language>en-US</dc:language>
  <cp:lastModifiedBy>GMC -2</cp:lastModifiedBy>
  <dcterms:modified xsi:type="dcterms:W3CDTF">2011-01-23T00:24:38Z</dcterms:modified>
  <cp:revision>169</cp:revision>
  <dc:subject/>
  <dc:title>Title of presentation</dc:title>
</cp:coreProperties>
</file>