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036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72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036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72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99640" y="259920"/>
            <a:ext cx="7993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0036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00720" y="105264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0000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0036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00720" y="3760920"/>
            <a:ext cx="2571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99640" y="259920"/>
            <a:ext cx="799308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92480" y="376092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2480" y="1052640"/>
            <a:ext cx="38973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760920"/>
            <a:ext cx="798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179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4"/>
          <p:cNvGrpSpPr/>
          <p:nvPr/>
        </p:nvGrpSpPr>
        <p:grpSpPr>
          <a:xfrm>
            <a:off x="395280" y="0"/>
            <a:ext cx="8497800" cy="636480"/>
            <a:chOff x="395280" y="0"/>
            <a:chExt cx="8497800" cy="636480"/>
          </a:xfrm>
        </p:grpSpPr>
        <p:sp>
          <p:nvSpPr>
            <p:cNvPr id="4" name="AutoShape 69"/>
            <p:cNvSpPr/>
            <p:nvPr/>
          </p:nvSpPr>
          <p:spPr>
            <a:xfrm>
              <a:off x="395280" y="0"/>
              <a:ext cx="8497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71"/>
            <p:cNvSpPr/>
            <p:nvPr/>
          </p:nvSpPr>
          <p:spPr>
            <a:xfrm>
              <a:off x="411120" y="1440"/>
              <a:ext cx="84693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Text Box 104"/>
          <p:cNvSpPr/>
          <p:nvPr/>
        </p:nvSpPr>
        <p:spPr>
          <a:xfrm>
            <a:off x="6497640" y="6143760"/>
            <a:ext cx="21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5"/>
          <p:cNvSpPr/>
          <p:nvPr/>
        </p:nvSpPr>
        <p:spPr>
          <a:xfrm rot="16200000">
            <a:off x="-2028600" y="4195080"/>
            <a:ext cx="4681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Fraunhofer Institute for Telecommun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Heinrich Hertz Institu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7" descr="logo"/>
          <p:cNvPicPr/>
          <p:nvPr/>
        </p:nvPicPr>
        <p:blipFill>
          <a:blip r:embed="rId2"/>
          <a:stretch/>
        </p:blipFill>
        <p:spPr>
          <a:xfrm>
            <a:off x="797040" y="6296040"/>
            <a:ext cx="21906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solidFill>
            <a:srgbClr val="179c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5"/>
          <p:cNvGrpSpPr/>
          <p:nvPr/>
        </p:nvGrpSpPr>
        <p:grpSpPr>
          <a:xfrm>
            <a:off x="395280" y="0"/>
            <a:ext cx="8497800" cy="636480"/>
            <a:chOff x="395280" y="0"/>
            <a:chExt cx="8497800" cy="636480"/>
          </a:xfrm>
        </p:grpSpPr>
        <p:sp>
          <p:nvSpPr>
            <p:cNvPr id="47" name="AutoShape 69"/>
            <p:cNvSpPr/>
            <p:nvPr/>
          </p:nvSpPr>
          <p:spPr>
            <a:xfrm>
              <a:off x="395280" y="0"/>
              <a:ext cx="849780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71"/>
            <p:cNvSpPr/>
            <p:nvPr/>
          </p:nvSpPr>
          <p:spPr>
            <a:xfrm>
              <a:off x="411120" y="1440"/>
              <a:ext cx="84693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04"/>
          <p:cNvSpPr/>
          <p:nvPr/>
        </p:nvSpPr>
        <p:spPr>
          <a:xfrm>
            <a:off x="6497640" y="6143760"/>
            <a:ext cx="21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 rot="16200000">
            <a:off x="-2028600" y="4195080"/>
            <a:ext cx="4681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Fraunhofer Institute for Telecommun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Unicode MS"/>
              </a:rPr>
              <a:t>Heinrich Hertz Institu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"/>
          <p:cNvPicPr/>
          <p:nvPr/>
        </p:nvPicPr>
        <p:blipFill>
          <a:blip r:embed="rId2"/>
          <a:stretch/>
        </p:blipFill>
        <p:spPr>
          <a:xfrm>
            <a:off x="797040" y="6296040"/>
            <a:ext cx="2190600" cy="561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415280" cy="17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JCTVC-D380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Reduced complexity PIPE coding using systematic v2v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92000" y="4076640"/>
            <a:ext cx="633564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. Kirchhoffer, D. Marpe, H. Schwarz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. Bartnik, A. Henkel, M. Siekmann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. Stegemann, and T. Wieg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unhofer H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9c7d"/>
                </a:solidFill>
                <a:latin typeface="Arial"/>
              </a:rPr>
              <a:t>Theoretical evaluation of TMuC v2v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pic>
        <p:nvPicPr>
          <p:cNvPr id="113" name="Picture 2" descr="tmuc-v2v"/>
          <p:cNvPicPr/>
          <p:nvPr/>
        </p:nvPicPr>
        <p:blipFill>
          <a:blip r:embed="rId1"/>
          <a:stretch/>
        </p:blipFill>
        <p:spPr>
          <a:xfrm>
            <a:off x="900000" y="620640"/>
            <a:ext cx="7423200" cy="5064120"/>
          </a:xfrm>
          <a:prstGeom prst="rect">
            <a:avLst/>
          </a:prstGeom>
          <a:ln w="0">
            <a:noFill/>
          </a:ln>
        </p:spPr>
      </p:pic>
      <p:sp>
        <p:nvSpPr>
          <p:cNvPr id="114" name="Content Placeholder 2"/>
          <p:cNvSpPr/>
          <p:nvPr/>
        </p:nvSpPr>
        <p:spPr>
          <a:xfrm>
            <a:off x="900000" y="5300640"/>
            <a:ext cx="79869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cess code rate in terms of percentage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velope can be seen as characteristic curve of the code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9c7d"/>
                </a:solidFill>
                <a:latin typeface="Arial"/>
              </a:rPr>
              <a:t>New probability interval mapping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 new mapping of CABAC states to v2v codes is derived by evaluating the crossing points of the excess code length cur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08000" y="2421000"/>
          <a:ext cx="5904000" cy="3384360"/>
        </p:xfrm>
        <a:graphic>
          <a:graphicData uri="http://schemas.openxmlformats.org/drawingml/2006/table">
            <a:tbl>
              <a:tblPr/>
              <a:tblGrid>
                <a:gridCol w="2873520"/>
                <a:gridCol w="3030480"/>
              </a:tblGrid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2v cod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0, 1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od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 pipe 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3, 4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 pipe 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5, 9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 pipe 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10, 14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 pipe 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15, 21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 bin cod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0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22, 31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y to rice 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32, 44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y to rice 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0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45, 61]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y to rice 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30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y to rice 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9c7d"/>
                </a:solidFill>
                <a:latin typeface="Arial"/>
              </a:rPr>
              <a:t>Efficient implementations using counter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l systematic v2v codes can be implemented using coun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ne byte per coder is sufficient to represent the code word currently being proc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ample for unary to rice co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counter stores the number of 0s of the unary code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 further bin is used to store whether the unary code word is truncated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hen a bin is requested by the parser, the counter is decremented and a bin is retu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116000" y="1197000"/>
          <a:ext cx="5977080" cy="2681280"/>
        </p:xfrm>
        <a:graphic>
          <a:graphicData uri="http://schemas.openxmlformats.org/drawingml/2006/table">
            <a:tbl>
              <a:tblPr/>
              <a:tblGrid>
                <a:gridCol w="1800360"/>
                <a:gridCol w="1224000"/>
                <a:gridCol w="1439640"/>
                <a:gridCol w="1513080"/>
              </a:tblGrid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ons per b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decod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 decode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atic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2v cod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uC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2v cod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looku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f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/substrac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79c7d"/>
                </a:solidFill>
                <a:latin typeface="Arial"/>
              </a:rPr>
              <a:t>Experimental computational complexity evaluation</a:t>
            </a:r>
            <a:endParaRPr b="1" lang="en-US" sz="24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verage number of operations per bin is computed based on all bins of the test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9c7d"/>
                </a:solidFill>
                <a:latin typeface="Arial"/>
              </a:rPr>
              <a:t>Memory requirements comparison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08000" y="2133720"/>
          <a:ext cx="5543640" cy="1461960"/>
        </p:xfrm>
        <a:graphic>
          <a:graphicData uri="http://schemas.openxmlformats.org/drawingml/2006/table">
            <a:tbl>
              <a:tblPr/>
              <a:tblGrid>
                <a:gridCol w="1295640"/>
                <a:gridCol w="1584360"/>
                <a:gridCol w="2663640"/>
              </a:tblGrid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y require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decod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 decoder systematic v2v cod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ble siz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x 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 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ster siz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- 2 By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 rowSpan="2"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Byte (1 Byte per code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43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- 2 By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79c7d"/>
                </a:solidFill>
                <a:latin typeface="Arial"/>
              </a:rPr>
              <a:t>Experimental coding efficency evaluation: systematic v2v codes</a:t>
            </a:r>
            <a:endParaRPr b="1" lang="en-US" sz="2000" spc="-1" strike="noStrike">
              <a:solidFill>
                <a:srgbClr val="179c7d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55640" y="981000"/>
          <a:ext cx="3816360" cy="2448000"/>
        </p:xfrm>
        <a:graphic>
          <a:graphicData uri="http://schemas.openxmlformats.org/drawingml/2006/table">
            <a:tbl>
              <a:tblPr/>
              <a:tblGrid>
                <a:gridCol w="907920"/>
                <a:gridCol w="963720"/>
                <a:gridCol w="1008000"/>
                <a:gridCol w="936720"/>
              </a:tblGrid>
              <a:tr h="26352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a H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635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635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635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635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620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427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716360" y="981000"/>
          <a:ext cx="3816360" cy="244800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936360"/>
              </a:tblGrid>
              <a:tr h="23652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 H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858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872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854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876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854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3049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55640" y="3573360"/>
          <a:ext cx="3816360" cy="238932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000"/>
                <a:gridCol w="936720"/>
              </a:tblGrid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H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700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696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714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700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714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81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  <p:sp>
        <p:nvSpPr>
          <p:cNvPr id="130" name="TextBox 7"/>
          <p:cNvSpPr/>
          <p:nvPr/>
        </p:nvSpPr>
        <p:spPr>
          <a:xfrm>
            <a:off x="5148360" y="407664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l BD rates are obtained by coding the exact same bin sequ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79c7d"/>
                </a:solidFill>
                <a:latin typeface="Arial"/>
              </a:rPr>
              <a:t>Experimental coding efficency evaluation: TMuC v2v codes</a:t>
            </a:r>
            <a:endParaRPr b="1" lang="en-US" sz="2000" spc="-1" strike="noStrike">
              <a:solidFill>
                <a:srgbClr val="179c7d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55640" y="981000"/>
          <a:ext cx="3816360" cy="244800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000"/>
                <a:gridCol w="936720"/>
              </a:tblGrid>
              <a:tr h="28260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a H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844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822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844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826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840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8260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716360" y="981000"/>
          <a:ext cx="3816360" cy="244800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360"/>
                <a:gridCol w="936360"/>
              </a:tblGrid>
              <a:tr h="27144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 H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714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7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714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714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732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714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55640" y="3573360"/>
          <a:ext cx="3816360" cy="2389320"/>
        </p:xfrm>
        <a:graphic>
          <a:graphicData uri="http://schemas.openxmlformats.org/drawingml/2006/table">
            <a:tbl>
              <a:tblPr/>
              <a:tblGrid>
                <a:gridCol w="863640"/>
                <a:gridCol w="1008000"/>
                <a:gridCol w="1008000"/>
                <a:gridCol w="936720"/>
              </a:tblGrid>
              <a:tr h="2134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gridSpan="3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H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6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714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7288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714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714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  <a:tr h="27324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f"/>
                    </a:solidFill>
                  </a:tcPr>
                </a:tc>
              </a:tr>
              <a:tr h="2707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8ffd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bfe"/>
                    </a:solidFill>
                  </a:tcPr>
                </a:tc>
              </a:tr>
            </a:tbl>
          </a:graphicData>
        </a:graphic>
      </p:graphicFrame>
      <p:sp>
        <p:nvSpPr>
          <p:cNvPr id="135" name="TextBox 8"/>
          <p:cNvSpPr/>
          <p:nvPr/>
        </p:nvSpPr>
        <p:spPr>
          <a:xfrm>
            <a:off x="5148360" y="4076640"/>
            <a:ext cx="309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l BD rates are obtained by coding the exact same bin sequ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9c7d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l set of v2v c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10 instead of 12 v2v codes (as in TMuC)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ow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ne single byte is sufficient to store the coding state of each bin encoder or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mber of operations per bin is lower than for initial PIPE v2v codes or the M 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ood R-D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veraged BD rate increase lower than 0.5% relative to CA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roduction of a new set of v2v codes for PI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oretical performance 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pects of efficient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imental coding efficiency 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Review of the PIPE codig concept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narization and context modelling as in CAB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ified coding of binary decisions (bi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PB probabilities are quant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parate bin encoders for each class (fixed LPB probabili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 encoders use v2v codes for encoding the b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900000" y="4160880"/>
            <a:ext cx="7993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Systematic v2v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ee different classes of v2v c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ry to Rice’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bin’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 pipe’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class of code has a simple construction r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‘</a:t>
            </a: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Unary to Rice’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ps truncated unary code (mostly) to fixed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ample for Golomb-Rice parameter n equal to 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0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0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be interpreted as mapping a unary code to a Golomb-Ric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‘</a:t>
            </a: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Three bin’ code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mary code is of fixed lengeh (3 bi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code words 2, 3, and 4, the position of the 1 is coded as integer in the last two bins of the corresponding code 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code words 5, 6, and 7, the position of the 0 is coded as integer in the last two bins of the corresponding code 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ot parametrizable (only one single v2v co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‘</a:t>
            </a:r>
            <a:r>
              <a:rPr b="1" lang="en-GB" sz="2800" spc="-1" strike="noStrike">
                <a:solidFill>
                  <a:srgbClr val="179c7d"/>
                </a:solidFill>
                <a:latin typeface="Arial"/>
              </a:rPr>
              <a:t>Bin pipe’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mary code is based on two truncated unary codes (one with all bins invert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ondary code equals primary except that two code words are interchan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ample for parameter n (max. unary length) equal 4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ight Brace 1"/>
          <p:cNvSpPr/>
          <p:nvPr/>
        </p:nvSpPr>
        <p:spPr>
          <a:xfrm>
            <a:off x="4211640" y="4005360"/>
            <a:ext cx="1081080" cy="1584360"/>
          </a:xfrm>
          <a:custGeom>
            <a:avLst/>
            <a:gdLst>
              <a:gd name="textAreaLeft" fmla="*/ 0 w 1081080"/>
              <a:gd name="textAreaRight" fmla="*/ 390240 w 1081080"/>
              <a:gd name="textAreaTop" fmla="*/ 28080 h 1584360"/>
              <a:gd name="textAreaBottom" fmla="*/ 155628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14"/>
                  <a:pt x="10800" y="1227"/>
                </a:cubicBezTo>
                <a:lnTo>
                  <a:pt x="10800" y="9573"/>
                </a:lnTo>
                <a:cubicBezTo>
                  <a:pt x="10800" y="10187"/>
                  <a:pt x="16200" y="10800"/>
                  <a:pt x="21600" y="10800"/>
                </a:cubicBezTo>
                <a:cubicBezTo>
                  <a:pt x="16200" y="10800"/>
                  <a:pt x="10800" y="11414"/>
                  <a:pt x="10800" y="12027"/>
                </a:cubicBezTo>
                <a:lnTo>
                  <a:pt x="10800" y="20373"/>
                </a:lnTo>
                <a:cubicBezTo>
                  <a:pt x="10800" y="20987"/>
                  <a:pt x="5400" y="21600"/>
                  <a:pt x="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5219640" y="428940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hese bins are ‚piped through‘ (are written without chan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9c7d"/>
                </a:solidFill>
                <a:latin typeface="Arial"/>
              </a:rPr>
              <a:t>Systematic code setup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00000" y="1052640"/>
            <a:ext cx="79869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our bin pipe codes, the three bin code, and four unary to Rice codes are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ne additional bypass bin encoder is used for equiprobable b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tally, 10 coders are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79c7d"/>
                </a:solidFill>
                <a:latin typeface="Arial"/>
              </a:rPr>
              <a:t>Theoretical evaluation of systematic v2v codes</a:t>
            </a:r>
            <a:endParaRPr b="1" lang="en-US" sz="2800" spc="-1" strike="noStrike">
              <a:solidFill>
                <a:srgbClr val="179c7d"/>
              </a:solidFill>
              <a:latin typeface="Arial"/>
            </a:endParaRPr>
          </a:p>
        </p:txBody>
      </p:sp>
      <p:pic>
        <p:nvPicPr>
          <p:cNvPr id="110" name="Picture 2" descr="sys-v2v"/>
          <p:cNvPicPr/>
          <p:nvPr/>
        </p:nvPicPr>
        <p:blipFill>
          <a:blip r:embed="rId1"/>
          <a:stretch/>
        </p:blipFill>
        <p:spPr>
          <a:xfrm>
            <a:off x="900000" y="620640"/>
            <a:ext cx="742320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900000" y="5300640"/>
            <a:ext cx="79869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cess code rate in terms of percentage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velope can be seen as characteristic curve of the code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9:07:15Z</dcterms:created>
  <dc:creator>Heiko Schwarz</dc:creator>
  <dc:description/>
  <cp:keywords/>
  <dc:language>en-US</dc:language>
  <cp:lastModifiedBy>Heiner Kirchhoffer</cp:lastModifiedBy>
  <cp:lastPrinted>1999-11-25T15:32:02Z</cp:lastPrinted>
  <dcterms:modified xsi:type="dcterms:W3CDTF">2011-01-19T19:12:08Z</dcterms:modified>
  <cp:revision>114</cp:revision>
  <dc:subject/>
  <dc:title>JCTVC-A116  Video Coding Technology Proposal by Fraunhofer HHI</dc:title>
</cp:coreProperties>
</file>