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media/image9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03AE-C698-4A39-9A47-07FFBF0DEA1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scripts we have developed and offer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may be improved with content aware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hasize simpl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21BB8-4BE9-4549-AEA1-E392D80396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3D20C-8811-4488-8281-DF0D2146C1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C966C-C6EA-4AEC-AFF7-9C57AF2944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94D63-B1E2-4128-A6AF-BFB40B8170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7CCC8-A3EA-4C62-AA3C-38D6B50F7A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020FF-A4DC-4E9F-A79D-DD92F42C85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7A3ED-420F-42A6-82FF-F1125E999C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5C049-05AA-4C8D-BCBC-BB3A3D7783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F6383-1920-45D1-9D5A-747798A23A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95E8F-6453-462F-8164-2D8921C76C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CA379-C614-4ABB-BF3C-01E7250A4A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A7785-975A-4F3A-9D35-B67E221F22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4FE7-4BC3-43A4-8889-25202C8605D4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352680"/>
            <a:ext cx="914400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Hei"/>
              </a:rPr>
              <a:t>Presented by Michael Horowi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Hei"/>
              </a:rPr>
              <a:t>JCT-VC Meeting in Daegu, K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SimHei"/>
              </a:rPr>
              <a:t>Date January 20-28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941560"/>
            <a:ext cx="91440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096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ized Sl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4DC6D-7903-4AAF-BA6F-968C7EE7B24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Access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 vs. AhG slice reference Random Ac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 and reference used same number of sl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914400" y="2514600"/>
          <a:ext cx="7086600" cy="281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514600"/>
                    <a:ext cx="708660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918360" y="5410080"/>
            <a:ext cx="68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Encoding/decoding for GS &amp; AhG slices performed on different mach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7F42E-4BA6-47E0-9418-B55DBE69B8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w-Delay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 vs. AhG slice reference Low-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 and reference used same number of sl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066680" y="2666880"/>
          <a:ext cx="7239240" cy="274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666880"/>
                    <a:ext cx="72392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1070640" y="5410080"/>
            <a:ext cx="68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Encoding/decoding for GS &amp; AhG slices performed on different mach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A160A-CB68-4902-AB6D-6A672EE7B6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a-only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 vs. AhG slice reference Intra-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 and reference simulations used same # of sl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066680" y="2666880"/>
          <a:ext cx="7086600" cy="266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666880"/>
                    <a:ext cx="708660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070640" y="5410080"/>
            <a:ext cx="68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Encoding/decoding for GS &amp; AhG slices performed on different mach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C551A-AB3B-4A81-8ECD-B3DE27C0A2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s mostly due to smaller number of slice bound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Result from Low De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plays a role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Class A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dditional computational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295280" y="2514600"/>
          <a:ext cx="6858000" cy="1004760"/>
        </p:xfrm>
        <a:graphic>
          <a:graphicData uri="http://schemas.openxmlformats.org/drawingml/2006/table">
            <a:tbl>
              <a:tblPr/>
              <a:tblGrid>
                <a:gridCol w="3097440"/>
                <a:gridCol w="988920"/>
                <a:gridCol w="922320"/>
                <a:gridCol w="925560"/>
                <a:gridCol w="923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hG:GS Slice Boundary Rati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S RA coding gain (Y BD-rat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%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75E69-096E-4839-BB35-101ABF8014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 and Recommend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ing gains vs. AhG slice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Access: 2.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Delay: 1.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a Only: 1.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dditional computational complex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mentary with fine granularity slices and entropy slice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ates parallelization at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tinue evaluation of Generalized Slices for possible adoption into the 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1669B-BC03-4B2E-A072-AD6D7BC7F8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-up Sl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52480" y="1676520"/>
            <a:ext cx="487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67CF0-6833-4529-895E-E82DA56675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ndom Access 1 Slice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47920" y="3733920"/>
            <a:ext cx="6553080" cy="2259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447920" y="1371600"/>
            <a:ext cx="6476760" cy="223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D0279-52B0-4999-B3F2-11AA6C6AE4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w Delay 1 Slice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6476760" cy="2236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676520" y="3733920"/>
            <a:ext cx="6476760" cy="223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A0F6E-6188-4EA7-BC36-00B4467B65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a-only 1 Slice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52480" y="3733920"/>
            <a:ext cx="6742080" cy="2327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676520" y="1371600"/>
            <a:ext cx="6629400" cy="2289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E03F3-088D-4160-9663-3B2421D86E8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Slice Result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RA GS saves 42% relative AhG sl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D GS saves 25% relative AhG sl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ntra GS saves 60% relative AhG sl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8FCF2-9EB1-4F1E-8E21-8736125E2C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Slices (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 and Recommen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21800" y="6135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53544-258E-48AD-AAA3-EDBD6C5D7D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partitioning introduces coding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partition a pi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-level parallel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segments processed by separate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reduces costly inter-processor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ACD38-944B-42EB-9C1E-DB5D2F3699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TU size ma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d slice size &gt; MTU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fragments oversize packet carrying slic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uses multiple MTU-sized packets for 1 sl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cases: loss of one fragmen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s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ar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d slice &lt;&lt; MTU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 header overhead steals coding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d slice size == MTU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izes packet header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ce independence ensures received slices can be decode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rror resil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 reduces loss due to picture partitio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BE02A-CF3F-4AF4-B60B-B94D80A4DA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ized Sl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boundaries partition picture into colum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5460840" cy="398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00506-A327-4C64-B7A9-6B350E01A2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atures Unique to G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constrained to be rectang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tion flexibility is key for MTU size ma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ally important at higher bit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led at picture/sequence parameter s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signaling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implementation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.264/AVC slice groups provide functionality with much higher implementation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ates decoder paralle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side the scope of HEV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11F4D-E696-4523-A8B1-C8717C56B7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w mods to AhG-slice sourc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oding order: raster scan in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 availability: CU’s not available across column bounda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ed PPS syntax coding/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FDBB6-3A84-491A-8E27-2A2A78C092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columns and wid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parameter se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PS also poss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_columns_minu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i=0; i &lt; num_columns_minus1; i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umnWidth[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9A5EB-F6C7-40E8-BB8D-BEA5129432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: parallel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l size partit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xcept at picture boundar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 part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/3 number of frames specified in common conditions for each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752480" y="3200400"/>
          <a:ext cx="5883480" cy="144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200400"/>
                    <a:ext cx="588348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3A4F8-FAC9-4B65-B1A6-EC2E3442AB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Horowitz Michael</cp:lastModifiedBy>
  <cp:lastPrinted>2009-04-22T19:24:48Z</cp:lastPrinted>
  <dcterms:modified xsi:type="dcterms:W3CDTF">2011-01-20T14:28:02Z</dcterms:modified>
  <cp:revision>1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