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" name="Logo_SM" descr=""/>
          <p:cNvPicPr/>
          <p:nvPr/>
        </p:nvPicPr>
        <p:blipFill>
          <a:blip r:embed="rId2"/>
          <a:stretch/>
        </p:blipFill>
        <p:spPr>
          <a:xfrm>
            <a:off x="8456760" y="-17640"/>
            <a:ext cx="474480" cy="586080"/>
          </a:xfrm>
          <a:prstGeom prst="rect">
            <a:avLst/>
          </a:prstGeom>
          <a:ln w="0">
            <a:noFill/>
          </a:ln>
        </p:spPr>
      </p:pic>
      <p:sp>
        <p:nvSpPr>
          <p:cNvPr id="6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Public  |  © Ericsson AB 2010  |  2010-10-07  |  Page </a:t>
            </a:r>
            <a:fld id="{DF166872-DAEF-4254-AE1B-3237C836E20F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6720" y="2096280"/>
            <a:ext cx="8352000" cy="14626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4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5" name="Logo_TM" descr=""/>
          <p:cNvPicPr/>
          <p:nvPr/>
        </p:nvPicPr>
        <p:blipFill>
          <a:blip r:embed="rId2"/>
          <a:stretch/>
        </p:blipFill>
        <p:spPr>
          <a:xfrm>
            <a:off x="4162320" y="-17640"/>
            <a:ext cx="803520" cy="990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lvl="1" marL="355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712800" algn="ctr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3" marL="10717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4" marL="14335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5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6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5560" y="2124000"/>
            <a:ext cx="8351640" cy="1463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Development of HEVC deblocking</a:t>
            </a: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3840" y="4091040"/>
            <a:ext cx="8354880" cy="2016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JCTVC-D377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Andrey Norkin, Kenneth Andersson, Rickard Sjöberg 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Ericsson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ompression performance All-intra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96720" y="1376280"/>
          <a:ext cx="8352000" cy="4388040"/>
        </p:xfrm>
        <a:graphic>
          <a:graphicData uri="http://schemas.openxmlformats.org/drawingml/2006/table">
            <a:tbl>
              <a:tblPr/>
              <a:tblGrid>
                <a:gridCol w="1422720"/>
                <a:gridCol w="1131840"/>
                <a:gridCol w="1182600"/>
                <a:gridCol w="1150920"/>
                <a:gridCol w="1149480"/>
                <a:gridCol w="1163520"/>
                <a:gridCol w="1150920"/>
              </a:tblGrid>
              <a:tr h="534600">
                <a:tc rowSpan="2"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Intra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Intra LoCo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Class A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1.8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.5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.5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1.2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.5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.4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604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1.2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.6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.5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.9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.6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.5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60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Class C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1.0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.7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.7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.9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.7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.6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60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Class D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.9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.7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.7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.8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.6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.6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40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Class 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1.2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.1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.1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.8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.0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0.0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1.1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.5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.5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.9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.5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.5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Decoding time on same platform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96720" y="1376280"/>
          <a:ext cx="8352000" cy="4284720"/>
        </p:xfrm>
        <a:graphic>
          <a:graphicData uri="http://schemas.openxmlformats.org/drawingml/2006/table">
            <a:tbl>
              <a:tblPr/>
              <a:tblGrid>
                <a:gridCol w="2509920"/>
                <a:gridCol w="1800360"/>
                <a:gridCol w="1844640"/>
                <a:gridCol w="2197080"/>
              </a:tblGrid>
              <a:tr h="80352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Configuration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Dec. time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TMuC0.9 [s</a:t>
                      </a:r>
                      <a:r>
                        <a:rPr b="0" lang="sv-SE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Dec. time proposal [s]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Dec. time proposal [%]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Random access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2625.72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2619.48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99.8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Low delay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2946.05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2908.19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98.7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All intra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5835.03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5846.96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100.2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Random access loco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845.41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848.01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100.3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Low delay loco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947.26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946.62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99.9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All intra loco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2077.34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2079.52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100.1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99.8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Subjective performance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6720" y="1375920"/>
            <a:ext cx="8352000" cy="4978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Jan 21: Five volunteers viewed the proposal in room “Arte” (no scoring)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Volunteers were from the following companies (NEC, NTT Docomo, Nokia, Cisco)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  <a:ea typeface="ＭＳ Ｐゴシック"/>
              </a:rPr>
              <a:t>(Casual) Double Stimulus Continuous Quality Scale Method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  <a:ea typeface="ＭＳ Ｐゴシック"/>
              </a:rPr>
              <a:t>  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  <a:ea typeface="ＭＳ Ｐゴシック"/>
              </a:rPr>
              <a:t>- No scoring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  <a:ea typeface="ＭＳ Ｐゴシック"/>
              </a:rPr>
              <a:t>  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  <a:ea typeface="ＭＳ Ｐゴシック"/>
              </a:rPr>
              <a:t>- Anchor is played first; proposal is played next.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  <a:ea typeface="ＭＳ Ｐゴシック"/>
              </a:rPr>
              <a:t>[Test sequences]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34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  <a:ea typeface="ＭＳ Ｐゴシック"/>
              </a:rPr>
              <a:t>ClassB: Kimono (1080p 24Hz)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34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  <a:ea typeface="ＭＳ Ｐゴシック"/>
              </a:rPr>
              <a:t>ClassC: BQ Mall (WVGA 60Hz)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34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  <a:ea typeface="ＭＳ Ｐゴシック"/>
              </a:rPr>
              <a:t>ClassE: Vidyo3 (720p 60Hz)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34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  <a:ea typeface="ＭＳ Ｐゴシック"/>
              </a:rPr>
              <a:t>[Coding conditions]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34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  <a:ea typeface="ＭＳ Ｐゴシック"/>
              </a:rPr>
              <a:t>ClassB: Kimono (HE RA w/o ALF QP=27 and 32)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34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  <a:ea typeface="ＭＳ Ｐゴシック"/>
              </a:rPr>
              <a:t>ClassC: BQ Mall (LC RA QP=27 and 32)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34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  <a:ea typeface="ＭＳ Ｐゴシック"/>
              </a:rPr>
              <a:t>ClassE: Vidyo3 (LC LD QP=27 and 32)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  <a:ea typeface="ＭＳ Ｐゴシック"/>
              </a:rPr>
              <a:t>Viewers opinion is that subjectively the proposal is very similar to the anchor, it is difficult to see the difference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  <a:ea typeface="ＭＳ Ｐゴシック"/>
              </a:rPr>
              <a:t>1 viewer thought that the proponent is slightly better than the anchor on Vidyo3 sequence.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5560" y="1358640"/>
            <a:ext cx="8351640" cy="4949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Modifications of HEVC deblocking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Different </a:t>
            </a:r>
            <a:r>
              <a:rPr b="0" lang="en-GB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  <a:ea typeface="굴림"/>
              </a:rPr>
              <a:t> values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for p</a:t>
            </a: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and q</a:t>
            </a: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with stronger low-pass filtering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estrictions on filtering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BD-rate = -1.2% on averag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BD-rate reduction for all sequences in all 6 configuration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Decoding time = 99.8% of TMuC0.9 on averag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ubjective quality is similar to HEVC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58585a"/>
                </a:solidFill>
                <a:latin typeface="Arial"/>
              </a:rPr>
              <a:t>The proposal has been cross-verified (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D434</a:t>
            </a:r>
            <a:r>
              <a:rPr b="0" lang="sv-SE" sz="2400" spc="-1" strike="noStrike">
                <a:solidFill>
                  <a:srgbClr val="58585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58585a"/>
                </a:solidFill>
                <a:latin typeface="Arial"/>
              </a:rPr>
              <a:t>It is proposed to adopt the changes in the next version of HM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Logo_ChapterSlide_Normal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3840" y="77400"/>
            <a:ext cx="7826400" cy="9752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Reasoning for improving HEVC deblocking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5560" y="1358640"/>
            <a:ext cx="8405640" cy="51130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lvl="1"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HEVC deblocking filter: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</a:rPr>
              <a:t>= ( 13(q</a:t>
            </a:r>
            <a:r>
              <a:rPr b="0" lang="fr-FR" sz="1400" spc="-1" strike="noStrike">
                <a:solidFill>
                  <a:srgbClr val="58585a"/>
                </a:solidFill>
                <a:latin typeface="Arial"/>
              </a:rPr>
              <a:t>0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</a:rPr>
              <a:t>-p</a:t>
            </a:r>
            <a:r>
              <a:rPr b="0" lang="fr-FR" sz="1400" spc="-1" strike="noStrike">
                <a:solidFill>
                  <a:srgbClr val="58585a"/>
                </a:solidFill>
                <a:latin typeface="Arial"/>
              </a:rPr>
              <a:t>0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</a:rPr>
              <a:t>) + 4(q</a:t>
            </a:r>
            <a:r>
              <a:rPr b="0" lang="fr-FR" sz="1400" spc="-1" strike="noStrike">
                <a:solidFill>
                  <a:srgbClr val="58585a"/>
                </a:solidFill>
                <a:latin typeface="Arial"/>
              </a:rPr>
              <a:t>1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</a:rPr>
              <a:t>-p</a:t>
            </a:r>
            <a:r>
              <a:rPr b="0" lang="fr-FR" sz="1400" spc="-1" strike="noStrike">
                <a:solidFill>
                  <a:srgbClr val="58585a"/>
                </a:solidFill>
                <a:latin typeface="Arial"/>
              </a:rPr>
              <a:t>1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</a:rPr>
              <a:t>) - 5(q</a:t>
            </a:r>
            <a:r>
              <a:rPr b="0" lang="fr-FR" sz="1400" spc="-1" strike="noStrike">
                <a:solidFill>
                  <a:srgbClr val="58585a"/>
                </a:solidFill>
                <a:latin typeface="Arial"/>
              </a:rPr>
              <a:t>2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</a:rPr>
              <a:t>-p</a:t>
            </a:r>
            <a:r>
              <a:rPr b="0" lang="fr-FR" sz="1400" spc="-1" strike="noStrike">
                <a:solidFill>
                  <a:srgbClr val="58585a"/>
                </a:solidFill>
                <a:latin typeface="Arial"/>
              </a:rPr>
              <a:t>2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</a:rPr>
              <a:t>) ) / 3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	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p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0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’ = p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0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 + </a:t>
            </a:r>
            <a:r>
              <a:rPr b="0" lang="fr-FR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	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q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0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’ = q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0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 - </a:t>
            </a:r>
            <a:r>
              <a:rPr b="0" lang="fr-FR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	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p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’ = p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 + </a:t>
            </a:r>
            <a:r>
              <a:rPr b="0" lang="fr-FR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  <a:ea typeface="굴림"/>
              </a:rPr>
              <a:t>/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	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q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’ = q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 - </a:t>
            </a:r>
            <a:r>
              <a:rPr b="0" lang="fr-FR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  <a:ea typeface="굴림"/>
              </a:rPr>
              <a:t>/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What can be improved: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ame </a:t>
            </a:r>
            <a:r>
              <a:rPr b="0" lang="en-GB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  <a:ea typeface="굴림"/>
              </a:rPr>
              <a:t> is used for both 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p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  <a:ea typeface="굴림"/>
              </a:rPr>
              <a:t> and 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q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  <a:ea typeface="굴림"/>
              </a:rPr>
              <a:t> even when structure on sides of block boundary is differen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  <a:ea typeface="굴림"/>
              </a:rPr>
              <a:t>	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  <a:ea typeface="굴림"/>
              </a:rPr>
              <a:t>Modifying 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p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0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  <a:ea typeface="굴림"/>
              </a:rPr>
              <a:t> with </a:t>
            </a:r>
            <a:r>
              <a:rPr b="0" lang="en-GB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  <a:ea typeface="굴림"/>
              </a:rPr>
              <a:t> and 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p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1 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  <a:ea typeface="굴림"/>
              </a:rPr>
              <a:t>with </a:t>
            </a:r>
            <a:r>
              <a:rPr b="0" lang="en-GB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  <a:ea typeface="굴림"/>
              </a:rPr>
              <a:t>/2 does not provide strong enough low-pass filtering in some case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246640" y="1403280"/>
            <a:ext cx="3581280" cy="2633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094520" y="1303200"/>
            <a:ext cx="0" cy="274644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85720" y="211068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p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54000" y="167256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p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24080" y="126756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p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28800" y="335700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q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41640" y="311400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q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02000" y="288864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q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Modifications of current HEVC deblocking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5560" y="1359000"/>
            <a:ext cx="8351640" cy="36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7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58585a"/>
                </a:solidFill>
                <a:latin typeface="Arial"/>
              </a:rPr>
              <a:t>Different calculations of </a:t>
            </a:r>
            <a:r>
              <a:rPr b="0" lang="en-GB" sz="28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en-GB" sz="2800" spc="-1" strike="noStrike">
                <a:solidFill>
                  <a:srgbClr val="58585a"/>
                </a:solidFill>
                <a:latin typeface="Arial"/>
                <a:ea typeface="굴림"/>
              </a:rPr>
              <a:t> values</a:t>
            </a:r>
            <a:endParaRPr b="0" lang="en-US" sz="2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7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85a"/>
                </a:solidFill>
                <a:latin typeface="Arial"/>
              </a:rPr>
              <a:t>Filtering constraints </a:t>
            </a:r>
            <a:endParaRPr b="0" lang="en-US" sz="2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7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85a"/>
                </a:solidFill>
                <a:latin typeface="Arial"/>
              </a:rPr>
              <a:t>Adjustments of β and t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58585a"/>
                </a:solidFill>
                <a:latin typeface="Arial"/>
              </a:rPr>
              <a:t> values</a:t>
            </a:r>
            <a:endParaRPr b="0" lang="en-US" sz="2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7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85a"/>
                </a:solidFill>
                <a:latin typeface="Arial"/>
              </a:rPr>
              <a:t>The proposed modifications do not change the current deblocking framework</a:t>
            </a:r>
            <a:endParaRPr b="0" lang="en-US" sz="2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Filter description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989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10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 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= ( 9(q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0</a:t>
            </a:r>
            <a:r>
              <a:rPr b="0" lang="fr-FR" sz="1400" spc="-1" strike="noStrike">
                <a:solidFill>
                  <a:srgbClr val="58585a"/>
                </a:solidFill>
                <a:latin typeface="Arial"/>
                <a:ea typeface="굴림"/>
              </a:rPr>
              <a:t> 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- p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0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) - 3(q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fr-FR" sz="1400" spc="-1" strike="noStrike">
                <a:solidFill>
                  <a:srgbClr val="58585a"/>
                </a:solidFill>
                <a:latin typeface="Arial"/>
                <a:ea typeface="굴림"/>
              </a:rPr>
              <a:t> 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- p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) ) /16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p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0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’ = p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0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 + </a:t>
            </a:r>
            <a:r>
              <a:rPr b="0" lang="fr-FR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q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0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’ = q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0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 - </a:t>
            </a:r>
            <a:r>
              <a:rPr b="0" lang="fr-FR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  <a:ea typeface="굴림"/>
              </a:rPr>
              <a:t> = (p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  <a:ea typeface="굴림"/>
              </a:rPr>
              <a:t>0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  <a:ea typeface="굴림"/>
              </a:rPr>
              <a:t> - 2p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  <a:ea typeface="굴림"/>
              </a:rPr>
              <a:t>+ p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  <a:ea typeface="굴림"/>
              </a:rPr>
              <a:t>2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  <a:ea typeface="굴림"/>
              </a:rPr>
              <a:t> + 2</a:t>
            </a:r>
            <a:r>
              <a:rPr b="0" lang="en-US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  <a:ea typeface="굴림"/>
              </a:rPr>
              <a:t>)/4;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p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’ = p</a:t>
            </a:r>
            <a:r>
              <a:rPr b="0" lang="fr-FR" sz="14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 + </a:t>
            </a:r>
            <a:r>
              <a:rPr b="0" lang="fr-FR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fr-FR" sz="1400" spc="-1" strike="noStrike">
                <a:solidFill>
                  <a:srgbClr val="58585a"/>
                </a:solidFill>
                <a:latin typeface="Arial"/>
                <a:ea typeface="굴림"/>
              </a:rPr>
              <a:t>p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fr-FR" sz="1400" spc="-1" strike="noStrike">
                <a:solidFill>
                  <a:srgbClr val="58585a"/>
                </a:solidFill>
                <a:latin typeface="Arial"/>
                <a:ea typeface="굴림"/>
              </a:rPr>
              <a:t>q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 = (q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0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 - 2q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fr-FR" sz="1400" spc="-1" strike="noStrike">
                <a:solidFill>
                  <a:srgbClr val="58585a"/>
                </a:solidFill>
                <a:latin typeface="Arial"/>
                <a:ea typeface="굴림"/>
              </a:rPr>
              <a:t> 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+ q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2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 - 2</a:t>
            </a:r>
            <a:r>
              <a:rPr b="0" lang="fr-FR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)/4;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q</a:t>
            </a:r>
            <a:r>
              <a:rPr b="0" lang="fr-FR" sz="14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’ = q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 + </a:t>
            </a:r>
            <a:r>
              <a:rPr b="0" lang="fr-FR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fr-FR" sz="1400" spc="-1" strike="noStrike">
                <a:solidFill>
                  <a:srgbClr val="58585a"/>
                </a:solidFill>
                <a:latin typeface="Arial"/>
                <a:ea typeface="굴림"/>
              </a:rPr>
              <a:t>q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2000" y="1223640"/>
            <a:ext cx="4100760" cy="2097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585a"/>
                </a:solidFill>
                <a:latin typeface="Arial"/>
              </a:rPr>
              <a:t>Filter features: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Different </a:t>
            </a:r>
            <a:r>
              <a:rPr b="0" lang="en-US" sz="18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 values for 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  <a:ea typeface="굴림"/>
              </a:rPr>
              <a:t>p</a:t>
            </a:r>
            <a:r>
              <a:rPr b="0" lang="en-US" sz="10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 and </a:t>
            </a:r>
            <a:r>
              <a:rPr b="0" lang="fr-FR" sz="1800" spc="-1" strike="noStrike">
                <a:solidFill>
                  <a:srgbClr val="58585a"/>
                </a:solidFill>
                <a:latin typeface="Arial"/>
                <a:ea typeface="굴림"/>
              </a:rPr>
              <a:t>q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3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Stronger low-pass filtering (smoothing) at 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  <a:ea typeface="굴림"/>
              </a:rPr>
              <a:t>p</a:t>
            </a:r>
            <a:r>
              <a:rPr b="0" lang="en-US" sz="10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 and </a:t>
            </a:r>
            <a:r>
              <a:rPr b="0" lang="fr-FR" sz="1800" spc="-1" strike="noStrike">
                <a:solidFill>
                  <a:srgbClr val="58585a"/>
                </a:solidFill>
                <a:latin typeface="Arial"/>
                <a:ea typeface="굴림"/>
              </a:rPr>
              <a:t>q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Pixels are NOT modified if 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  <a:ea typeface="굴림"/>
              </a:rPr>
              <a:t>p</a:t>
            </a:r>
            <a:r>
              <a:rPr b="0" lang="en-US" sz="1000" spc="-1" strike="noStrike">
                <a:solidFill>
                  <a:srgbClr val="58585a"/>
                </a:solidFill>
                <a:latin typeface="Arial"/>
                <a:ea typeface="굴림"/>
              </a:rPr>
              <a:t>2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...</a:t>
            </a:r>
            <a:r>
              <a:rPr b="0" lang="fr-FR" sz="1800" spc="-1" strike="noStrike">
                <a:solidFill>
                  <a:srgbClr val="58585a"/>
                </a:solidFill>
                <a:latin typeface="Arial"/>
                <a:ea typeface="굴림"/>
              </a:rPr>
              <a:t>p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  <a:ea typeface="굴림"/>
              </a:rPr>
              <a:t>0,</a:t>
            </a:r>
            <a:r>
              <a:rPr b="0" lang="fr-FR" sz="1800" spc="-1" strike="noStrike">
                <a:solidFill>
                  <a:srgbClr val="58585a"/>
                </a:solidFill>
                <a:latin typeface="Arial"/>
                <a:ea typeface="굴림"/>
              </a:rPr>
              <a:t>q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  <a:ea typeface="굴림"/>
              </a:rPr>
              <a:t>0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...</a:t>
            </a:r>
            <a:r>
              <a:rPr b="0" lang="fr-FR" sz="1800" spc="-1" strike="noStrike">
                <a:solidFill>
                  <a:srgbClr val="58585a"/>
                </a:solidFill>
                <a:latin typeface="Arial"/>
                <a:ea typeface="굴림"/>
              </a:rPr>
              <a:t>q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  <a:ea typeface="굴림"/>
              </a:rPr>
              <a:t>2  </a:t>
            </a:r>
            <a:r>
              <a:rPr b="0" lang="fr-FR" sz="1800" spc="-1" strike="noStrike">
                <a:solidFill>
                  <a:srgbClr val="58585a"/>
                </a:solidFill>
                <a:latin typeface="Arial"/>
                <a:ea typeface="굴림"/>
              </a:rPr>
              <a:t>lie on the same line (like in HEVC deblocking)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797360" y="3564000"/>
            <a:ext cx="3781440" cy="2970000"/>
            <a:chOff x="4797360" y="3564000"/>
            <a:chExt cx="3781440" cy="297000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4797360" y="3698640"/>
              <a:ext cx="3781440" cy="28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732720" y="3564000"/>
              <a:ext cx="0" cy="297000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23080" y="5115600"/>
              <a:ext cx="3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58585a"/>
                  </a:solidFill>
                  <a:latin typeface="Arial"/>
                </a:rPr>
                <a:t>p</a:t>
              </a:r>
              <a:r>
                <a:rPr b="0" lang="fr-FR" sz="1000" spc="-1" strike="noStrike">
                  <a:solidFill>
                    <a:srgbClr val="58585a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58585a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27000" y="4821840"/>
              <a:ext cx="3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58585a"/>
                  </a:solidFill>
                  <a:latin typeface="Arial"/>
                </a:rPr>
                <a:t>p</a:t>
              </a:r>
              <a:r>
                <a:rPr b="0" lang="fr-FR" sz="1000" spc="-1" strike="noStrike">
                  <a:solidFill>
                    <a:srgbClr val="58585a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58585a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67000" y="4867920"/>
              <a:ext cx="3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58585a"/>
                  </a:solidFill>
                  <a:latin typeface="Arial"/>
                </a:rPr>
                <a:t>q</a:t>
              </a:r>
              <a:r>
                <a:rPr b="0" lang="fr-FR" sz="1000" spc="-1" strike="noStrike">
                  <a:solidFill>
                    <a:srgbClr val="58585a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58585a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73440" y="4552200"/>
              <a:ext cx="3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58585a"/>
                  </a:solidFill>
                  <a:latin typeface="Arial"/>
                </a:rPr>
                <a:t>q</a:t>
              </a:r>
              <a:r>
                <a:rPr b="0" lang="fr-FR" sz="1000" spc="-1" strike="noStrike">
                  <a:solidFill>
                    <a:srgbClr val="58585a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58585a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78080" y="4237920"/>
              <a:ext cx="3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58585a"/>
                  </a:solidFill>
                  <a:latin typeface="Arial"/>
                </a:rPr>
                <a:t>q</a:t>
              </a:r>
              <a:r>
                <a:rPr b="0" lang="fr-FR" sz="1000" spc="-1" strike="noStrike">
                  <a:solidFill>
                    <a:srgbClr val="58585a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58585a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73080" y="5452200"/>
              <a:ext cx="3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58585a"/>
                  </a:solidFill>
                  <a:latin typeface="Arial"/>
                </a:rPr>
                <a:t>p</a:t>
              </a:r>
              <a:r>
                <a:rPr b="0" lang="fr-FR" sz="1000" spc="-1" strike="noStrike">
                  <a:solidFill>
                    <a:srgbClr val="58585a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58585a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Filtering constraints (1)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10" name="Content_SM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4275000" cy="3200400"/>
          </a:xfrm>
          <a:prstGeom prst="rect">
            <a:avLst/>
          </a:prstGeom>
          <a:ln w="0">
            <a:noFill/>
          </a:ln>
        </p:spPr>
      </p:pic>
      <p:pic>
        <p:nvPicPr>
          <p:cNvPr id="111" name="Content_SM" descr=""/>
          <p:cNvPicPr/>
          <p:nvPr/>
        </p:nvPicPr>
        <p:blipFill>
          <a:blip r:embed="rId2"/>
          <a:stretch/>
        </p:blipFill>
        <p:spPr>
          <a:xfrm>
            <a:off x="4346640" y="3068640"/>
            <a:ext cx="4797360" cy="3235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57360" y="1494000"/>
            <a:ext cx="4454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odify p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and q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58585a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bs(</a:t>
            </a:r>
            <a:r>
              <a:rPr b="0" lang="en-US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) &gt; thr1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58585a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67360" y="1494000"/>
            <a:ext cx="333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bs(</a:t>
            </a:r>
            <a:r>
              <a:rPr b="0" lang="en-US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) &lt; thr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45560" y="450792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q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85560" y="419328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q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0560" y="392364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q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96280" y="491436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p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45560" y="522864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p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96280" y="549828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p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57360" y="2933640"/>
            <a:ext cx="0" cy="337500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21640" y="2933640"/>
            <a:ext cx="0" cy="337500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6280" y="396792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p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31640" y="342828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p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27000" y="293292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p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01640" y="549828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q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497000" y="518400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q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92360" y="491436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q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3840" y="77400"/>
            <a:ext cx="7826400" cy="9752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Filtering constraints (2): less filtering for smaller block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57360" y="1494000"/>
            <a:ext cx="794196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Less filtering for smaller block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Number of modified pixels from the block boundary for different block sizes: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1 pixel for blocks of size 4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2 pixels for size 8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2 or 3 pixels for size 16 and larger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3840" y="77400"/>
            <a:ext cx="7826400" cy="9752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ompression performance Random acces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96720" y="1376280"/>
          <a:ext cx="8351640" cy="4284360"/>
        </p:xfrm>
        <a:graphic>
          <a:graphicData uri="http://schemas.openxmlformats.org/drawingml/2006/table">
            <a:tbl>
              <a:tblPr/>
              <a:tblGrid>
                <a:gridCol w="1342080"/>
                <a:gridCol w="897840"/>
                <a:gridCol w="1446120"/>
                <a:gridCol w="897840"/>
                <a:gridCol w="897840"/>
                <a:gridCol w="1971720"/>
                <a:gridCol w="898200"/>
              </a:tblGrid>
              <a:tr h="753120">
                <a:tc rowSpan="2"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Random access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Random access LoCo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Class A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1.8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4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3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1.4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5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4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2240"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Class B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1.1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5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6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1.1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5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6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320"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Class C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9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5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5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8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5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5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2960"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Class D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7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3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3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6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7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3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2600"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Class 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63320"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All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1.0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5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5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9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5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4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ompression performance Low delay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96720" y="1376280"/>
          <a:ext cx="8351640" cy="4284000"/>
        </p:xfrm>
        <a:graphic>
          <a:graphicData uri="http://schemas.openxmlformats.org/drawingml/2006/table">
            <a:tbl>
              <a:tblPr/>
              <a:tblGrid>
                <a:gridCol w="1342080"/>
                <a:gridCol w="897840"/>
                <a:gridCol w="1446120"/>
                <a:gridCol w="897840"/>
                <a:gridCol w="897840"/>
                <a:gridCol w="1971720"/>
                <a:gridCol w="898200"/>
              </a:tblGrid>
              <a:tr h="496800"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Low delay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Low delay LoCo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840"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Class A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96800"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Class B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1.6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5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7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1.7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3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3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Class C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1.4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1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2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1.3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1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1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080"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Class D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9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4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3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1.2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1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1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Class 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3.7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4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5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2.8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6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7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All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1.8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4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4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1.7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2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marL="176040" indent="-17604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-0.3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8:28Z</dcterms:created>
  <dc:creator>Andrey Norkin</dc:creator>
  <dc:description>Rev PA1</dc:description>
  <cp:keywords/>
  <dc:language>en-US</dc:language>
  <cp:lastModifiedBy>Andrey Norkin</cp:lastModifiedBy>
  <dcterms:modified xsi:type="dcterms:W3CDTF">2011-01-24T05:40:07Z</dcterms:modified>
  <cp:revision>37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0-10-07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0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>© Ericsson AB 2010</vt:lpwstr>
  </property>
  <property fmtid="{D5CDD505-2E9C-101B-9397-08002B2CF9AE}" pid="13" name="MiddleFooterField">
    <vt:lpwstr>Public</vt:lpwstr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>Andrey Norkin</vt:lpwstr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/>
  </property>
  <property fmtid="{D5CDD505-2E9C-101B-9397-08002B2CF9AE}" pid="21" name="RightFooterField2">
    <vt:lpwstr>2010-10-07</vt:lpwstr>
  </property>
  <property fmtid="{D5CDD505-2E9C-101B-9397-08002B2CF9AE}" pid="22" name="SecurityClass">
    <vt:lpwstr>Public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/>
  </property>
  <property fmtid="{D5CDD505-2E9C-101B-9397-08002B2CF9AE}" pid="28" name="TotalNumb">
    <vt:bool>0</vt:bool>
  </property>
  <property fmtid="{D5CDD505-2E9C-101B-9397-08002B2CF9AE}" pid="29" name="UsedFont">
    <vt:lpwstr>Arial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0</vt:bool>
  </property>
  <property fmtid="{D5CDD505-2E9C-101B-9397-08002B2CF9AE}" pid="34" name="optEnterText2">
    <vt:bool>0</vt:bool>
  </property>
  <property fmtid="{D5CDD505-2E9C-101B-9397-08002B2CF9AE}" pid="35" name="optEnterText3">
    <vt:bool>0</vt:bool>
  </property>
  <property fmtid="{D5CDD505-2E9C-101B-9397-08002B2CF9AE}" pid="36" name="optEnterText4">
    <vt:bool>0</vt:bool>
  </property>
  <property fmtid="{D5CDD505-2E9C-101B-9397-08002B2CF9AE}" pid="37" name="optFooterCVLConfLabel">
    <vt:bool>1</vt:bool>
  </property>
  <property fmtid="{D5CDD505-2E9C-101B-9397-08002B2CF9AE}" pid="38" name="optFooterCVLCopyright">
    <vt:bool>1</vt:bool>
  </property>
  <property fmtid="{D5CDD505-2E9C-101B-9397-08002B2CF9AE}" pid="39" name="optFooterCVLDate">
    <vt:bool>1</vt:bool>
  </property>
  <property fmtid="{D5CDD505-2E9C-101B-9397-08002B2CF9AE}" pid="40" name="optFooterCVLDocNo">
    <vt:bool>0</vt:bool>
  </property>
  <property fmtid="{D5CDD505-2E9C-101B-9397-08002B2CF9AE}" pid="41" name="optFooterCVLPrep">
    <vt:bool>0</vt:bool>
  </property>
  <property fmtid="{D5CDD505-2E9C-101B-9397-08002B2CF9AE}" pid="42" name="optFooterCVLTitle">
    <vt:bool>1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Public</vt:lpwstr>
  </property>
  <property fmtid="{D5CDD505-2E9C-101B-9397-08002B2CF9AE}" pid="46" name="x">
    <vt:lpwstr>1</vt:lpwstr>
  </property>
</Properties>
</file>