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975E-587D-42B9-9651-093E3464E0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3F47-1948-4601-835E-CDD231354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9166-62D5-4B4C-905E-FCD6F8C6C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A495-7771-4DC0-82C9-32E28E35E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BEB7-0E61-41D5-AA41-AB5C57E63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5366-C37A-47CA-9BE5-C11E329CD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C8AC-DF6B-4A57-B836-A72CAD815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B07D-9D23-4A06-A004-A098FA047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5672-082C-4F57-9A46-E5F8A3AE2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7555-0DDE-4B81-A8E3-E7B93031A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D47E-F192-4B7E-8B05-8F8C3441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DB90-BB90-4469-88E9-A006BB198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57AA-A7C0-4EB3-9783-B416C82E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9988-F8F6-4607-BE6B-9C8B9D934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31F-3C4D-4E5A-A073-4505B0F28DAE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amsung Electronics Co.,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1440" y="1066320"/>
            <a:ext cx="71262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JCTVC-D365</a:t>
            </a:r>
            <a:br>
              <a:rPr sz="3200"/>
            </a:br>
            <a:r>
              <a:rPr b="1" lang="en-GB" sz="3200" spc="-1" strike="noStrike">
                <a:solidFill>
                  <a:srgbClr val="2d2db9"/>
                </a:solidFill>
                <a:latin typeface="Tahoma"/>
                <a:ea typeface="HY헤드라인M"/>
              </a:rPr>
              <a:t>Fast Integer Transforms for the HM, and Complexity Analysi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ung Electronics Co.,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VDO L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"/>
          <p:cNvSpPr/>
          <p:nvPr/>
        </p:nvSpPr>
        <p:spPr>
          <a:xfrm>
            <a:off x="252360" y="3573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ults: new integer transform with simplified quant/de-quant matri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Object 5"/>
          <p:cNvGraphicFramePr/>
          <p:nvPr/>
        </p:nvGraphicFramePr>
        <p:xfrm>
          <a:off x="2281320" y="993600"/>
          <a:ext cx="458136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993600"/>
                    <a:ext cx="458136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sults: new integer transform with lif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7"/>
          <p:cNvGraphicFramePr/>
          <p:nvPr/>
        </p:nvGraphicFramePr>
        <p:xfrm>
          <a:off x="2411280" y="981000"/>
          <a:ext cx="427680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981000"/>
                    <a:ext cx="42768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presented 3 variants which improve current transform in 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맑은 고딕"/>
              </a:rPr>
              <a:t>Simplified quant/de-quant matrices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맑은 고딕"/>
              </a:rPr>
              <a:t>New integer transform with simplified quant/de-quant matrices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맑은 고딕"/>
              </a:rPr>
              <a:t>New integer transform with lifting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marL="325800" indent="-3258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rimental results show that all 3 variants do not significantly change the performance while reducing the complex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therefore propos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맑은 고딕"/>
              </a:rPr>
              <a:t>Adoption of simplification of quantization and de-quantization matrices to the current HM 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맑은 고딕"/>
              </a:rPr>
              <a:t>As a next step, creation of CE to investigate those issues in detail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marL="325800" indent="-32580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urrent HM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16x16, 32x32, 64x64 integer transform based on Chen’s fast DCT algorithm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ontribution pres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1) Simplified quant/de-quant matrices of HM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2) New integer transform with simplified quant/de-quant matrices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3) New integer transform with lifting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fication of quant/de-quant matr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urrent 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6 quantization and 6 de-quantization matrices which have same size with input block 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To compensate differences introduced by incorporating scaling into inverse quantization steps. 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Each quant/de-quant matrices are replaced as a scalar value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No significant loss is introduced by this simplification. 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w integer transform with simplified quant/de-quant matrices (1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flow graph for new 32-point trans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맑은 고딕"/>
              </a:rPr>
              <a:t>Proposed in JCTVC-C209, Geneva meeting</a:t>
            </a:r>
            <a:endParaRPr b="0" lang="en-US" sz="2200" spc="-1" strike="noStrike">
              <a:solidFill>
                <a:srgbClr val="000066"/>
              </a:solidFill>
              <a:latin typeface="맑은 고딕"/>
            </a:endParaRPr>
          </a:p>
        </p:txBody>
      </p:sp>
      <p:pic>
        <p:nvPicPr>
          <p:cNvPr id="98" name="Picture 2" descr="flowgraph32x32_final"/>
          <p:cNvPicPr/>
          <p:nvPr/>
        </p:nvPicPr>
        <p:blipFill>
          <a:blip r:embed="rId1"/>
          <a:stretch/>
        </p:blipFill>
        <p:spPr>
          <a:xfrm>
            <a:off x="900000" y="1955880"/>
            <a:ext cx="720108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w integer transform with simplified quant/de-quant matrices (2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approximation of sinuso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All cosine and sine values are approximated to the type of </a:t>
            </a:r>
            <a:r>
              <a:rPr b="0" i="1" lang="en-US" sz="2400" spc="-1" strike="noStrike">
                <a:solidFill>
                  <a:srgbClr val="000066"/>
                </a:solidFill>
                <a:latin typeface="맑은 고딕"/>
              </a:rPr>
              <a:t>q/2</a:t>
            </a:r>
            <a:r>
              <a:rPr b="0" i="1" lang="en-US" sz="2400" spc="-1" strike="noStrike" baseline="30000">
                <a:solidFill>
                  <a:srgbClr val="000066"/>
                </a:solidFill>
                <a:latin typeface="맑은 고딕"/>
              </a:rPr>
              <a:t>p</a:t>
            </a: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 (dyadic rationals)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맑은 고딕"/>
              </a:rPr>
              <a:t>P</a:t>
            </a:r>
            <a:r>
              <a:rPr b="0" i="1" lang="en-US" sz="2400" spc="-1" strike="noStrike">
                <a:solidFill>
                  <a:srgbClr val="000066"/>
                </a:solidFill>
                <a:latin typeface="맑은 고딕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controls dynamic range and coding gain of transform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ing f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Integrated into the quantization step to reduce the number of operations.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ew integer transform with liftin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ting implementation of new integer trans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맑은 고딕"/>
              </a:rPr>
              <a:t>Bi-orthogonal</a:t>
            </a: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맑은 고딕"/>
              </a:rPr>
              <a:t>Invertible</a:t>
            </a: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맑은 고딕"/>
              </a:rPr>
              <a:t>Less number of multiplication</a:t>
            </a: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-fre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맑은 고딕"/>
              </a:rPr>
              <a:t>Factorization of multiplication into add and shift only</a:t>
            </a: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맑은 고딕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mplexity: number of oper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ison to transforms in 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06480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mplexity: dynamic rang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rix norm-based est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Maximum column/row sum norm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Increment of dynamic range after 16-point and 32-point transform is </a:t>
            </a:r>
            <a:r>
              <a:rPr b="1" lang="en-US" sz="2400" spc="-1" strike="noStrike">
                <a:solidFill>
                  <a:srgbClr val="000066"/>
                </a:solidFill>
                <a:latin typeface="맑은 고딕"/>
              </a:rPr>
              <a:t>within 4 and 5 bit </a:t>
            </a:r>
            <a:r>
              <a:rPr b="0" lang="en-US" sz="2400" spc="-1" strike="noStrike">
                <a:solidFill>
                  <a:srgbClr val="000066"/>
                </a:solidFill>
                <a:latin typeface="맑은 고딕"/>
              </a:rPr>
              <a:t>for both HM’s and proposed transform, respectively. </a:t>
            </a:r>
            <a:endParaRPr b="0" lang="en-US" sz="24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1280" y="4005360"/>
          <a:ext cx="8281800" cy="1328760"/>
        </p:xfrm>
        <a:graphic>
          <a:graphicData uri="http://schemas.openxmlformats.org/drawingml/2006/table">
            <a:tbl>
              <a:tblPr/>
              <a:tblGrid>
                <a:gridCol w="1998720"/>
                <a:gridCol w="1012680"/>
                <a:gridCol w="1128600"/>
                <a:gridCol w="1055880"/>
                <a:gridCol w="873000"/>
                <a:gridCol w="1069920"/>
                <a:gridCol w="1143000"/>
              </a:tblGrid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 16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16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16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lif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 32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32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32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lif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2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column sum n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 row sum n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sults: simplified quant/de-quant matr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2286000" y="922320"/>
          <a:ext cx="457200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22320"/>
                    <a:ext cx="45720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7:58:00Z</dcterms:created>
  <dc:creator>Il-Koo Kim</dc:creator>
  <dc:description/>
  <dc:language>en-US</dc:language>
  <cp:lastModifiedBy>ilkoo kim</cp:lastModifiedBy>
  <dcterms:modified xsi:type="dcterms:W3CDTF">2011-01-22T03:13:39Z</dcterms:modified>
  <cp:revision>156</cp:revision>
  <dc:subject/>
  <dc:title>JCTVC-C209 Low-complexity 16x16 and 32x32 transforms and partial frequency transform</dc:title>
</cp:coreProperties>
</file>