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wmf" ContentType="image/x-wmf"/>
  <Override PartName="/ppt/media/image8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FrutigerNext LT Regular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dt" idx="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FrutigerNext LT Medium"/>
              </a:rPr>
              <a:t>Click to move the slide</a:t>
            </a: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 type="ftr" idx="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6"/>
          <p:cNvSpPr>
            <a:spLocks noGrp="1"/>
          </p:cNvSpPr>
          <p:nvPr>
            <p:ph type="sldNum" idx="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F76B0-274B-41A9-8CE9-4BC24FF31B1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9929A-B27E-4CA3-B9A3-43CC43523E4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FrutigerNext LT Regular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252B5-ABA9-4982-8A75-96EF6C173BF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FrutigerNext LT Regular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9" descr="dd"/>
          <p:cNvPicPr/>
          <p:nvPr/>
        </p:nvPicPr>
        <p:blipFill>
          <a:blip r:embed="rId2"/>
          <a:stretch/>
        </p:blipFill>
        <p:spPr>
          <a:xfrm>
            <a:off x="0" y="6224760"/>
            <a:ext cx="9150480" cy="636480"/>
          </a:xfrm>
          <a:prstGeom prst="rect">
            <a:avLst/>
          </a:prstGeom>
          <a:ln w="0">
            <a:noFill/>
          </a:ln>
        </p:spPr>
      </p:pic>
      <p:pic>
        <p:nvPicPr>
          <p:cNvPr id="1" name="Picture 9" descr="8"/>
          <p:cNvPicPr/>
          <p:nvPr/>
        </p:nvPicPr>
        <p:blipFill>
          <a:blip r:embed="rId3"/>
          <a:stretch/>
        </p:blipFill>
        <p:spPr>
          <a:xfrm>
            <a:off x="7508880" y="6399360"/>
            <a:ext cx="1311120" cy="312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6360840" y="6489720"/>
            <a:ext cx="209700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FrutigerNext LT Bold"/>
              </a:defRPr>
            </a:lvl1pPr>
          </a:lstStyle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Bold"/>
              </a:rPr>
              <a:t>Page </a:t>
            </a:r>
            <a:fld id="{3CC10758-6496-4A38-AF3C-BDAF95F06624}" type="slidenum">
              <a:rPr b="0" lang="de-DE" sz="1200" spc="-1" strike="noStrike">
                <a:solidFill>
                  <a:srgbClr val="000000"/>
                </a:solidFill>
                <a:latin typeface="FrutigerNext LT Bol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FrutigerNext LT Medium"/>
              </a:rPr>
              <a:t>Click to edit the title text format</a:t>
            </a: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4" name="Rectangle 22"/>
          <p:cNvSpPr/>
          <p:nvPr/>
        </p:nvSpPr>
        <p:spPr>
          <a:xfrm>
            <a:off x="-1908000" y="528480"/>
            <a:ext cx="1844640" cy="53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英文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32-35pt  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 R153 G0 B0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内部使用字体 </a:t>
            </a:r>
            <a:r>
              <a:rPr b="0" lang="en-US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: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FrutigerNext LT Medium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外部使用字体 </a:t>
            </a:r>
            <a:r>
              <a:rPr b="0" lang="en-US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: Arial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7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中文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30-32pt  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 R153 G0 B0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黑体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英文正文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20-22pt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子目录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(2-5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级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) :18pt  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黑色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内部使用字体 </a:t>
            </a:r>
            <a:r>
              <a:rPr b="0" lang="en-US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: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FrutigerNext LT Regular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外部使用字体 </a:t>
            </a:r>
            <a:r>
              <a:rPr b="0" lang="en-US" sz="1100" spc="-1" strike="noStrike">
                <a:solidFill>
                  <a:srgbClr val="ffffff"/>
                </a:solidFill>
                <a:latin typeface="FrutigerNext LT Regular"/>
                <a:ea typeface="华文细黑"/>
              </a:rPr>
              <a:t>: Arial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7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中文正文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18-20pt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子目录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(2-5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级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):18pt 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黑色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细黑体 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</p:txBody>
      </p:sp>
      <p:sp>
        <p:nvSpPr>
          <p:cNvPr id="5" name="Rectangle 62"/>
          <p:cNvSpPr/>
          <p:nvPr/>
        </p:nvSpPr>
        <p:spPr>
          <a:xfrm>
            <a:off x="9199440" y="1424160"/>
            <a:ext cx="1049400" cy="200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配色参考方案：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>
              <a:lnSpc>
                <a:spcPct val="12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建议同一页面内不超过四种颜色，以下是</a:t>
            </a:r>
            <a:r>
              <a:rPr b="0" lang="en-US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13</a:t>
            </a: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组配色方案，同一页面内只选择一组使用。（仅供参考）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>
              <a:lnSpc>
                <a:spcPct val="125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>
              <a:lnSpc>
                <a:spcPct val="125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</p:txBody>
      </p:sp>
      <p:sp>
        <p:nvSpPr>
          <p:cNvPr id="6" name="Rectangle 65"/>
          <p:cNvSpPr/>
          <p:nvPr/>
        </p:nvSpPr>
        <p:spPr>
          <a:xfrm>
            <a:off x="9199440" y="-61920"/>
            <a:ext cx="1049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客户或者合作伙伴的标志放在右上角</a:t>
            </a:r>
            <a:r>
              <a:rPr b="0" lang="en-US" sz="1100" spc="-1" strike="noStrike">
                <a:solidFill>
                  <a:srgbClr val="ffffff"/>
                </a:solidFill>
                <a:latin typeface="华文细黑"/>
                <a:ea typeface="华文细黑"/>
              </a:rPr>
              <a:t>.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>
              <a:lnSpc>
                <a:spcPct val="125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>
              <a:lnSpc>
                <a:spcPct val="125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body"/>
          </p:nvPr>
        </p:nvSpPr>
        <p:spPr>
          <a:xfrm>
            <a:off x="651960" y="1641600"/>
            <a:ext cx="792972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2320" indent="-2505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2" marL="1003320" indent="-20160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3" marL="1401840" indent="-200160">
              <a:lnSpc>
                <a:spcPct val="140000"/>
              </a:lnSpc>
              <a:buClr>
                <a:srgbClr val="000000"/>
              </a:buClr>
              <a:buFont typeface="FrutigerNext LT Medium"/>
              <a:buChar char="–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4" marL="1803240" indent="-2016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5" marL="1803240" indent="-2016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6" marL="1803240" indent="-2016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8" name="Rectangle 80"/>
          <p:cNvSpPr/>
          <p:nvPr/>
        </p:nvSpPr>
        <p:spPr>
          <a:xfrm>
            <a:off x="9269280" y="3429000"/>
            <a:ext cx="919440" cy="3490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FrutigerNext LT Regular"/>
            </a:endParaRPr>
          </a:p>
        </p:txBody>
      </p:sp>
      <p:grpSp>
        <p:nvGrpSpPr>
          <p:cNvPr id="9" name="Group 81"/>
          <p:cNvGrpSpPr/>
          <p:nvPr/>
        </p:nvGrpSpPr>
        <p:grpSpPr>
          <a:xfrm>
            <a:off x="9354960" y="3789000"/>
            <a:ext cx="739800" cy="182520"/>
            <a:chOff x="9354960" y="3789000"/>
            <a:chExt cx="739800" cy="182520"/>
          </a:xfrm>
        </p:grpSpPr>
        <p:sp>
          <p:nvSpPr>
            <p:cNvPr id="10" name="Rectangle 82"/>
            <p:cNvSpPr/>
            <p:nvPr/>
          </p:nvSpPr>
          <p:spPr>
            <a:xfrm flipV="1">
              <a:off x="9540720" y="3788640"/>
              <a:ext cx="184320" cy="18252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11" name="Rectangle 83"/>
            <p:cNvSpPr/>
            <p:nvPr/>
          </p:nvSpPr>
          <p:spPr>
            <a:xfrm flipV="1">
              <a:off x="9725040" y="3788640"/>
              <a:ext cx="183960" cy="182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12" name="Rectangle 84"/>
            <p:cNvSpPr/>
            <p:nvPr/>
          </p:nvSpPr>
          <p:spPr>
            <a:xfrm flipV="1">
              <a:off x="9909000" y="3788640"/>
              <a:ext cx="185760" cy="182520"/>
            </a:xfrm>
            <a:prstGeom prst="rect">
              <a:avLst/>
            </a:prstGeom>
            <a:solidFill>
              <a:srgbClr val="9966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13" name="Rectangle 85"/>
            <p:cNvSpPr/>
            <p:nvPr/>
          </p:nvSpPr>
          <p:spPr>
            <a:xfrm flipV="1">
              <a:off x="9354960" y="3788640"/>
              <a:ext cx="185760" cy="1825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</p:grpSp>
      <p:grpSp>
        <p:nvGrpSpPr>
          <p:cNvPr id="14" name="Group 86"/>
          <p:cNvGrpSpPr/>
          <p:nvPr/>
        </p:nvGrpSpPr>
        <p:grpSpPr>
          <a:xfrm>
            <a:off x="9354960" y="4005000"/>
            <a:ext cx="739800" cy="182520"/>
            <a:chOff x="9354960" y="4005000"/>
            <a:chExt cx="739800" cy="182520"/>
          </a:xfrm>
        </p:grpSpPr>
        <p:sp>
          <p:nvSpPr>
            <p:cNvPr id="15" name="Rectangle 87"/>
            <p:cNvSpPr/>
            <p:nvPr/>
          </p:nvSpPr>
          <p:spPr>
            <a:xfrm flipV="1">
              <a:off x="9540720" y="4004640"/>
              <a:ext cx="184320" cy="1825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16" name="Rectangle 88"/>
            <p:cNvSpPr/>
            <p:nvPr/>
          </p:nvSpPr>
          <p:spPr>
            <a:xfrm flipV="1">
              <a:off x="9725040" y="4004640"/>
              <a:ext cx="183960" cy="182520"/>
            </a:xfrm>
            <a:prstGeom prst="rect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17" name="Rectangle 89"/>
            <p:cNvSpPr/>
            <p:nvPr/>
          </p:nvSpPr>
          <p:spPr>
            <a:xfrm flipV="1">
              <a:off x="9909000" y="4004640"/>
              <a:ext cx="185760" cy="1825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18" name="Rectangle 90"/>
            <p:cNvSpPr/>
            <p:nvPr/>
          </p:nvSpPr>
          <p:spPr>
            <a:xfrm flipV="1">
              <a:off x="9354960" y="4004640"/>
              <a:ext cx="185760" cy="1825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</p:grpSp>
      <p:grpSp>
        <p:nvGrpSpPr>
          <p:cNvPr id="19" name="Group 91"/>
          <p:cNvGrpSpPr/>
          <p:nvPr/>
        </p:nvGrpSpPr>
        <p:grpSpPr>
          <a:xfrm>
            <a:off x="9354960" y="4221000"/>
            <a:ext cx="739800" cy="182880"/>
            <a:chOff x="9354960" y="4221000"/>
            <a:chExt cx="739800" cy="182880"/>
          </a:xfrm>
        </p:grpSpPr>
        <p:sp>
          <p:nvSpPr>
            <p:cNvPr id="20" name="Rectangle 92"/>
            <p:cNvSpPr/>
            <p:nvPr/>
          </p:nvSpPr>
          <p:spPr>
            <a:xfrm flipV="1">
              <a:off x="9540720" y="4221000"/>
              <a:ext cx="184320" cy="182880"/>
            </a:xfrm>
            <a:prstGeom prst="rect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1" name="Rectangle 93"/>
            <p:cNvSpPr/>
            <p:nvPr/>
          </p:nvSpPr>
          <p:spPr>
            <a:xfrm flipV="1">
              <a:off x="9725040" y="4221000"/>
              <a:ext cx="183960" cy="182880"/>
            </a:xfrm>
            <a:prstGeom prst="rect">
              <a:avLst/>
            </a:prstGeom>
            <a:solidFill>
              <a:srgbClr val="00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2" name="Rectangle 94"/>
            <p:cNvSpPr/>
            <p:nvPr/>
          </p:nvSpPr>
          <p:spPr>
            <a:xfrm flipV="1">
              <a:off x="9909000" y="4221000"/>
              <a:ext cx="185760" cy="18288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3" name="Rectangle 95"/>
            <p:cNvSpPr/>
            <p:nvPr/>
          </p:nvSpPr>
          <p:spPr>
            <a:xfrm flipV="1">
              <a:off x="9354960" y="4221000"/>
              <a:ext cx="185760" cy="18288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</p:grpSp>
      <p:grpSp>
        <p:nvGrpSpPr>
          <p:cNvPr id="24" name="Group 96"/>
          <p:cNvGrpSpPr/>
          <p:nvPr/>
        </p:nvGrpSpPr>
        <p:grpSpPr>
          <a:xfrm>
            <a:off x="9354960" y="3573000"/>
            <a:ext cx="739800" cy="189000"/>
            <a:chOff x="9354960" y="3573000"/>
            <a:chExt cx="739800" cy="189000"/>
          </a:xfrm>
        </p:grpSpPr>
        <p:sp>
          <p:nvSpPr>
            <p:cNvPr id="25" name="Rectangle 97"/>
            <p:cNvSpPr/>
            <p:nvPr/>
          </p:nvSpPr>
          <p:spPr>
            <a:xfrm flipV="1">
              <a:off x="9725040" y="3572640"/>
              <a:ext cx="183960" cy="1890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6" name="Rectangle 98"/>
            <p:cNvSpPr/>
            <p:nvPr/>
          </p:nvSpPr>
          <p:spPr>
            <a:xfrm flipV="1">
              <a:off x="9909000" y="3572640"/>
              <a:ext cx="185760" cy="189000"/>
            </a:xfrm>
            <a:prstGeom prst="rect">
              <a:avLst/>
            </a:pr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7" name="Rectangle 99"/>
            <p:cNvSpPr/>
            <p:nvPr/>
          </p:nvSpPr>
          <p:spPr>
            <a:xfrm flipV="1">
              <a:off x="9354960" y="3572640"/>
              <a:ext cx="185760" cy="18900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28" name="Rectangle 100"/>
            <p:cNvSpPr/>
            <p:nvPr/>
          </p:nvSpPr>
          <p:spPr>
            <a:xfrm flipV="1">
              <a:off x="9540720" y="3572640"/>
              <a:ext cx="184320" cy="18900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</p:grpSp>
      <p:grpSp>
        <p:nvGrpSpPr>
          <p:cNvPr id="29" name="Group 101"/>
          <p:cNvGrpSpPr/>
          <p:nvPr/>
        </p:nvGrpSpPr>
        <p:grpSpPr>
          <a:xfrm>
            <a:off x="9354960" y="4581360"/>
            <a:ext cx="739800" cy="182880"/>
            <a:chOff x="9354960" y="4581360"/>
            <a:chExt cx="739800" cy="182880"/>
          </a:xfrm>
        </p:grpSpPr>
        <p:sp>
          <p:nvSpPr>
            <p:cNvPr id="30" name="Rectangle 102"/>
            <p:cNvSpPr/>
            <p:nvPr/>
          </p:nvSpPr>
          <p:spPr>
            <a:xfrm flipV="1">
              <a:off x="9540720" y="4581360"/>
              <a:ext cx="184320" cy="18288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31" name="Rectangle 103"/>
            <p:cNvSpPr/>
            <p:nvPr/>
          </p:nvSpPr>
          <p:spPr>
            <a:xfrm flipV="1">
              <a:off x="9725040" y="4581360"/>
              <a:ext cx="183960" cy="18288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32" name="Rectangle 104"/>
            <p:cNvSpPr/>
            <p:nvPr/>
          </p:nvSpPr>
          <p:spPr>
            <a:xfrm flipV="1">
              <a:off x="9909000" y="4581360"/>
              <a:ext cx="185760" cy="18288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33" name="Rectangle 105"/>
            <p:cNvSpPr/>
            <p:nvPr/>
          </p:nvSpPr>
          <p:spPr>
            <a:xfrm flipV="1">
              <a:off x="9354960" y="4581360"/>
              <a:ext cx="185760" cy="18288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</p:grpSp>
      <p:grpSp>
        <p:nvGrpSpPr>
          <p:cNvPr id="34" name="Group 106"/>
          <p:cNvGrpSpPr/>
          <p:nvPr/>
        </p:nvGrpSpPr>
        <p:grpSpPr>
          <a:xfrm>
            <a:off x="9354960" y="4797000"/>
            <a:ext cx="739800" cy="182520"/>
            <a:chOff x="9354960" y="4797000"/>
            <a:chExt cx="739800" cy="182520"/>
          </a:xfrm>
        </p:grpSpPr>
        <p:sp>
          <p:nvSpPr>
            <p:cNvPr id="35" name="Rectangle 107"/>
            <p:cNvSpPr/>
            <p:nvPr/>
          </p:nvSpPr>
          <p:spPr>
            <a:xfrm flipV="1">
              <a:off x="9540720" y="4796640"/>
              <a:ext cx="184320" cy="18252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36" name="Rectangle 108"/>
            <p:cNvSpPr/>
            <p:nvPr/>
          </p:nvSpPr>
          <p:spPr>
            <a:xfrm flipV="1">
              <a:off x="9725040" y="4796640"/>
              <a:ext cx="183960" cy="1825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37" name="Rectangle 109"/>
            <p:cNvSpPr/>
            <p:nvPr/>
          </p:nvSpPr>
          <p:spPr>
            <a:xfrm flipV="1">
              <a:off x="9909000" y="4796640"/>
              <a:ext cx="185760" cy="1825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38" name="Rectangle 110"/>
            <p:cNvSpPr/>
            <p:nvPr/>
          </p:nvSpPr>
          <p:spPr>
            <a:xfrm flipV="1">
              <a:off x="9354960" y="4796640"/>
              <a:ext cx="185760" cy="18252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</p:grpSp>
      <p:grpSp>
        <p:nvGrpSpPr>
          <p:cNvPr id="39" name="Group 111"/>
          <p:cNvGrpSpPr/>
          <p:nvPr/>
        </p:nvGrpSpPr>
        <p:grpSpPr>
          <a:xfrm>
            <a:off x="9354960" y="5013000"/>
            <a:ext cx="739800" cy="182520"/>
            <a:chOff x="9354960" y="5013000"/>
            <a:chExt cx="739800" cy="182520"/>
          </a:xfrm>
        </p:grpSpPr>
        <p:sp>
          <p:nvSpPr>
            <p:cNvPr id="40" name="Rectangle 112"/>
            <p:cNvSpPr/>
            <p:nvPr/>
          </p:nvSpPr>
          <p:spPr>
            <a:xfrm flipV="1">
              <a:off x="9540720" y="5012640"/>
              <a:ext cx="184320" cy="1825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41" name="Rectangle 113"/>
            <p:cNvSpPr/>
            <p:nvPr/>
          </p:nvSpPr>
          <p:spPr>
            <a:xfrm flipV="1">
              <a:off x="9725040" y="5012640"/>
              <a:ext cx="183960" cy="18252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42" name="Rectangle 114"/>
            <p:cNvSpPr/>
            <p:nvPr/>
          </p:nvSpPr>
          <p:spPr>
            <a:xfrm flipV="1">
              <a:off x="9909000" y="5012640"/>
              <a:ext cx="185760" cy="182520"/>
            </a:xfrm>
            <a:prstGeom prst="rect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43" name="Rectangle 115"/>
            <p:cNvSpPr/>
            <p:nvPr/>
          </p:nvSpPr>
          <p:spPr>
            <a:xfrm flipV="1">
              <a:off x="9354960" y="5012640"/>
              <a:ext cx="185760" cy="182520"/>
            </a:xfrm>
            <a:prstGeom prst="rect">
              <a:avLst/>
            </a:prstGeom>
            <a:solidFill>
              <a:srgbClr val="9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</p:grpSp>
      <p:grpSp>
        <p:nvGrpSpPr>
          <p:cNvPr id="44" name="Group 116"/>
          <p:cNvGrpSpPr/>
          <p:nvPr/>
        </p:nvGrpSpPr>
        <p:grpSpPr>
          <a:xfrm>
            <a:off x="9354960" y="5373360"/>
            <a:ext cx="739800" cy="182520"/>
            <a:chOff x="9354960" y="5373360"/>
            <a:chExt cx="739800" cy="182520"/>
          </a:xfrm>
        </p:grpSpPr>
        <p:sp>
          <p:nvSpPr>
            <p:cNvPr id="45" name="Rectangle 117"/>
            <p:cNvSpPr/>
            <p:nvPr/>
          </p:nvSpPr>
          <p:spPr>
            <a:xfrm flipV="1">
              <a:off x="9540720" y="5373000"/>
              <a:ext cx="184320" cy="182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46" name="Rectangle 118"/>
            <p:cNvSpPr/>
            <p:nvPr/>
          </p:nvSpPr>
          <p:spPr>
            <a:xfrm flipV="1">
              <a:off x="9725040" y="5373000"/>
              <a:ext cx="183960" cy="1825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47" name="Rectangle 119"/>
            <p:cNvSpPr/>
            <p:nvPr/>
          </p:nvSpPr>
          <p:spPr>
            <a:xfrm flipV="1">
              <a:off x="9909000" y="5373000"/>
              <a:ext cx="185760" cy="18252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48" name="Rectangle 120"/>
            <p:cNvSpPr/>
            <p:nvPr/>
          </p:nvSpPr>
          <p:spPr>
            <a:xfrm flipV="1">
              <a:off x="9354960" y="5373000"/>
              <a:ext cx="185760" cy="182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</p:grpSp>
      <p:grpSp>
        <p:nvGrpSpPr>
          <p:cNvPr id="49" name="Group 121"/>
          <p:cNvGrpSpPr/>
          <p:nvPr/>
        </p:nvGrpSpPr>
        <p:grpSpPr>
          <a:xfrm>
            <a:off x="9354960" y="5589360"/>
            <a:ext cx="739800" cy="182520"/>
            <a:chOff x="9354960" y="5589360"/>
            <a:chExt cx="739800" cy="182520"/>
          </a:xfrm>
        </p:grpSpPr>
        <p:sp>
          <p:nvSpPr>
            <p:cNvPr id="50" name="Rectangle 122"/>
            <p:cNvSpPr/>
            <p:nvPr/>
          </p:nvSpPr>
          <p:spPr>
            <a:xfrm flipV="1">
              <a:off x="9540720" y="5589000"/>
              <a:ext cx="184320" cy="18252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51" name="Rectangle 123"/>
            <p:cNvSpPr/>
            <p:nvPr/>
          </p:nvSpPr>
          <p:spPr>
            <a:xfrm flipV="1">
              <a:off x="9725040" y="5589000"/>
              <a:ext cx="183960" cy="1825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52" name="Rectangle 124"/>
            <p:cNvSpPr/>
            <p:nvPr/>
          </p:nvSpPr>
          <p:spPr>
            <a:xfrm flipV="1">
              <a:off x="9909000" y="5589000"/>
              <a:ext cx="185760" cy="1825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53" name="Rectangle 125"/>
            <p:cNvSpPr/>
            <p:nvPr/>
          </p:nvSpPr>
          <p:spPr>
            <a:xfrm flipV="1">
              <a:off x="9354960" y="5589000"/>
              <a:ext cx="185760" cy="182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</p:grpSp>
      <p:grpSp>
        <p:nvGrpSpPr>
          <p:cNvPr id="54" name="Group 126"/>
          <p:cNvGrpSpPr/>
          <p:nvPr/>
        </p:nvGrpSpPr>
        <p:grpSpPr>
          <a:xfrm>
            <a:off x="9354960" y="5805000"/>
            <a:ext cx="739800" cy="182520"/>
            <a:chOff x="9354960" y="5805000"/>
            <a:chExt cx="739800" cy="182520"/>
          </a:xfrm>
        </p:grpSpPr>
        <p:sp>
          <p:nvSpPr>
            <p:cNvPr id="55" name="Rectangle 127"/>
            <p:cNvSpPr/>
            <p:nvPr/>
          </p:nvSpPr>
          <p:spPr>
            <a:xfrm flipV="1">
              <a:off x="9540720" y="5804640"/>
              <a:ext cx="184320" cy="182520"/>
            </a:xfrm>
            <a:prstGeom prst="rect">
              <a:avLst/>
            </a:prstGeom>
            <a:solidFill>
              <a:srgbClr val="00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56" name="Rectangle 128"/>
            <p:cNvSpPr/>
            <p:nvPr/>
          </p:nvSpPr>
          <p:spPr>
            <a:xfrm flipV="1">
              <a:off x="9725040" y="5804640"/>
              <a:ext cx="183960" cy="182520"/>
            </a:xfrm>
            <a:prstGeom prst="rect">
              <a:avLst/>
            </a:prstGeom>
            <a:solidFill>
              <a:srgbClr val="cc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57" name="Rectangle 129"/>
            <p:cNvSpPr/>
            <p:nvPr/>
          </p:nvSpPr>
          <p:spPr>
            <a:xfrm flipV="1">
              <a:off x="9909000" y="5804640"/>
              <a:ext cx="185760" cy="182520"/>
            </a:xfrm>
            <a:prstGeom prst="rect">
              <a:avLst/>
            </a:pr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58" name="Rectangle 130"/>
            <p:cNvSpPr/>
            <p:nvPr/>
          </p:nvSpPr>
          <p:spPr>
            <a:xfrm flipV="1">
              <a:off x="9354960" y="5804640"/>
              <a:ext cx="185760" cy="1825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</p:grpSp>
      <p:grpSp>
        <p:nvGrpSpPr>
          <p:cNvPr id="59" name="Group 131"/>
          <p:cNvGrpSpPr/>
          <p:nvPr/>
        </p:nvGrpSpPr>
        <p:grpSpPr>
          <a:xfrm>
            <a:off x="9354960" y="6165360"/>
            <a:ext cx="739800" cy="182520"/>
            <a:chOff x="9354960" y="6165360"/>
            <a:chExt cx="739800" cy="182520"/>
          </a:xfrm>
        </p:grpSpPr>
        <p:sp>
          <p:nvSpPr>
            <p:cNvPr id="60" name="Rectangle 132"/>
            <p:cNvSpPr/>
            <p:nvPr/>
          </p:nvSpPr>
          <p:spPr>
            <a:xfrm flipV="1">
              <a:off x="9540720" y="6165000"/>
              <a:ext cx="184320" cy="182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61" name="Rectangle 133"/>
            <p:cNvSpPr/>
            <p:nvPr/>
          </p:nvSpPr>
          <p:spPr>
            <a:xfrm flipV="1">
              <a:off x="9725040" y="6165000"/>
              <a:ext cx="183960" cy="1825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62" name="Rectangle 134"/>
            <p:cNvSpPr/>
            <p:nvPr/>
          </p:nvSpPr>
          <p:spPr>
            <a:xfrm flipV="1">
              <a:off x="9909000" y="6165000"/>
              <a:ext cx="185760" cy="18252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63" name="Rectangle 135"/>
            <p:cNvSpPr/>
            <p:nvPr/>
          </p:nvSpPr>
          <p:spPr>
            <a:xfrm flipV="1">
              <a:off x="9354960" y="6165000"/>
              <a:ext cx="185760" cy="1825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</p:grpSp>
      <p:grpSp>
        <p:nvGrpSpPr>
          <p:cNvPr id="64" name="Group 136"/>
          <p:cNvGrpSpPr/>
          <p:nvPr/>
        </p:nvGrpSpPr>
        <p:grpSpPr>
          <a:xfrm>
            <a:off x="9354960" y="6391080"/>
            <a:ext cx="739800" cy="182520"/>
            <a:chOff x="9354960" y="6391080"/>
            <a:chExt cx="739800" cy="182520"/>
          </a:xfrm>
        </p:grpSpPr>
        <p:sp>
          <p:nvSpPr>
            <p:cNvPr id="65" name="Rectangle 137"/>
            <p:cNvSpPr/>
            <p:nvPr/>
          </p:nvSpPr>
          <p:spPr>
            <a:xfrm flipV="1">
              <a:off x="9540720" y="6390720"/>
              <a:ext cx="184320" cy="182520"/>
            </a:xfrm>
            <a:prstGeom prst="rect">
              <a:avLst/>
            </a:prstGeom>
            <a:solidFill>
              <a:srgbClr val="00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66" name="Rectangle 138"/>
            <p:cNvSpPr/>
            <p:nvPr/>
          </p:nvSpPr>
          <p:spPr>
            <a:xfrm flipV="1">
              <a:off x="9725040" y="6390720"/>
              <a:ext cx="183960" cy="18252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67" name="Rectangle 139"/>
            <p:cNvSpPr/>
            <p:nvPr/>
          </p:nvSpPr>
          <p:spPr>
            <a:xfrm flipV="1">
              <a:off x="9909000" y="6390720"/>
              <a:ext cx="185760" cy="18252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68" name="Rectangle 140"/>
            <p:cNvSpPr/>
            <p:nvPr/>
          </p:nvSpPr>
          <p:spPr>
            <a:xfrm flipV="1">
              <a:off x="9354960" y="6390720"/>
              <a:ext cx="185760" cy="1825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</p:grpSp>
      <p:grpSp>
        <p:nvGrpSpPr>
          <p:cNvPr id="69" name="Group 141"/>
          <p:cNvGrpSpPr/>
          <p:nvPr/>
        </p:nvGrpSpPr>
        <p:grpSpPr>
          <a:xfrm>
            <a:off x="9354960" y="6614640"/>
            <a:ext cx="739800" cy="182520"/>
            <a:chOff x="9354960" y="6614640"/>
            <a:chExt cx="739800" cy="182520"/>
          </a:xfrm>
        </p:grpSpPr>
        <p:sp>
          <p:nvSpPr>
            <p:cNvPr id="70" name="Rectangle 142"/>
            <p:cNvSpPr/>
            <p:nvPr/>
          </p:nvSpPr>
          <p:spPr>
            <a:xfrm flipV="1">
              <a:off x="9540720" y="6614280"/>
              <a:ext cx="184320" cy="18252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71" name="Rectangle 143"/>
            <p:cNvSpPr/>
            <p:nvPr/>
          </p:nvSpPr>
          <p:spPr>
            <a:xfrm flipV="1">
              <a:off x="9725040" y="6614280"/>
              <a:ext cx="183960" cy="182520"/>
            </a:xfrm>
            <a:prstGeom prst="rect">
              <a:avLst/>
            </a:prstGeom>
            <a:solidFill>
              <a:srgbClr val="ff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72" name="Rectangle 144"/>
            <p:cNvSpPr/>
            <p:nvPr/>
          </p:nvSpPr>
          <p:spPr>
            <a:xfrm flipV="1">
              <a:off x="9909000" y="6614280"/>
              <a:ext cx="185760" cy="182520"/>
            </a:xfrm>
            <a:prstGeom prst="rect">
              <a:avLst/>
            </a:prstGeom>
            <a:solidFill>
              <a:srgbClr val="ff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  <p:sp>
          <p:nvSpPr>
            <p:cNvPr id="73" name="Rectangle 145"/>
            <p:cNvSpPr/>
            <p:nvPr/>
          </p:nvSpPr>
          <p:spPr>
            <a:xfrm flipV="1">
              <a:off x="9354960" y="6614280"/>
              <a:ext cx="185760" cy="1825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FrutigerNext LT Regular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FrutigerNext LT Regular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51960" y="638280"/>
            <a:ext cx="7929720" cy="8697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500" spc="-1" strike="noStrike">
                <a:solidFill>
                  <a:srgbClr val="990000"/>
                </a:solidFill>
                <a:latin typeface="Arial"/>
              </a:rPr>
              <a:t>Click to edit the title text format</a:t>
            </a:r>
            <a:endParaRPr b="0" lang="en-US" sz="35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51960" y="1641600"/>
            <a:ext cx="792972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299880" indent="-299880">
              <a:lnSpc>
                <a:spcPct val="140000"/>
              </a:lnSpc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52320" indent="-2505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03320" indent="-20160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401840" indent="-200160">
              <a:lnSpc>
                <a:spcPct val="140000"/>
              </a:lnSpc>
              <a:buClr>
                <a:srgbClr val="000000"/>
              </a:buClr>
              <a:buFont typeface="Arial"/>
              <a:buChar char="–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1803240" indent="-201600">
              <a:lnSpc>
                <a:spcPct val="140000"/>
              </a:lnSpc>
              <a:buClr>
                <a:srgbClr val="000000"/>
              </a:buClr>
              <a:buFont typeface="Arial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1803240" indent="-201600">
              <a:lnSpc>
                <a:spcPct val="140000"/>
              </a:lnSpc>
              <a:buClr>
                <a:srgbClr val="000000"/>
              </a:buClr>
              <a:buFont typeface="Arial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1803240" indent="-201600">
              <a:lnSpc>
                <a:spcPct val="140000"/>
              </a:lnSpc>
              <a:buClr>
                <a:srgbClr val="000000"/>
              </a:buClr>
              <a:buFont typeface="Arial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-1844640" y="898560"/>
            <a:ext cx="1844640" cy="53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英文目录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35-40pt  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 R153 G0 B0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内部使用字体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FrutigerNext LT Medium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外部使用字体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 Arial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中文目录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35-40pt  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 R153 G0 B0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黑体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英文目录正文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28-30pt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子目录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(2-5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级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) :20-30pt  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黑色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内部使用字体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FrutigerNext LT Regular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外部使用字体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 Arial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中文目录正文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28-30pt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子目录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(2-5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级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):20-30pt 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黑色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细黑体 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marL="299880" indent="-299880"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6" descr="5"/>
          <p:cNvPicPr/>
          <p:nvPr/>
        </p:nvPicPr>
        <p:blipFill>
          <a:blip r:embed="rId2"/>
          <a:stretch/>
        </p:blipFill>
        <p:spPr>
          <a:xfrm>
            <a:off x="0" y="5897520"/>
            <a:ext cx="9144000" cy="1003320"/>
          </a:xfrm>
          <a:prstGeom prst="rect">
            <a:avLst/>
          </a:prstGeom>
          <a:ln w="0">
            <a:noFill/>
          </a:ln>
        </p:spPr>
      </p:pic>
      <p:sp>
        <p:nvSpPr>
          <p:cNvPr id="151" name="Text Box 7"/>
          <p:cNvSpPr/>
          <p:nvPr/>
        </p:nvSpPr>
        <p:spPr>
          <a:xfrm>
            <a:off x="3233880" y="2674800"/>
            <a:ext cx="277992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4400" spc="-1" strike="noStrike">
                <a:solidFill>
                  <a:srgbClr val="990000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ffffff"/>
              </a:solidFill>
              <a:latin typeface="FrutigerNext LT Regular"/>
            </a:endParaRPr>
          </a:p>
        </p:txBody>
      </p:sp>
      <p:sp>
        <p:nvSpPr>
          <p:cNvPr id="152" name="Text Box 8"/>
          <p:cNvSpPr/>
          <p:nvPr/>
        </p:nvSpPr>
        <p:spPr>
          <a:xfrm>
            <a:off x="3273480" y="3435480"/>
            <a:ext cx="2745000" cy="4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520" rIns="83520" tIns="41760" bIns="41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35200"/>
                <a:tab algn="l" pos="1670040"/>
                <a:tab algn="l" pos="2505240"/>
                <a:tab algn="l" pos="3340080"/>
                <a:tab algn="l" pos="4175280"/>
                <a:tab algn="l" pos="5010120"/>
                <a:tab algn="l" pos="5845320"/>
                <a:tab algn="l" pos="6680160"/>
                <a:tab algn="l" pos="7515360"/>
                <a:tab algn="l" pos="8350200"/>
                <a:tab algn="l" pos="9185400"/>
                <a:tab algn="l" pos="10020240"/>
                <a:tab algn="l" pos="10855440"/>
              </a:tabLst>
            </a:pPr>
            <a:r>
              <a:rPr b="0" lang="en-US" sz="2600" spc="-1" strike="noStrike">
                <a:solidFill>
                  <a:srgbClr val="666666"/>
                </a:solidFill>
                <a:latin typeface="Arial"/>
              </a:rPr>
              <a:t>www.huawei.com</a:t>
            </a:r>
            <a:endParaRPr b="0" lang="en-US" sz="2600" spc="-1" strike="noStrike">
              <a:solidFill>
                <a:srgbClr val="ffffff"/>
              </a:solidFill>
              <a:latin typeface="FrutigerNext LT Regular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800" spc="-1" strike="noStrike">
                <a:solidFill>
                  <a:srgbClr val="99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99880" indent="-299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52320" indent="-25056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003320" indent="-201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01840" indent="-200160">
              <a:spcBef>
                <a:spcPts val="425"/>
              </a:spcBef>
              <a:buClr>
                <a:srgbClr val="000000"/>
              </a:buClr>
              <a:buFont typeface="Arial"/>
              <a:buChar char="–"/>
              <a:tabLst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1803240" indent="-201600">
              <a:spcBef>
                <a:spcPts val="425"/>
              </a:spcBef>
              <a:buClr>
                <a:srgbClr val="000000"/>
              </a:buClr>
              <a:buFont typeface="Arial"/>
              <a:buChar char="»"/>
              <a:tabLst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1803240" indent="-201600">
              <a:spcBef>
                <a:spcPts val="4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1803240" indent="-201600">
              <a:spcBef>
                <a:spcPts val="4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9" descr="Logo"/>
          <p:cNvPicPr/>
          <p:nvPr/>
        </p:nvPicPr>
        <p:blipFill>
          <a:blip r:embed="rId2"/>
          <a:stretch/>
        </p:blipFill>
        <p:spPr>
          <a:xfrm>
            <a:off x="7508880" y="5589720"/>
            <a:ext cx="763560" cy="7635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10" descr="2"/>
          <p:cNvPicPr/>
          <p:nvPr/>
        </p:nvPicPr>
        <p:blipFill>
          <a:blip r:embed="rId3"/>
          <a:stretch/>
        </p:blipFill>
        <p:spPr>
          <a:xfrm>
            <a:off x="0" y="782640"/>
            <a:ext cx="9144000" cy="380988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22"/>
          <p:cNvSpPr/>
          <p:nvPr/>
        </p:nvSpPr>
        <p:spPr>
          <a:xfrm>
            <a:off x="7174800" y="4094280"/>
            <a:ext cx="1433880" cy="2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t">
            <a:sp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utigerNext LT Regular"/>
              </a:rPr>
              <a:t>www.huawei.com</a:t>
            </a:r>
            <a:endParaRPr b="0" lang="en-US" sz="1200" spc="-1" strike="noStrike">
              <a:solidFill>
                <a:srgbClr val="ffffff"/>
              </a:solidFill>
              <a:latin typeface="FrutigerNext LT Regular"/>
            </a:endParaRPr>
          </a:p>
        </p:txBody>
      </p:sp>
      <p:sp>
        <p:nvSpPr>
          <p:cNvPr id="194" name="Text Box 66"/>
          <p:cNvSpPr/>
          <p:nvPr/>
        </p:nvSpPr>
        <p:spPr>
          <a:xfrm>
            <a:off x="-1968480" y="1322280"/>
            <a:ext cx="1968480" cy="37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spAutoFit/>
          </a:bodyPr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英文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40-47pt  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副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26-30pt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反白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内部使用字体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FrutigerNext LT Medium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外部使用字体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 Arial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中文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35-47pt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黑体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  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副标题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24-28pt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颜色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反白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字体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  <a:ea typeface="华文细黑"/>
              </a:rPr>
              <a:t>:</a:t>
            </a:r>
            <a:r>
              <a:rPr b="0" lang="zh-CN" sz="1100" spc="-1" strike="noStrike">
                <a:solidFill>
                  <a:srgbClr val="ffffff"/>
                </a:solidFill>
                <a:latin typeface="Arial"/>
                <a:ea typeface="华文细黑"/>
              </a:rPr>
              <a:t>细黑体</a:t>
            </a: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  <a:p>
            <a:pPr algn="r">
              <a:lnSpc>
                <a:spcPct val="125000"/>
              </a:lnSpc>
              <a:spcBef>
                <a:spcPts val="689"/>
              </a:spcBef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0" lang="en-US" sz="1100" spc="-1" strike="noStrike">
              <a:solidFill>
                <a:srgbClr val="ffffff"/>
              </a:solidFill>
              <a:latin typeface="FrutigerNext LT Regular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3400" spc="-1" strike="noStrike">
                <a:solidFill>
                  <a:srgbClr val="990000"/>
                </a:solidFill>
                <a:latin typeface="FrutigerNext LT Medium"/>
              </a:rPr>
              <a:t>Click to edit the title text format</a:t>
            </a: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51960" y="1641600"/>
            <a:ext cx="792972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1" marL="652320" indent="-25056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2" marL="1003320" indent="-20160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3" marL="1401840" indent="-200160">
              <a:lnSpc>
                <a:spcPct val="140000"/>
              </a:lnSpc>
              <a:buClr>
                <a:srgbClr val="000000"/>
              </a:buClr>
              <a:buFont typeface="FrutigerNext LT Medium"/>
              <a:buChar char="–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4" marL="1803240" indent="-2016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5" marL="1803240" indent="-2016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lvl="6" marL="1803240" indent="-201600">
              <a:lnSpc>
                <a:spcPct val="140000"/>
              </a:lnSpc>
              <a:buClr>
                <a:srgbClr val="000000"/>
              </a:buClr>
              <a:buFont typeface="FrutigerNext LT Medium"/>
              <a:buChar char="~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26"/>
          <p:cNvSpPr/>
          <p:nvPr/>
        </p:nvSpPr>
        <p:spPr>
          <a:xfrm>
            <a:off x="684360" y="282600"/>
            <a:ext cx="213336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fld id="{267D0A56-3E87-42F4-8392-EB2D9E341CE6}" type="datetime">
              <a:rPr b="0" lang="zh-CN" sz="1200" spc="-1" strike="noStrike">
                <a:solidFill>
                  <a:srgbClr val="000000"/>
                </a:solidFill>
                <a:latin typeface="FrutigerNext LT Regular"/>
              </a:rPr>
              <a:t>26/7/28</a:t>
            </a:fld>
            <a:endParaRPr b="0" lang="en-US" sz="1200" spc="-1" strike="noStrike">
              <a:solidFill>
                <a:srgbClr val="ffffff"/>
              </a:solidFill>
              <a:latin typeface="FrutigerNext LT Regular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71280" y="1267920"/>
            <a:ext cx="7072560" cy="16671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FrutigerNext LT Medium"/>
              </a:rPr>
              <a:t>Fine Granularity Slice Partition</a:t>
            </a:r>
            <a:endParaRPr b="0" lang="en-US" sz="36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242" name="DtsShapeName" hidden="1"/>
          <p:cNvSpPr/>
          <p:nvPr/>
        </p:nvSpPr>
        <p:spPr>
          <a:xfrm>
            <a:off x="0" y="0"/>
            <a:ext cx="1440" cy="1440"/>
          </a:xfrm>
          <a:custGeom>
            <a:avLst/>
            <a:gdLst>
              <a:gd name="textAreaLeft" fmla="*/ 360 w 1440"/>
              <a:gd name="textAreaRight" fmla="*/ 1080 w 1440"/>
              <a:gd name="textAreaTop" fmla="*/ 0 h 1440"/>
              <a:gd name="textAreaBottom" fmla="*/ 1080 h 144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9200" rIns="79200" tIns="-38520" bIns="-38520" anchor="ctr">
            <a:spAutoFit/>
          </a:bodyPr>
          <a:p>
            <a:endParaRPr b="0" lang="en-US" sz="1400" spc="-1" strike="noStrike">
              <a:solidFill>
                <a:srgbClr val="ffffff"/>
              </a:solidFill>
              <a:latin typeface="FrutigerNext LT Regular"/>
            </a:endParaRPr>
          </a:p>
        </p:txBody>
      </p:sp>
      <p:sp>
        <p:nvSpPr>
          <p:cNvPr id="243" name="矩形 4"/>
          <p:cNvSpPr/>
          <p:nvPr/>
        </p:nvSpPr>
        <p:spPr>
          <a:xfrm>
            <a:off x="4010040" y="2637000"/>
            <a:ext cx="1857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utigerNext LT Regular"/>
              </a:rPr>
              <a:t>Qiu Shen</a:t>
            </a:r>
            <a:endParaRPr b="0" lang="en-US" sz="2000" spc="-1" strike="noStrike">
              <a:solidFill>
                <a:srgbClr val="ffffff"/>
              </a:solidFill>
              <a:latin typeface="FrutigerNext LT Regular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utigerNext LT Regular"/>
              </a:rPr>
              <a:t>Qingpeng Xie</a:t>
            </a:r>
            <a:endParaRPr b="0" lang="en-US" sz="2000" spc="-1" strike="noStrike">
              <a:solidFill>
                <a:srgbClr val="ffffff"/>
              </a:solidFill>
              <a:latin typeface="FrutigerNext LT Regular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utigerNext LT Regular"/>
              </a:rPr>
              <a:t>Haoping Yu</a:t>
            </a:r>
            <a:endParaRPr b="0" lang="en-US" sz="2000" spc="-1" strike="noStrike">
              <a:solidFill>
                <a:srgbClr val="ffffff"/>
              </a:solidFill>
              <a:latin typeface="FrutigerNext LT Regular"/>
            </a:endParaRPr>
          </a:p>
        </p:txBody>
      </p:sp>
      <p:sp>
        <p:nvSpPr>
          <p:cNvPr id="244" name=""/>
          <p:cNvSpPr/>
          <p:nvPr/>
        </p:nvSpPr>
        <p:spPr>
          <a:xfrm>
            <a:off x="2268360" y="3860640"/>
            <a:ext cx="5256360" cy="35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200" rIns="79200" tIns="39600" bIns="39600" anchor="t">
            <a:spAutoFit/>
          </a:bodyPr>
          <a:p>
            <a:pPr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</a:rPr>
              <a:t>HUAWEI TECHNOLOGIES CO., LTD.</a:t>
            </a:r>
            <a:endParaRPr b="0" lang="en-US" sz="1800" spc="-1" strike="noStrike">
              <a:solidFill>
                <a:srgbClr val="ffffff"/>
              </a:solidFill>
              <a:latin typeface="FrutigerNext LT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marL="343080"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3400" spc="-1" strike="noStrike">
                <a:solidFill>
                  <a:srgbClr val="990000"/>
                </a:solidFill>
                <a:latin typeface="FrutigerNext LT Medium"/>
              </a:rPr>
              <a:t>Conclusion</a:t>
            </a: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51960" y="1641600"/>
            <a:ext cx="792972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We proposed to adopt slice partition based on not only LCU but also CU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Proposed syntax changes can support both kinds of slices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For both kinds of slices, effect on coding efficiency is acceptable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80" name="日期占位符 3"/>
          <p:cNvSpPr/>
          <p:nvPr/>
        </p:nvSpPr>
        <p:spPr>
          <a:xfrm>
            <a:off x="6361200" y="6489720"/>
            <a:ext cx="2097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Bold"/>
              </a:rPr>
              <a:t>Page </a:t>
            </a:r>
            <a:fld id="{62624E1F-7AAA-4E3B-B396-90996B7D3C1A}" type="slidenum">
              <a:rPr b="0" lang="de-DE" sz="1200" spc="-1" strike="noStrike">
                <a:solidFill>
                  <a:srgbClr val="000000"/>
                </a:solidFill>
                <a:latin typeface="FrutigerNext LT Bol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FrutigerNext LT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3400" spc="-1" strike="noStrike">
                <a:solidFill>
                  <a:srgbClr val="990000"/>
                </a:solidFill>
                <a:latin typeface="FrutigerNext LT Medium"/>
              </a:rPr>
              <a:t>Abstract</a:t>
            </a: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684360" y="1628280"/>
            <a:ext cx="7929360" cy="41943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Follow the idea of Ericsson on fine granularity slice 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Alternative slice partition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lice start address signaling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lice end address signaling for CABAC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plit flag deducing for slice start LCU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47" name="日期占位符 3"/>
          <p:cNvSpPr/>
          <p:nvPr/>
        </p:nvSpPr>
        <p:spPr>
          <a:xfrm>
            <a:off x="6361200" y="6489720"/>
            <a:ext cx="2097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Bold"/>
              </a:rPr>
              <a:t>Page </a:t>
            </a:r>
            <a:fld id="{94A28FA7-97CB-41BD-BD10-1D56E050CE19}" type="slidenum">
              <a:rPr b="0" lang="de-DE" sz="1200" spc="-1" strike="noStrike">
                <a:solidFill>
                  <a:srgbClr val="000000"/>
                </a:solidFill>
                <a:latin typeface="FrutigerNext LT Bol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FrutigerNext LT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3400" spc="-1" strike="noStrike">
                <a:solidFill>
                  <a:srgbClr val="990000"/>
                </a:solidFill>
                <a:latin typeface="FrutigerNext LT Medium"/>
              </a:rPr>
              <a:t>Background</a:t>
            </a: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684360" y="1628280"/>
            <a:ext cx="7929360" cy="41943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Ericsson proposed to define slices to be a sequence of CUs instead of a sequence of LCUs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Control the slice size more accurately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50" name="日期占位符 3"/>
          <p:cNvSpPr/>
          <p:nvPr/>
        </p:nvSpPr>
        <p:spPr>
          <a:xfrm>
            <a:off x="6361200" y="6489720"/>
            <a:ext cx="2097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Bold"/>
              </a:rPr>
              <a:t>Page </a:t>
            </a:r>
            <a:fld id="{CB608155-01B7-437F-A5E1-7C8ED1F9FF61}" type="slidenum">
              <a:rPr b="0" lang="de-DE" sz="1200" spc="-1" strike="noStrike">
                <a:solidFill>
                  <a:srgbClr val="000000"/>
                </a:solidFill>
                <a:latin typeface="FrutigerNext LT Bol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FrutigerNext LT Regular"/>
            </a:endParaRPr>
          </a:p>
        </p:txBody>
      </p:sp>
      <p:pic>
        <p:nvPicPr>
          <p:cNvPr id="251" name="Picture 2" descr=""/>
          <p:cNvPicPr/>
          <p:nvPr/>
        </p:nvPicPr>
        <p:blipFill>
          <a:blip r:embed="rId1"/>
          <a:stretch/>
        </p:blipFill>
        <p:spPr>
          <a:xfrm>
            <a:off x="3224160" y="3213000"/>
            <a:ext cx="2643120" cy="25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marL="343080"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FrutigerNext LT Medium"/>
              </a:rPr>
              <a:t>Alternative Slice Partition</a:t>
            </a:r>
            <a:endParaRPr b="0" lang="en-US" sz="32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84360" y="1412640"/>
            <a:ext cx="7929360" cy="9363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The sizes of LCUs are diversified for different video sequences, different bitrates and different coding modes.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54" name="日期占位符 3"/>
          <p:cNvSpPr/>
          <p:nvPr/>
        </p:nvSpPr>
        <p:spPr>
          <a:xfrm>
            <a:off x="6361200" y="6489720"/>
            <a:ext cx="2097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Bold"/>
              </a:rPr>
              <a:t>Page </a:t>
            </a:r>
            <a:fld id="{51C32D52-8979-48F9-8B49-D80E137F7F44}" type="slidenum">
              <a:rPr b="0" lang="de-DE" sz="1200" spc="-1" strike="noStrike">
                <a:solidFill>
                  <a:srgbClr val="000000"/>
                </a:solidFill>
                <a:latin typeface="FrutigerNext LT Bol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FrutigerNext LT Regular"/>
            </a:endParaRPr>
          </a:p>
        </p:txBody>
      </p:sp>
      <p:pic>
        <p:nvPicPr>
          <p:cNvPr id="255" name="Picture 2" descr=""/>
          <p:cNvPicPr/>
          <p:nvPr/>
        </p:nvPicPr>
        <p:blipFill>
          <a:blip r:embed="rId1"/>
          <a:stretch/>
        </p:blipFill>
        <p:spPr>
          <a:xfrm>
            <a:off x="4211640" y="2349360"/>
            <a:ext cx="4687920" cy="193068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3" descr=""/>
          <p:cNvPicPr/>
          <p:nvPr/>
        </p:nvPicPr>
        <p:blipFill>
          <a:blip r:embed="rId2"/>
          <a:stretch/>
        </p:blipFill>
        <p:spPr>
          <a:xfrm>
            <a:off x="4211640" y="4365720"/>
            <a:ext cx="4681440" cy="1922400"/>
          </a:xfrm>
          <a:prstGeom prst="rect">
            <a:avLst/>
          </a:prstGeom>
          <a:ln w="0">
            <a:noFill/>
          </a:ln>
        </p:spPr>
      </p:pic>
      <p:sp>
        <p:nvSpPr>
          <p:cNvPr id="257" name="内容占位符 2"/>
          <p:cNvSpPr/>
          <p:nvPr/>
        </p:nvSpPr>
        <p:spPr>
          <a:xfrm>
            <a:off x="538200" y="2421000"/>
            <a:ext cx="3889440" cy="36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0280" rIns="80280" tIns="39960" bIns="39960" anchor="t">
            <a:normAutofit/>
          </a:bodyPr>
          <a:p>
            <a:pPr lvl="1" marL="743040" indent="-28584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RaceHorses_832x480_20</a:t>
            </a:r>
            <a:endParaRPr b="0" lang="en-US" sz="1800" spc="-1" strike="noStrike">
              <a:solidFill>
                <a:srgbClr val="ffffff"/>
              </a:solidFill>
              <a:latin typeface="FrutigerNext LT Regular"/>
            </a:endParaRPr>
          </a:p>
          <a:p>
            <a:pPr lvl="1" marL="743040" indent="-28584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QP 32</a:t>
            </a:r>
            <a:endParaRPr b="0" lang="en-US" sz="1800" spc="-1" strike="noStrike">
              <a:solidFill>
                <a:srgbClr val="ffffff"/>
              </a:solidFill>
              <a:latin typeface="FrutigerNext LT Regular"/>
            </a:endParaRPr>
          </a:p>
          <a:p>
            <a:pPr lvl="1" marL="743040" indent="-28584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Intra: 100~500Bytes</a:t>
            </a:r>
            <a:endParaRPr b="0" lang="en-US" sz="1800" spc="-1" strike="noStrike">
              <a:solidFill>
                <a:srgbClr val="ffffff"/>
              </a:solidFill>
              <a:latin typeface="FrutigerNext LT Regular"/>
            </a:endParaRPr>
          </a:p>
          <a:p>
            <a:pPr lvl="1" marL="743040" indent="-285840">
              <a:lnSpc>
                <a:spcPct val="140000"/>
              </a:lnSpc>
              <a:buClr>
                <a:srgbClr val="000000"/>
              </a:buClr>
              <a:buSzPct val="50000"/>
              <a:buFont typeface="Wingdings" charset="2"/>
              <a:buChar char="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FrutigerNext LT Regular"/>
                <a:ea typeface="华文细黑"/>
              </a:rPr>
              <a:t>Inter: &lt;150bytes </a:t>
            </a:r>
            <a:endParaRPr b="0" lang="en-US" sz="1800" spc="-1" strike="noStrike">
              <a:solidFill>
                <a:srgbClr val="ffffff"/>
              </a:solidFill>
              <a:latin typeface="FrutigerNext LT Regular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marL="343080"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FrutigerNext LT Medium"/>
              </a:rPr>
              <a:t>Alternative Slice Partition</a:t>
            </a:r>
            <a:endParaRPr b="0" lang="en-US" sz="32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651960" y="1641600"/>
            <a:ext cx="792972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The slice can be partitioned based on CUs for large LCU size, and based on LCUs for small LCU size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Use a flag to indicate the type of slice partition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The flag can be included in SPS\PPS\Slice Header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60" name="日期占位符 3"/>
          <p:cNvSpPr/>
          <p:nvPr/>
        </p:nvSpPr>
        <p:spPr>
          <a:xfrm>
            <a:off x="6361200" y="6489720"/>
            <a:ext cx="2097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Bold"/>
              </a:rPr>
              <a:t>Page </a:t>
            </a:r>
            <a:fld id="{CBDEB01E-CEEA-44EB-9B6A-EEEDD057A981}" type="slidenum">
              <a:rPr b="0" lang="de-DE" sz="1200" spc="-1" strike="noStrike">
                <a:solidFill>
                  <a:srgbClr val="000000"/>
                </a:solidFill>
                <a:latin typeface="FrutigerNext LT Bol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FrutigerNext LT Regular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1857240" y="3983040"/>
          <a:ext cx="5857920" cy="1317600"/>
        </p:xfrm>
        <a:graphic>
          <a:graphicData uri="http://schemas.openxmlformats.org/drawingml/2006/table">
            <a:tbl>
              <a:tblPr/>
              <a:tblGrid>
                <a:gridCol w="3483000"/>
                <a:gridCol w="909720"/>
                <a:gridCol w="1465200"/>
              </a:tblGrid>
              <a:tr h="439560">
                <a:tc>
                  <a:txBody>
                    <a:bodyPr lIns="71640" rIns="7164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slice_header( ) {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t" marL="71640" marR="71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1640" rIns="7164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C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t" marL="71640" marR="71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1640" rIns="7164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Descripto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t" marL="71640" marR="71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8120">
                <a:tc>
                  <a:txBody>
                    <a:bodyPr lIns="71640" rIns="7164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lcu_slice_flag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t" marL="71640" marR="71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1640" rIns="7164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t" marL="71640" marR="71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1640" rIns="7164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u(1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t" marL="71640" marR="71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920">
                <a:tc>
                  <a:txBody>
                    <a:bodyPr lIns="71640" rIns="7164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}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t" marL="71640" marR="71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1640" rIns="7164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t" marL="71640" marR="71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1640" rIns="7164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t" marL="71640" marR="716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51960" y="43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marL="343080"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3300" spc="-1" strike="noStrike">
                <a:solidFill>
                  <a:srgbClr val="990000"/>
                </a:solidFill>
                <a:latin typeface="FrutigerNext LT Medium"/>
              </a:rPr>
              <a:t>Slice Start Address Signaling</a:t>
            </a:r>
            <a:endParaRPr b="0" lang="en-US" sz="33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684360" y="907560"/>
            <a:ext cx="7929360" cy="41943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The slice start address is signaled hierarchically.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64" name="日期占位符 3"/>
          <p:cNvSpPr/>
          <p:nvPr/>
        </p:nvSpPr>
        <p:spPr>
          <a:xfrm>
            <a:off x="6361200" y="6489720"/>
            <a:ext cx="2097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Bold"/>
              </a:rPr>
              <a:t>Page </a:t>
            </a:r>
            <a:fld id="{BD682FFD-B35A-4F41-829C-A0FFAD5A62AF}" type="slidenum">
              <a:rPr b="0" lang="de-DE" sz="1200" spc="-1" strike="noStrike">
                <a:solidFill>
                  <a:srgbClr val="000000"/>
                </a:solidFill>
                <a:latin typeface="FrutigerNext LT Bol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FrutigerNext LT Regular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1619280" y="1795320"/>
          <a:ext cx="5508720" cy="4086360"/>
        </p:xfrm>
        <a:graphic>
          <a:graphicData uri="http://schemas.openxmlformats.org/drawingml/2006/table">
            <a:tbl>
              <a:tblPr/>
              <a:tblGrid>
                <a:gridCol w="3392280"/>
                <a:gridCol w="809640"/>
                <a:gridCol w="1306800"/>
              </a:tblGrid>
              <a:tr h="292680">
                <a:tc>
                  <a:txBody>
                    <a:bodyPr lIns="79200" rIns="79200" tIns="39600" bIns="39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slice_header( ) {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t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39600" bIns="39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C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t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39600" bIns="39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Descripto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t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680">
                <a:tc>
                  <a:txBody>
                    <a:bodyPr lIns="79200" rIns="79200" tIns="39600" bIns="39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slice_start_is_pic_start_flag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t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39600" bIns="39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t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39600" bIns="39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u(1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t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79200" rIns="79200" tIns="39600" bIns="39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if(slice_start_is_pic_start_flag){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t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39600" bIns="39600" anchor="t">
                      <a:noAutofit/>
                    </a:bodyPr>
                    <a:p>
                      <a:pPr>
                        <a:lnSpc>
                          <a:spcPct val="140000"/>
                        </a:lnSpc>
                        <a:tabLst>
                          <a:tab algn="l" pos="0"/>
                          <a:tab algn="l" pos="80172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t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39600" bIns="39600" anchor="t">
                      <a:noAutofit/>
                    </a:bodyPr>
                    <a:p>
                      <a:pPr>
                        <a:lnSpc>
                          <a:spcPct val="140000"/>
                        </a:lnSpc>
                        <a:tabLst>
                          <a:tab algn="l" pos="0"/>
                          <a:tab algn="l" pos="80172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t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680">
                <a:tc>
                  <a:txBody>
                    <a:bodyPr lIns="79200" rIns="79200" tIns="39600" bIns="39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      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first_lcu_in_slice_minus_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t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39600" bIns="39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t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39600" bIns="39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u(v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t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5120">
                <a:tc>
                  <a:txBody>
                    <a:bodyPr lIns="79200" rIns="79200" tIns="39600" bIns="39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     </a:t>
                      </a:r>
                      <a:r>
                        <a:rPr b="0" lang="zh-CN" sz="1400" spc="-1" strike="noStrike">
                          <a:solidFill>
                            <a:srgbClr val="777777"/>
                          </a:solidFill>
                          <a:latin typeface="Times New Roman"/>
                          <a:ea typeface="宋体"/>
                        </a:rPr>
                        <a:t>     </a:t>
                      </a:r>
                      <a:r>
                        <a:rPr b="0" lang="en-US" sz="1400" spc="-1" strike="noStrike">
                          <a:solidFill>
                            <a:srgbClr val="777777"/>
                          </a:solidFill>
                          <a:latin typeface="Times New Roman"/>
                          <a:ea typeface="宋体"/>
                        </a:rPr>
                        <a:t>if(lcu_slice_flag==0){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t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39600" bIns="39600" anchor="t">
                      <a:noAutofit/>
                    </a:bodyPr>
                    <a:p>
                      <a:pPr>
                        <a:lnSpc>
                          <a:spcPct val="140000"/>
                        </a:lnSpc>
                        <a:tabLst>
                          <a:tab algn="l" pos="0"/>
                          <a:tab algn="l" pos="80172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t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39600" bIns="39600" anchor="t">
                      <a:noAutofit/>
                    </a:bodyPr>
                    <a:p>
                      <a:pPr>
                        <a:lnSpc>
                          <a:spcPct val="140000"/>
                        </a:lnSpc>
                        <a:tabLst>
                          <a:tab algn="l" pos="0"/>
                          <a:tab algn="l" pos="80172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t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680">
                <a:tc>
                  <a:txBody>
                    <a:bodyPr lIns="79200" rIns="79200" tIns="39600" bIns="39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      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first_scu_is_zero_flag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t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39600" bIns="39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t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39600" bIns="39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u(1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t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79200" rIns="79200" tIns="39600" bIns="39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     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if(first_scu_is_zero_flag == 0) {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t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39600" bIns="39600" anchor="t">
                      <a:noAutofit/>
                    </a:bodyPr>
                    <a:p>
                      <a:pPr>
                        <a:lnSpc>
                          <a:spcPct val="140000"/>
                        </a:lnSpc>
                        <a:tabLst>
                          <a:tab algn="l" pos="0"/>
                          <a:tab algn="l" pos="80172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t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39600" bIns="39600" anchor="t">
                      <a:noAutofit/>
                    </a:bodyPr>
                    <a:p>
                      <a:pPr>
                        <a:lnSpc>
                          <a:spcPct val="140000"/>
                        </a:lnSpc>
                        <a:tabLst>
                          <a:tab algn="l" pos="0"/>
                          <a:tab algn="l" pos="80172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t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680">
                <a:tc>
                  <a:txBody>
                    <a:bodyPr lIns="79200" rIns="79200" tIns="39600" bIns="39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            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first_scu_in_slice_minus_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t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39600" bIns="39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t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39600" bIns="39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u(v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t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79200" rIns="79200" tIns="39600" bIns="39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    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}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t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39600" bIns="39600" anchor="t">
                      <a:noAutofit/>
                    </a:bodyPr>
                    <a:p>
                      <a:pPr>
                        <a:lnSpc>
                          <a:spcPct val="140000"/>
                        </a:lnSpc>
                        <a:tabLst>
                          <a:tab algn="l" pos="0"/>
                          <a:tab algn="l" pos="80172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t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39600" bIns="39600" anchor="t">
                      <a:noAutofit/>
                    </a:bodyPr>
                    <a:p>
                      <a:pPr>
                        <a:lnSpc>
                          <a:spcPct val="140000"/>
                        </a:lnSpc>
                        <a:tabLst>
                          <a:tab algn="l" pos="0"/>
                          <a:tab algn="l" pos="80172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t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79200" rIns="79200" tIns="39600" bIns="39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         </a:t>
                      </a:r>
                      <a:r>
                        <a:rPr b="0" lang="en-US" sz="1400" spc="-1" strike="noStrike">
                          <a:solidFill>
                            <a:srgbClr val="777777"/>
                          </a:solidFill>
                          <a:latin typeface="Times New Roman"/>
                          <a:ea typeface="宋体"/>
                        </a:rPr>
                        <a:t>}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t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39600" bIns="39600" anchor="t">
                      <a:noAutofit/>
                    </a:bodyPr>
                    <a:p>
                      <a:pPr>
                        <a:lnSpc>
                          <a:spcPct val="140000"/>
                        </a:lnSpc>
                        <a:tabLst>
                          <a:tab algn="l" pos="0"/>
                          <a:tab algn="l" pos="80172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t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39600" bIns="39600" anchor="t">
                      <a:noAutofit/>
                    </a:bodyPr>
                    <a:p>
                      <a:pPr>
                        <a:lnSpc>
                          <a:spcPct val="140000"/>
                        </a:lnSpc>
                        <a:tabLst>
                          <a:tab algn="l" pos="0"/>
                          <a:tab algn="l" pos="80172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t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760">
                <a:tc>
                  <a:txBody>
                    <a:bodyPr lIns="79200" rIns="79200" tIns="39600" bIns="39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utigerNext LT Regular"/>
                          <a:ea typeface="ＭＳ Ｐゴシック"/>
                        </a:rPr>
                        <a:t>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FrutigerNext LT Regular"/>
                          <a:ea typeface="ＭＳ Ｐゴシック"/>
                        </a:rPr>
                        <a:t>}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t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39600" bIns="39600" anchor="t">
                      <a:noAutofit/>
                    </a:bodyPr>
                    <a:p>
                      <a:pPr>
                        <a:lnSpc>
                          <a:spcPct val="140000"/>
                        </a:lnSpc>
                        <a:tabLst>
                          <a:tab algn="l" pos="0"/>
                          <a:tab algn="l" pos="80172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t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39600" bIns="39600" anchor="t">
                      <a:noAutofit/>
                    </a:bodyPr>
                    <a:p>
                      <a:pPr>
                        <a:lnSpc>
                          <a:spcPct val="140000"/>
                        </a:lnSpc>
                        <a:tabLst>
                          <a:tab algn="l" pos="0"/>
                          <a:tab algn="l" pos="80172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t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040">
                <a:tc>
                  <a:txBody>
                    <a:bodyPr lIns="79200" rIns="79200" tIns="39600" bIns="39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}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t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39600" bIns="39600" anchor="t">
                      <a:noAutofit/>
                    </a:bodyPr>
                    <a:p>
                      <a:pPr>
                        <a:lnSpc>
                          <a:spcPct val="140000"/>
                        </a:lnSpc>
                        <a:tabLst>
                          <a:tab algn="l" pos="0"/>
                          <a:tab algn="l" pos="80172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t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39600" bIns="39600" anchor="t">
                      <a:noAutofit/>
                    </a:bodyPr>
                    <a:p>
                      <a:pPr>
                        <a:lnSpc>
                          <a:spcPct val="140000"/>
                        </a:lnSpc>
                        <a:tabLst>
                          <a:tab algn="l" pos="0"/>
                          <a:tab algn="l" pos="80172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t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51960" y="4392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marL="343080"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3400" spc="-1" strike="noStrike">
                <a:solidFill>
                  <a:srgbClr val="990000"/>
                </a:solidFill>
                <a:latin typeface="FrutigerNext LT Medium"/>
              </a:rPr>
              <a:t>Slice End Address Signaling</a:t>
            </a: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684000" y="764640"/>
            <a:ext cx="8280360" cy="41943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For CABAC, it is necessary to indicate the end of slice.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ignal slice end address in slice header hierarchically.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68" name="日期占位符 3"/>
          <p:cNvSpPr/>
          <p:nvPr/>
        </p:nvSpPr>
        <p:spPr>
          <a:xfrm>
            <a:off x="6361200" y="6489720"/>
            <a:ext cx="2097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Bold"/>
              </a:rPr>
              <a:t>Page </a:t>
            </a:r>
            <a:fld id="{7EAEBF6D-0AFB-4BCC-AD0C-D683017816AE}" type="slidenum">
              <a:rPr b="0" lang="de-DE" sz="1200" spc="-1" strike="noStrike">
                <a:solidFill>
                  <a:srgbClr val="000000"/>
                </a:solidFill>
                <a:latin typeface="FrutigerNext LT Bol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FrutigerNext LT Regular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1187280" y="1847880"/>
          <a:ext cx="5796000" cy="4838760"/>
        </p:xfrm>
        <a:graphic>
          <a:graphicData uri="http://schemas.openxmlformats.org/drawingml/2006/table">
            <a:tbl>
              <a:tblPr/>
              <a:tblGrid>
                <a:gridCol w="3816360"/>
                <a:gridCol w="673200"/>
                <a:gridCol w="1306440"/>
              </a:tblGrid>
              <a:tr h="292680">
                <a:tc>
                  <a:txBody>
                    <a:bodyPr lIns="79200" rIns="79200" tIns="39600" bIns="39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slice_header( ) {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t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39600" bIns="39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C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t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39600" bIns="39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Descripto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t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5120">
                <a:tc>
                  <a:txBody>
                    <a:bodyPr lIns="79200" rIns="79200" tIns="39600" bIns="39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if(entropy_coding_mode_flag){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t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39600" bIns="39600" anchor="t">
                      <a:noAutofit/>
                    </a:bodyPr>
                    <a:p>
                      <a:pPr>
                        <a:lnSpc>
                          <a:spcPct val="140000"/>
                        </a:lnSpc>
                        <a:tabLst>
                          <a:tab algn="l" pos="0"/>
                          <a:tab algn="l" pos="80172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t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39600" bIns="39600" anchor="t">
                      <a:noAutofit/>
                    </a:bodyPr>
                    <a:p>
                      <a:pPr>
                        <a:lnSpc>
                          <a:spcPct val="140000"/>
                        </a:lnSpc>
                        <a:tabLst>
                          <a:tab algn="l" pos="0"/>
                          <a:tab algn="l" pos="80172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t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680">
                <a:tc>
                  <a:txBody>
                    <a:bodyPr lIns="79200" rIns="79200" tIns="39600" bIns="39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slice_end_is_pic_end_fl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t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39600" bIns="39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t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39600" bIns="39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u(1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t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5120">
                <a:tc>
                  <a:txBody>
                    <a:bodyPr lIns="79200" rIns="79200" tIns="39600" bIns="39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if(slice_end_is_pic_end_flag==0) {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t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39600" bIns="39600" anchor="t">
                      <a:noAutofit/>
                    </a:bodyPr>
                    <a:p>
                      <a:pPr>
                        <a:lnSpc>
                          <a:spcPct val="140000"/>
                        </a:lnSpc>
                        <a:tabLst>
                          <a:tab algn="l" pos="0"/>
                          <a:tab algn="l" pos="80172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t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39600" bIns="39600" anchor="t">
                      <a:noAutofit/>
                    </a:bodyPr>
                    <a:p>
                      <a:pPr>
                        <a:lnSpc>
                          <a:spcPct val="140000"/>
                        </a:lnSpc>
                        <a:tabLst>
                          <a:tab algn="l" pos="0"/>
                          <a:tab algn="l" pos="80172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t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680">
                <a:tc>
                  <a:txBody>
                    <a:bodyPr lIns="79200" rIns="79200" tIns="39600" bIns="39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num_of_lcus_in_slice_minus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t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39600" bIns="39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t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39600" bIns="39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u(v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t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5120">
                <a:tc>
                  <a:txBody>
                    <a:bodyPr lIns="79200" rIns="79200" tIns="39600" bIns="39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           </a:t>
                      </a:r>
                      <a:r>
                        <a:rPr b="0" lang="en-US" sz="1400" spc="-1" strike="noStrike">
                          <a:solidFill>
                            <a:srgbClr val="777777"/>
                          </a:solidFill>
                          <a:latin typeface="Times New Roman"/>
                          <a:ea typeface="宋体"/>
                        </a:rPr>
                        <a:t>if(lcu_slice_flag==0){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t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39600" bIns="39600" anchor="t">
                      <a:noAutofit/>
                    </a:bodyPr>
                    <a:p>
                      <a:pPr>
                        <a:lnSpc>
                          <a:spcPct val="140000"/>
                        </a:lnSpc>
                        <a:tabLst>
                          <a:tab algn="l" pos="0"/>
                          <a:tab algn="l" pos="80172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t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39600" bIns="39600" anchor="t">
                      <a:noAutofit/>
                    </a:bodyPr>
                    <a:p>
                      <a:pPr>
                        <a:lnSpc>
                          <a:spcPct val="140000"/>
                        </a:lnSpc>
                        <a:tabLst>
                          <a:tab algn="l" pos="0"/>
                          <a:tab algn="l" pos="80172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t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680">
                <a:tc>
                  <a:txBody>
                    <a:bodyPr lIns="79200" rIns="79200" tIns="39600" bIns="39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      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last_scu_is_zero_flag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t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39600" bIns="39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t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39600" bIns="39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u(1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t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5120">
                <a:tc>
                  <a:txBody>
                    <a:bodyPr lIns="79200" rIns="79200" tIns="39600" bIns="39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     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if(last_scu_is_zero_flag == 0) {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t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39600" bIns="39600" anchor="t">
                      <a:noAutofit/>
                    </a:bodyPr>
                    <a:p>
                      <a:pPr>
                        <a:lnSpc>
                          <a:spcPct val="140000"/>
                        </a:lnSpc>
                        <a:tabLst>
                          <a:tab algn="l" pos="0"/>
                          <a:tab algn="l" pos="80172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t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39600" bIns="39600" anchor="t">
                      <a:noAutofit/>
                    </a:bodyPr>
                    <a:p>
                      <a:pPr>
                        <a:lnSpc>
                          <a:spcPct val="140000"/>
                        </a:lnSpc>
                        <a:tabLst>
                          <a:tab algn="l" pos="0"/>
                          <a:tab algn="l" pos="80172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t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680">
                <a:tc>
                  <a:txBody>
                    <a:bodyPr lIns="79200" rIns="79200" tIns="39600" bIns="39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           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last_scu_in_slice_minus_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t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39600" bIns="39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t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39600" bIns="39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u(v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t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5120">
                <a:tc>
                  <a:txBody>
                    <a:bodyPr lIns="79200" rIns="79200" tIns="39600" bIns="39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     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}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t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39600" bIns="39600" anchor="t">
                      <a:noAutofit/>
                    </a:bodyPr>
                    <a:p>
                      <a:pPr>
                        <a:lnSpc>
                          <a:spcPct val="140000"/>
                        </a:lnSpc>
                        <a:tabLst>
                          <a:tab algn="l" pos="0"/>
                          <a:tab algn="l" pos="80172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t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39600" bIns="39600" anchor="t">
                      <a:noAutofit/>
                    </a:bodyPr>
                    <a:p>
                      <a:pPr>
                        <a:lnSpc>
                          <a:spcPct val="140000"/>
                        </a:lnSpc>
                        <a:tabLst>
                          <a:tab algn="l" pos="0"/>
                          <a:tab algn="l" pos="80172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t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5120">
                <a:tc>
                  <a:txBody>
                    <a:bodyPr lIns="79200" rIns="79200" tIns="39600" bIns="39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           </a:t>
                      </a:r>
                      <a:r>
                        <a:rPr b="0" lang="en-US" sz="1400" spc="-1" strike="noStrike">
                          <a:solidFill>
                            <a:srgbClr val="777777"/>
                          </a:solidFill>
                          <a:latin typeface="Times New Roman"/>
                          <a:ea typeface="宋体"/>
                        </a:rPr>
                        <a:t>}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t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39600" bIns="39600" anchor="t">
                      <a:noAutofit/>
                    </a:bodyPr>
                    <a:p>
                      <a:pPr>
                        <a:lnSpc>
                          <a:spcPct val="140000"/>
                        </a:lnSpc>
                        <a:tabLst>
                          <a:tab algn="l" pos="0"/>
                          <a:tab algn="l" pos="80172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t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39600" bIns="39600" anchor="t">
                      <a:noAutofit/>
                    </a:bodyPr>
                    <a:p>
                      <a:pPr>
                        <a:lnSpc>
                          <a:spcPct val="140000"/>
                        </a:lnSpc>
                        <a:tabLst>
                          <a:tab algn="l" pos="0"/>
                          <a:tab algn="l" pos="80172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t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5480">
                <a:tc>
                  <a:txBody>
                    <a:bodyPr lIns="79200" rIns="79200" tIns="39600" bIns="39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}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t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39600" bIns="39600" anchor="t">
                      <a:noAutofit/>
                    </a:bodyPr>
                    <a:p>
                      <a:pPr>
                        <a:lnSpc>
                          <a:spcPct val="140000"/>
                        </a:lnSpc>
                        <a:tabLst>
                          <a:tab algn="l" pos="0"/>
                          <a:tab algn="l" pos="80172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t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39600" bIns="39600" anchor="t">
                      <a:noAutofit/>
                    </a:bodyPr>
                    <a:p>
                      <a:pPr>
                        <a:lnSpc>
                          <a:spcPct val="140000"/>
                        </a:lnSpc>
                        <a:tabLst>
                          <a:tab algn="l" pos="0"/>
                          <a:tab algn="l" pos="80172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t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5120">
                <a:tc>
                  <a:txBody>
                    <a:bodyPr lIns="79200" rIns="79200" tIns="39600" bIns="39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}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t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39600" bIns="39600" anchor="t">
                      <a:noAutofit/>
                    </a:bodyPr>
                    <a:p>
                      <a:pPr>
                        <a:lnSpc>
                          <a:spcPct val="140000"/>
                        </a:lnSpc>
                        <a:tabLst>
                          <a:tab algn="l" pos="0"/>
                          <a:tab algn="l" pos="80172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t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39600" bIns="39600" anchor="t">
                      <a:noAutofit/>
                    </a:bodyPr>
                    <a:p>
                      <a:pPr>
                        <a:lnSpc>
                          <a:spcPct val="140000"/>
                        </a:lnSpc>
                        <a:tabLst>
                          <a:tab algn="l" pos="0"/>
                          <a:tab algn="l" pos="80172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t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4040">
                <a:tc>
                  <a:txBody>
                    <a:bodyPr lIns="79200" rIns="79200" tIns="39600" bIns="396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}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t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39600" bIns="39600" anchor="t">
                      <a:noAutofit/>
                    </a:bodyPr>
                    <a:p>
                      <a:pPr>
                        <a:lnSpc>
                          <a:spcPct val="140000"/>
                        </a:lnSpc>
                        <a:tabLst>
                          <a:tab algn="l" pos="0"/>
                          <a:tab algn="l" pos="80172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t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9200" rIns="79200" tIns="39600" bIns="39600" anchor="t">
                      <a:noAutofit/>
                    </a:bodyPr>
                    <a:p>
                      <a:pPr>
                        <a:lnSpc>
                          <a:spcPct val="140000"/>
                        </a:lnSpc>
                        <a:tabLst>
                          <a:tab algn="l" pos="0"/>
                          <a:tab algn="l" pos="801720"/>
                          <a:tab algn="l" pos="1603440"/>
                          <a:tab algn="l" pos="2405160"/>
                          <a:tab algn="l" pos="3206880"/>
                          <a:tab algn="l" pos="4008600"/>
                          <a:tab algn="l" pos="4809960"/>
                          <a:tab algn="l" pos="5611680"/>
                          <a:tab algn="l" pos="6413400"/>
                          <a:tab algn="l" pos="7215120"/>
                          <a:tab algn="l" pos="8016840"/>
                          <a:tab algn="l" pos="8818560"/>
                          <a:tab algn="l" pos="9620280"/>
                          <a:tab algn="l" pos="104220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t" marL="79200" marR="79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51960" y="213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marL="343080"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3400" spc="-1" strike="noStrike">
                <a:solidFill>
                  <a:srgbClr val="990000"/>
                </a:solidFill>
                <a:latin typeface="FrutigerNext LT Medium"/>
              </a:rPr>
              <a:t>Split Flag Deducing</a:t>
            </a: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684360" y="1052640"/>
            <a:ext cx="792936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plit flag for the first LCU in the slice can be deduced for some particular cases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72" name="日期占位符 3"/>
          <p:cNvSpPr/>
          <p:nvPr/>
        </p:nvSpPr>
        <p:spPr>
          <a:xfrm>
            <a:off x="6361200" y="6489720"/>
            <a:ext cx="2097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Bold"/>
              </a:rPr>
              <a:t>Page </a:t>
            </a:r>
            <a:fld id="{19DD63E0-1719-4D8E-AF12-4C77C6A63524}" type="slidenum">
              <a:rPr b="0" lang="de-DE" sz="1200" spc="-1" strike="noStrike">
                <a:solidFill>
                  <a:srgbClr val="000000"/>
                </a:solidFill>
                <a:latin typeface="FrutigerNext LT Bol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FrutigerNext LT Regular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714240" y="2060640"/>
          <a:ext cx="7786800" cy="4530600"/>
        </p:xfrm>
        <a:graphic>
          <a:graphicData uri="http://schemas.openxmlformats.org/drawingml/2006/table">
            <a:tbl>
              <a:tblPr/>
              <a:tblGrid>
                <a:gridCol w="6072480"/>
                <a:gridCol w="642960"/>
                <a:gridCol w="1071360"/>
              </a:tblGrid>
              <a:tr h="297720">
                <a:tc>
                  <a:txBody>
                    <a:bodyPr lIns="66240" rIns="66240" tIns="42120" bIns="42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coding_unit( ) {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42120" bIns="42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C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42120" bIns="42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Descripto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760">
                <a:tc>
                  <a:txBody>
                    <a:bodyPr lIns="66240" rIns="66240" tIns="42120" bIns="42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	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if(CurrentCUInPicRange &amp;&amp; CurrCodingUnitSize &gt; MinCodingUnitSize ){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42120" bIns="421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42120" bIns="4212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720">
                <a:tc>
                  <a:txBody>
                    <a:bodyPr lIns="66240" rIns="66240" tIns="42120" bIns="42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if(LCUAddress != SliceStartLCUAddress){  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42120" bIns="421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42120" bIns="4212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720">
                <a:tc>
                  <a:txBody>
                    <a:bodyPr lIns="66240" rIns="66240" tIns="42120" bIns="42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    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split_coding_unit_flag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42120" bIns="421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42120" bIns="4212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720">
                <a:tc>
                  <a:txBody>
                    <a:bodyPr lIns="66240" rIns="66240" tIns="42120" bIns="42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}else{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42120" bIns="4212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42120" bIns="4212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spcAft>
                          <a:spcPts val="3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720">
                <a:tc>
                  <a:txBody>
                    <a:bodyPr lIns="66240" rIns="66240" tIns="42120" bIns="42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if(StartAddress&gt;=SliceStartSCUAddress 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42120" bIns="42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42120" bIns="42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720">
                <a:tc>
                  <a:txBody>
                    <a:bodyPr lIns="66240" rIns="66240" tIns="42120" bIns="42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split_coding_unit_flag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42120" bIns="42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42120" bIns="42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u(1) | ae(v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1840">
                <a:tc>
                  <a:txBody>
                    <a:bodyPr lIns="66240" rIns="66240" tIns="42120" bIns="42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else if(StartAddress+ CurrCodingUnitSize &lt; SliceStartSCUAddress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42120" bIns="42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42120" bIns="42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720">
                <a:tc>
                  <a:txBody>
                    <a:bodyPr lIns="66240" rIns="66240" tIns="42120" bIns="42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   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split_coding_unit_flag=0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42120" bIns="42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42120" bIns="42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720">
                <a:tc>
                  <a:txBody>
                    <a:bodyPr lIns="66240" rIns="66240" tIns="42120" bIns="42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el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42120" bIns="42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42120" bIns="42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720">
                <a:tc>
                  <a:txBody>
                    <a:bodyPr lIns="66240" rIns="66240" tIns="42120" bIns="42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split_coding_unit_flag=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42120" bIns="42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42120" bIns="42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720">
                <a:tc>
                  <a:txBody>
                    <a:bodyPr lIns="66240" rIns="66240" tIns="42120" bIns="42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}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42120" bIns="42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42120" bIns="42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720">
                <a:tc>
                  <a:txBody>
                    <a:bodyPr lIns="66240" rIns="66240" tIns="42120" bIns="42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}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42120" bIns="42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42120" bIns="42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720">
                <a:tc>
                  <a:txBody>
                    <a:bodyPr lIns="66240" rIns="66240" tIns="42120" bIns="42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…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42120" bIns="42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42120" bIns="42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7720">
                <a:tc>
                  <a:txBody>
                    <a:bodyPr lIns="66240" rIns="66240" tIns="42120" bIns="42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}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42120" bIns="42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240" rIns="66240" tIns="42120" bIns="4212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t" marL="66240" marR="66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51960" y="429840"/>
            <a:ext cx="7745400" cy="87156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ctr">
            <a:noAutofit/>
          </a:bodyPr>
          <a:p>
            <a:pPr marL="343080" indent="0">
              <a:buNone/>
              <a:tabLst>
                <a:tab algn="l" pos="0"/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3400" spc="-1" strike="noStrike">
                <a:solidFill>
                  <a:srgbClr val="990000"/>
                </a:solidFill>
                <a:latin typeface="FrutigerNext LT Medium"/>
              </a:rPr>
              <a:t>Simulation Results</a:t>
            </a:r>
            <a:endParaRPr b="0" lang="en-US" sz="3400" spc="-1" strike="noStrike">
              <a:solidFill>
                <a:srgbClr val="990000"/>
              </a:solidFill>
              <a:latin typeface="FrutigerNext LT Medium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651960" y="1641600"/>
            <a:ext cx="7929720" cy="41940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rmAutofit/>
          </a:bodyPr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Reports the performance of slice partition based on LCU and CU respectively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  <a:p>
            <a:pPr marL="299880" indent="-299880">
              <a:lnSpc>
                <a:spcPct val="140000"/>
              </a:lnSpc>
              <a:buClr>
                <a:srgbClr val="777777"/>
              </a:buClr>
              <a:buSzPct val="60000"/>
              <a:buFont typeface="Wingdings" charset="2"/>
              <a:buChar char=""/>
              <a:tabLst>
                <a:tab algn="l" pos="801720"/>
                <a:tab algn="l" pos="1603440"/>
                <a:tab algn="l" pos="2405160"/>
                <a:tab algn="l" pos="3206880"/>
                <a:tab algn="l" pos="4008600"/>
                <a:tab algn="l" pos="4809960"/>
                <a:tab algn="l" pos="5611680"/>
                <a:tab algn="l" pos="6413400"/>
                <a:tab algn="l" pos="7215120"/>
                <a:tab algn="l" pos="8016840"/>
                <a:tab algn="l" pos="8818560"/>
                <a:tab algn="l" pos="9620280"/>
                <a:tab algn="l" pos="10422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Next LT Regular"/>
              </a:rPr>
              <a:t>Slice setting: 1500bytes per slice</a:t>
            </a:r>
            <a:endParaRPr b="1" lang="en-US" sz="2000" spc="-1" strike="noStrike">
              <a:solidFill>
                <a:srgbClr val="000000"/>
              </a:solidFill>
              <a:latin typeface="FrutigerNext LT Regular"/>
            </a:endParaRPr>
          </a:p>
        </p:txBody>
      </p:sp>
      <p:sp>
        <p:nvSpPr>
          <p:cNvPr id="276" name="日期占位符 3"/>
          <p:cNvSpPr/>
          <p:nvPr/>
        </p:nvSpPr>
        <p:spPr>
          <a:xfrm>
            <a:off x="6361200" y="6489720"/>
            <a:ext cx="20970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FrutigerNext LT Bold"/>
              </a:rPr>
              <a:t>Page </a:t>
            </a:r>
            <a:fld id="{B8DFFA70-327C-4E13-9EE4-29765817D169}" type="slidenum">
              <a:rPr b="0" lang="de-DE" sz="1200" spc="-1" strike="noStrike">
                <a:solidFill>
                  <a:srgbClr val="000000"/>
                </a:solidFill>
                <a:latin typeface="FrutigerNext LT Bol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FrutigerNext LT Regular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1000080" y="3357720"/>
          <a:ext cx="7072200" cy="1890720"/>
        </p:xfrm>
        <a:graphic>
          <a:graphicData uri="http://schemas.openxmlformats.org/drawingml/2006/table">
            <a:tbl>
              <a:tblPr/>
              <a:tblGrid>
                <a:gridCol w="1857600"/>
                <a:gridCol w="2643120"/>
                <a:gridCol w="2571480"/>
              </a:tblGrid>
              <a:tr h="576000"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Slice partition based on LCU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  <a:p>
                      <a:pPr marL="228600"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(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ad-hoc group source code)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Slice partition based on CU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Randomaccess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.54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.0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Lowdelay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.10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.5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Intra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.76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.4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8880"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Randomaccess_loc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.61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.0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Lowdelay_loc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.09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.3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Intra_loco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5.42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marL="228600" algn="just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6.0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FrutigerNext LT Regular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5T07:44:50Z</dcterms:created>
  <dc:creator>huawei</dc:creator>
  <dc:description/>
  <dc:language>en-US</dc:language>
  <cp:lastModifiedBy>shenqiu</cp:lastModifiedBy>
  <dcterms:modified xsi:type="dcterms:W3CDTF">2011-01-21T16:05:12Z</dcterms:modified>
  <cp:revision>1860</cp:revision>
  <dc:subject/>
  <dc:title>EDEP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sflag">
    <vt:lpwstr>1294643974</vt:lpwstr>
  </property>
</Properties>
</file>