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A4D1-1810-40FC-8E4F-F931ED7DAE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149E-2976-4457-B4E3-C69A74EEA3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65C1-C230-4FA0-97D7-3DBED176C7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66024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DE9B42DB-5EEC-4379-9089-C06F03759BA1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3898080" y="643896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1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2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3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4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5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16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7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8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19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0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21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2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3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5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26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7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8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29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31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2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4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5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36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7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8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0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41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2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3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4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5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46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7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8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49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0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51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2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3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4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5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56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7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8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59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0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61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2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3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4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5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66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7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8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69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0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  <p:grpSp>
        <p:nvGrpSpPr>
          <p:cNvPr id="71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2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3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4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  <p:sp>
          <p:nvSpPr>
            <p:cNvPr id="75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20"/>
          <p:cNvSpPr/>
          <p:nvPr/>
        </p:nvSpPr>
        <p:spPr>
          <a:xfrm>
            <a:off x="66024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717768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3989880" y="6207120"/>
            <a:ext cx="1989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Confidential </a:t>
            </a:r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8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1118-84D8-4897-B3EC-1CD685ECF1F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B366C26F-FA6F-4285-B3E9-3AB723A4E0D2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68360" y="4797360"/>
            <a:ext cx="5400720" cy="936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Haitao Yang, Jiantong Zhou, Haoping Yu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Huawei Technologies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539640" y="1773360"/>
            <a:ext cx="6120000" cy="2016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FrutigerNext LT Medium"/>
              </a:rPr>
              <a:t>CE7: Simplified MDDT scheme using symmetry-based scanning orders</a:t>
            </a:r>
            <a:r>
              <a:rPr b="0" lang="en-US" sz="2800" spc="-1" strike="noStrike">
                <a:solidFill>
                  <a:srgbClr val="990000"/>
                </a:solidFill>
                <a:latin typeface="FrutigerNext LT Medium"/>
              </a:rPr>
              <a:t> (JCTVC-D304)</a:t>
            </a:r>
            <a:endParaRPr b="0" lang="en-US" sz="28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8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11280" y="452520"/>
            <a:ext cx="7939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ntents</a:t>
            </a:r>
            <a:endParaRPr b="0" lang="en-US" sz="3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197000"/>
            <a:ext cx="808344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rmAutofit/>
          </a:bodyPr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34920" indent="-533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MDDT (Simplified MDDT)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MDDT-ST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34920" indent="-533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MDDT component 1 – Simplified Transform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MDDT-SSO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34920" indent="-533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MDDT component 2 – Symmetry-based Scanning Orders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D performanc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omplexity analysi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80880" indent="-380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losing remarks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Introdu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MDDT (Simplified MDDT)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T (Simplified Transform): 4 mode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SO (Symmetry-based Scanning Orders): 3 modes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1280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SMDDT-S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6000"/>
          </a:bodyPr>
          <a:p>
            <a:pPr marL="287640" indent="-287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mplemented as DCT/DST combina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-287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sed in a mode dependent manne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-28764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or 4x4 and 8x8 TUs only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8764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335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MDDT-SSO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The trained scanning orders are of symmetric properties (JCTVC-C106)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orizontal/Vertical symmetric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Transposing symmetric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33 prediction directions in TMuC0.9 -&gt; 3 SSO modes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258920" y="2997360"/>
          <a:ext cx="2952720" cy="26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97360"/>
                    <a:ext cx="2952720" cy="26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788000" y="3213000"/>
          <a:ext cx="198252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213000"/>
                    <a:ext cx="19825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039320" y="5657760"/>
            <a:ext cx="34142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(a) 33 prediction directions in TMuC0.9 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6" name=""/>
          <p:cNvSpPr/>
          <p:nvPr/>
        </p:nvSpPr>
        <p:spPr>
          <a:xfrm>
            <a:off x="4866120" y="5657760"/>
            <a:ext cx="1416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(b) SSO modes 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MDDT-SSO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or SSO mode 0, conventional zigzag scan is used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or SSO mode 1 &amp; 2, two scanning orders are obtained through train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Encode the sequences in the training set using TMuC0.9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Get the statistics of the significant flag count of each block position inside a TU 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ort the count in descending order to get the scanning order  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 the implementation, SSO is used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For 4x4 and 8x8 TUs in the HE case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For all size TUs in the LC case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0">
              <a:lnSpc>
                <a:spcPct val="140000"/>
              </a:lnSpc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-39240" bIns="-392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RD performanc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272" name="Rectangle 68"/>
          <p:cNvGraphicFramePr/>
          <p:nvPr/>
        </p:nvGraphicFramePr>
        <p:xfrm>
          <a:off x="4667400" y="1773360"/>
          <a:ext cx="4846320" cy="19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Rectangle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7400" y="1773360"/>
                    <a:ext cx="48463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Rectangle 68"/>
          <p:cNvGraphicFramePr/>
          <p:nvPr/>
        </p:nvGraphicFramePr>
        <p:xfrm>
          <a:off x="539640" y="1773360"/>
          <a:ext cx="4848480" cy="196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5" name="Rectangle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773360"/>
                    <a:ext cx="484848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360" y="3789360"/>
            <a:ext cx="7929360" cy="20210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Gain of the SMDDT scheme in Intra HE/LC case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-2.0%/-2.9%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Gain from SMDDT-ST in Intra HE/LC case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-1.3%/-2.2%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Gain from SMDDT-SSO in Intra HE/LC case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-0.7%/-0.7%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mplexity analysi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3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The decoding time increase caused by the proposed SMDDT is small, 1%/3% in the Intra HE/LC case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3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MDDT-ST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4x4 and 8x8 DCT share the same implementation already in TMuC0.9 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8x8 DST is implemented as regular matrix multiplication 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4x4 DST is simplified using the method proposed in JCTVC-D046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3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MDDT-SSO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Two additional scanning orders besides zigzag needs to be stored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For 4x4 and 8x8 TUs, the full scanning orders are stored. For TUs larger than 8x8, only first 64 scanning positions are stored in order.  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3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Conditional swap of the x and y component of a block position is performed in the implementation, negligible computational complexity 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losing remark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8000"/>
          </a:bodyPr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dditional scanning orders can improve the efficiency in the coding of intra coefficients 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The number of scanning orders can be kept small if it is designed in a symmetric way 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The additional scanning orders with symmetric features can be implemented efficiently</a:t>
            </a: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The proposed SMDDT scheme using symmetry-based scanning orders show good balance between the performance and the complexity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e suggest the simplified MDDT scheme with the proposed symmetry-based scanning orders is adopted in HM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39:39Z</dcterms:created>
  <dc:creator>huawei</dc:creator>
  <dc:description/>
  <dc:language>en-US</dc:language>
  <cp:lastModifiedBy>Haitao Yang</cp:lastModifiedBy>
  <dcterms:modified xsi:type="dcterms:W3CDTF">2011-01-20T15:21:11Z</dcterms:modified>
  <cp:revision>2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71147924</vt:lpwstr>
  </property>
</Properties>
</file>