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DC10-E4AA-4A89-89B5-B4462A124E4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FE16-2856-4B14-8053-1EA78B77EE7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DD41-F72A-4CEA-9204-0500D65C6DD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642600" y="6438960"/>
            <a:ext cx="26391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2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F35FBD5D-4F53-463C-8220-D8BEA1D48A40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10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11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12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13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14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15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6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17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18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19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20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21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2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3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4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25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6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7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8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9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30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31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32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33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34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35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6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37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38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39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40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41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42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43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44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45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6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47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48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49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50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51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52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53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54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55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6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57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58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59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60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61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62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63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64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65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6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67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68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69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70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71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72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73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74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-1844640" y="898560"/>
            <a:ext cx="184464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8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9" descr="Logo"/>
          <p:cNvPicPr/>
          <p:nvPr/>
        </p:nvPicPr>
        <p:blipFill>
          <a:blip r:embed="rId2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2"/>
          <p:cNvPicPr/>
          <p:nvPr/>
        </p:nvPicPr>
        <p:blipFill>
          <a:blip r:embed="rId3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0"/>
          <p:cNvSpPr/>
          <p:nvPr/>
        </p:nvSpPr>
        <p:spPr>
          <a:xfrm>
            <a:off x="642600" y="6207120"/>
            <a:ext cx="26391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6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2"/>
          </p:nvPr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5705-B0A8-4E5B-9B49-E4E9DFB63277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6"/>
          <p:cNvSpPr/>
          <p:nvPr/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fld id="{8519B1B6-1C58-4234-A617-48BE15EF6F94}" type="datetime">
              <a:rPr b="0" lang="zh-CN" sz="1200" spc="-1" strike="noStrike">
                <a:solidFill>
                  <a:srgbClr val="000000"/>
                </a:solidFill>
                <a:latin typeface="FrutigerNext LT Regular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250920" y="3499920"/>
            <a:ext cx="6697440" cy="29530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Xiaoran Cao, Xiulian Peng, Changcai Lai, Yunfei Wang,Yongbing Lin, Jizheng Xu, Lingzhi Liu, Jianhua Zheng, Yun He, Haoping Yu, Feng Wu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(Tsinghua, USTC, Mircosoft, HiSilion, Huawei)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394920" y="1557000"/>
            <a:ext cx="6480360" cy="1717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FrutigerNext LT Medium"/>
              </a:rPr>
              <a:t>CE6.b Report on Short Distance Intra Prediction Method</a:t>
            </a:r>
            <a:r>
              <a:rPr b="0" lang="en-US" sz="2400" spc="-1" strike="noStrike">
                <a:solidFill>
                  <a:srgbClr val="990000"/>
                </a:solidFill>
                <a:latin typeface="FrutigerNext LT Medium"/>
              </a:rPr>
              <a:t> </a:t>
            </a:r>
            <a:endParaRPr b="0" lang="en-US" sz="2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6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Results of Normal configuration in CE6 test conditions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1960" y="1641240"/>
            <a:ext cx="7664760" cy="1716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In this normal configuration, SDIP mode was skipped when the RD costs of SIZE_NxN and SIZE_2Nx2N are smaller than a threshold value. 17 modes are used for 1x4/4x1, 2x8/8x2 and 1x16/16x1 partitions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，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34 modes are used for 4x16/16x4 partitions. 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755640" y="3860640"/>
          <a:ext cx="7200720" cy="1460160"/>
        </p:xfrm>
        <a:graphic>
          <a:graphicData uri="http://schemas.openxmlformats.org/drawingml/2006/table">
            <a:tbl>
              <a:tblPr/>
              <a:tblGrid>
                <a:gridCol w="2274480"/>
                <a:gridCol w="2274120"/>
                <a:gridCol w="1363680"/>
                <a:gridCol w="1288440"/>
              </a:tblGrid>
              <a:tr h="438480">
                <a:tc>
                  <a:txBody>
                    <a:bodyPr lIns="79200" rIns="79200" tIns="39600" bIns="39600" anchor="t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mpi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1680">
                <a:tc>
                  <a:txBody>
                    <a:bodyPr lIns="79200" rIns="79200" tIns="39600" bIns="39600" anchor="t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indows Server 2008 R2 64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xIntel Xeon L5420@2.5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VS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Results of Normal configuration in CE6 test conditions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24" name=""/>
          <p:cNvSpPr/>
          <p:nvPr/>
        </p:nvSpPr>
        <p:spPr>
          <a:xfrm>
            <a:off x="2615400" y="1628640"/>
            <a:ext cx="4245120" cy="6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1. Results of normal configuration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971640" y="2205000"/>
          <a:ext cx="7416720" cy="3662280"/>
        </p:xfrm>
        <a:graphic>
          <a:graphicData uri="http://schemas.openxmlformats.org/drawingml/2006/table">
            <a:tbl>
              <a:tblPr/>
              <a:tblGrid>
                <a:gridCol w="1393560"/>
                <a:gridCol w="1000440"/>
                <a:gridCol w="1012680"/>
                <a:gridCol w="998640"/>
                <a:gridCol w="1000080"/>
                <a:gridCol w="1011240"/>
                <a:gridCol w="1000080"/>
              </a:tblGrid>
              <a:tr h="322920">
                <a:tc rowSpan="2"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ra Lo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920">
                <a:tc>
                  <a:txBody>
                    <a:bodyPr lIns="79200" rIns="79200" tIns="39600" bIns="396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22920">
                <a:tc>
                  <a:txBody>
                    <a:bodyPr lIns="79200" rIns="79200" tIns="39600" bIns="396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22920">
                <a:tc>
                  <a:txBody>
                    <a:bodyPr lIns="79200" rIns="79200" tIns="39600" bIns="396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7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22920">
                <a:tc>
                  <a:txBody>
                    <a:bodyPr lIns="79200" rIns="79200" tIns="39600" bIns="396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7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22920">
                <a:tc>
                  <a:txBody>
                    <a:bodyPr lIns="79200" rIns="79200" tIns="39600" bIns="396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7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22920">
                <a:tc>
                  <a:txBody>
                    <a:bodyPr lIns="79200" rIns="79200" tIns="39600" bIns="396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16520">
                <a:tc>
                  <a:txBody>
                    <a:bodyPr lIns="79200" rIns="79200" tIns="39600" bIns="396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8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lIns="79200" rIns="79200" tIns="39600" bIns="396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2262240" cy="158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FrutigerNext LT Medium"/>
              </a:rPr>
              <a:t>Results of Normal configuration</a:t>
            </a:r>
            <a:endParaRPr b="0" lang="en-US" sz="28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27" name=""/>
          <p:cNvSpPr/>
          <p:nvPr/>
        </p:nvSpPr>
        <p:spPr>
          <a:xfrm>
            <a:off x="395280" y="2995200"/>
            <a:ext cx="1943280" cy="22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2. Comparison of coding efficiency for test sequences</a:t>
            </a:r>
            <a:endParaRPr b="0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916360" y="0"/>
          <a:ext cx="5903640" cy="6340320"/>
        </p:xfrm>
        <a:graphic>
          <a:graphicData uri="http://schemas.openxmlformats.org/drawingml/2006/table">
            <a:tbl>
              <a:tblPr/>
              <a:tblGrid>
                <a:gridCol w="2873160"/>
                <a:gridCol w="1440000"/>
                <a:gridCol w="1590480"/>
              </a:tblGrid>
              <a:tr h="38592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 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 Efficienc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 Intr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Complex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equ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D-bit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D-bit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asketballPass_416x240_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8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QSquare_416x240_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7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lowingBubbles_416x240_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ceHorses_416x240_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4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e WQV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7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asketballDrill_832x480_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9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QMall_832x480_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8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artyScene_832x480_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ceHorses_832x480_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e WV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7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dyo1_720p_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dyo3_720p_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4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dyo4_720p_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e 720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Kimono1_1920x1080_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arkScene_1920x1080_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actus_1920x1080_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asketballDrive_1920x1080_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7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4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QTerrace_1920x1080_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e 1080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raffic_2560x1600_30_cr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opleOnStreet_2560x1600_30_cr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e 1600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Results of Faster configuration in CE6 test conditions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1960" y="1641240"/>
            <a:ext cx="7664760" cy="1716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3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ddition to the SDIP early skip method, for 4x16 blocks, intra modes 26-33 were skipped and modes 18-25 were skipped for 16x4 partitions, in addition, 1x16/16x1 blocks used the best mode of corresponding 4x16/16x4 partitions.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755640" y="3860640"/>
          <a:ext cx="7200720" cy="1460160"/>
        </p:xfrm>
        <a:graphic>
          <a:graphicData uri="http://schemas.openxmlformats.org/drawingml/2006/table">
            <a:tbl>
              <a:tblPr/>
              <a:tblGrid>
                <a:gridCol w="2274480"/>
                <a:gridCol w="2274120"/>
                <a:gridCol w="1363680"/>
                <a:gridCol w="1288440"/>
              </a:tblGrid>
              <a:tr h="438480"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mpi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1680"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indows Server 2008 R2 64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xIntel Xeon L5420@2.5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VS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Results in CE6 test conditions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755640" y="2205000"/>
          <a:ext cx="7755120" cy="3470400"/>
        </p:xfrm>
        <a:graphic>
          <a:graphicData uri="http://schemas.openxmlformats.org/drawingml/2006/table">
            <a:tbl>
              <a:tblPr/>
              <a:tblGrid>
                <a:gridCol w="1457280"/>
                <a:gridCol w="1046160"/>
                <a:gridCol w="1057320"/>
                <a:gridCol w="1046160"/>
                <a:gridCol w="1044720"/>
                <a:gridCol w="1058760"/>
                <a:gridCol w="1044720"/>
              </a:tblGrid>
              <a:tr h="292680">
                <a:tc rowSpan="2"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ra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92680"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92680"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7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92680"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93400"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92680"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74120"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4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960">
                <a:tc>
                  <a:txBody>
                    <a:bodyPr lIns="79200" rIns="79200" tIns="39600" bIns="39600" anchor="b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9200" rIns="79200" tIns="39600" bIns="396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2218320" y="1598760"/>
            <a:ext cx="43012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Table 3. Resutls of faster configuration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2484360" cy="1774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Results of Faster configuration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2995200"/>
            <a:ext cx="1943280" cy="22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4. Comparison of coding efficiency for test sequences</a:t>
            </a:r>
            <a:endParaRPr b="0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276720" y="189000"/>
          <a:ext cx="5867280" cy="6273720"/>
        </p:xfrm>
        <a:graphic>
          <a:graphicData uri="http://schemas.openxmlformats.org/drawingml/2006/table">
            <a:tbl>
              <a:tblPr/>
              <a:tblGrid>
                <a:gridCol w="2855520"/>
                <a:gridCol w="1431000"/>
                <a:gridCol w="1580760"/>
              </a:tblGrid>
              <a:tr h="401400"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 In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 Efficienc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 Intr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Complex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equ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D-bit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D-bit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720"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asketballPass_416x240_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7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QSquare_416x240_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lowingBubbles_416x240_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ceHorses_416x240_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e WQV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asketballDrill_832x480_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8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QMall_832x480_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7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artyScene_832x480_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ceHorses_832x480_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e WV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7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dyo1_720p_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dyo3_720p_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dyo4_720p_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e 720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Kimono1_1920x1080_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arkScene_1920x1080_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actus_1920x1080_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asketballDrive_1920x1080_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QTerrace_1920x1080_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e 1080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raffic_2560x1600_30_cr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opleOnStreet_2560x1600_30_cr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e 1600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36000" rIns="36000" tIns="18000" bIns="18000" anchor="ctr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onclus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640720" cy="44226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80880" indent="-380880" algn="just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IP shows 4.3% and 5.7% bit rate saving on average in faster configurations, under all intra high efficiency and low complexity conditions, respectively, Up to 8.9%  bit rate saving is achieved on sequences with rich edges.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0" algn="just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-380880" algn="just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recommend to adopt the SDIP into HM as an extension of traditional square NxN partitions, and further improve the Intra coding efficiency of HEVC.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0" algn="just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934920" indent="0" algn="just">
              <a:lnSpc>
                <a:spcPct val="140000"/>
              </a:lnSpc>
              <a:buNone/>
              <a:tabLst>
                <a:tab algn="l" pos="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736560" y="452520"/>
            <a:ext cx="875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736560" y="1724040"/>
            <a:ext cx="772308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lgorithm description</a:t>
            </a:r>
            <a:endParaRPr b="0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Experimental results in CE6</a:t>
            </a:r>
            <a:endParaRPr b="0" lang="en-US" sz="28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Introduct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2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2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Intra prediction in H.264/AVC/HM of HEVC using the adjacent boundary pixels of reconstructed neighboring square blocks to get the prediction of the entire coding block.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2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2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using the correlation between rectangles, lines and pixels are proposed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1C793F74-F058-4613-8829-DB5EDFAAA6CA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745400" cy="12952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FrutigerNext LT Medium"/>
              </a:rPr>
              <a:t>Block partitions and Intra prediction in HM</a:t>
            </a:r>
            <a:endParaRPr b="0" lang="en-US" sz="32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304920" y="152280"/>
            <a:ext cx="8555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324000" y="981000"/>
            <a:ext cx="85024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880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538200" y="227664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978200" y="22766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2698920" y="2278080"/>
            <a:ext cx="720720" cy="719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1978200" y="299736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2698920" y="299736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539640" y="3718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1" name="Rectangle 12"/>
          <p:cNvSpPr/>
          <p:nvPr/>
        </p:nvSpPr>
        <p:spPr>
          <a:xfrm>
            <a:off x="900000" y="3718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2" name="Rectangle 13"/>
          <p:cNvSpPr/>
          <p:nvPr/>
        </p:nvSpPr>
        <p:spPr>
          <a:xfrm>
            <a:off x="53964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3" name="Rectangle 14"/>
          <p:cNvSpPr/>
          <p:nvPr/>
        </p:nvSpPr>
        <p:spPr>
          <a:xfrm>
            <a:off x="9000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4" name="Rectangle 15"/>
          <p:cNvSpPr/>
          <p:nvPr/>
        </p:nvSpPr>
        <p:spPr>
          <a:xfrm>
            <a:off x="1258920" y="371628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5" name="Rectangle 16"/>
          <p:cNvSpPr/>
          <p:nvPr/>
        </p:nvSpPr>
        <p:spPr>
          <a:xfrm>
            <a:off x="53964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6" name="Rectangle 17"/>
          <p:cNvSpPr/>
          <p:nvPr/>
        </p:nvSpPr>
        <p:spPr>
          <a:xfrm>
            <a:off x="9000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7" name="Rectangle 18"/>
          <p:cNvSpPr/>
          <p:nvPr/>
        </p:nvSpPr>
        <p:spPr>
          <a:xfrm>
            <a:off x="53964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8" name="Rectangle 19"/>
          <p:cNvSpPr/>
          <p:nvPr/>
        </p:nvSpPr>
        <p:spPr>
          <a:xfrm>
            <a:off x="9000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9" name="Rectangle 20"/>
          <p:cNvSpPr/>
          <p:nvPr/>
        </p:nvSpPr>
        <p:spPr>
          <a:xfrm>
            <a:off x="1258920" y="443880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0" name="Rectangle 21"/>
          <p:cNvSpPr/>
          <p:nvPr/>
        </p:nvSpPr>
        <p:spPr>
          <a:xfrm>
            <a:off x="1979640" y="3718080"/>
            <a:ext cx="1438200" cy="143820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1045440" y="18446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MuC (e.g. 64x64)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3852360" y="19144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3" name="Line 24"/>
          <p:cNvSpPr/>
          <p:nvPr/>
        </p:nvSpPr>
        <p:spPr>
          <a:xfrm flipH="1">
            <a:off x="3417840" y="21319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4" name="Text Box 25"/>
          <p:cNvSpPr/>
          <p:nvPr/>
        </p:nvSpPr>
        <p:spPr>
          <a:xfrm>
            <a:off x="3852360" y="37879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5" name="Line 26"/>
          <p:cNvSpPr/>
          <p:nvPr/>
        </p:nvSpPr>
        <p:spPr>
          <a:xfrm flipH="1">
            <a:off x="3417840" y="400536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276" name="Picture 29" descr=""/>
          <p:cNvPicPr/>
          <p:nvPr/>
        </p:nvPicPr>
        <p:blipFill>
          <a:blip r:embed="rId1"/>
          <a:srcRect l="0" t="0" r="-109" b="-170"/>
          <a:stretch/>
        </p:blipFill>
        <p:spPr>
          <a:xfrm>
            <a:off x="5435640" y="206064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745400" cy="550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FrutigerNext LT Medium"/>
              </a:rPr>
              <a:t>Non-square partitions of SDIP </a:t>
            </a:r>
            <a:endParaRPr b="0" lang="en-US" sz="2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78" name="Text Box 96"/>
          <p:cNvSpPr/>
          <p:nvPr/>
        </p:nvSpPr>
        <p:spPr>
          <a:xfrm>
            <a:off x="1838160" y="134136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U:32x32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219280" y="764640"/>
            <a:ext cx="3745080" cy="49690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8088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In addition to the NxN partitions, the partitions can also be MxN: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934920" indent="0">
              <a:lnSpc>
                <a:spcPct val="140000"/>
              </a:lnSpc>
              <a:buNone/>
              <a:tabLst>
                <a:tab algn="l" pos="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16x16-&gt;4x16/16x4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-&gt;1x16/16x1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8x8-&gt;2x8/8x2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4x4-&gt;1x4 /4x1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55640" y="2335320"/>
            <a:ext cx="3251160" cy="3249000"/>
            <a:chOff x="755640" y="2335320"/>
            <a:chExt cx="3251160" cy="3249000"/>
          </a:xfrm>
        </p:grpSpPr>
        <p:sp>
          <p:nvSpPr>
            <p:cNvPr id="281" name=""/>
            <p:cNvSpPr/>
            <p:nvPr/>
          </p:nvSpPr>
          <p:spPr>
            <a:xfrm>
              <a:off x="756720" y="2335320"/>
              <a:ext cx="3249720" cy="32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5640" y="2335320"/>
              <a:ext cx="3251160" cy="32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16</a:t>
              </a:r>
              <a:r>
                <a:rPr b="0" lang="zh-CN" sz="1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形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6720" y="2335320"/>
              <a:ext cx="1610280" cy="161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67000" y="2335320"/>
              <a:ext cx="1624680" cy="161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6720" y="3946320"/>
              <a:ext cx="1610280" cy="16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6720" y="3946320"/>
              <a:ext cx="402120" cy="16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58840" y="3946320"/>
              <a:ext cx="402120" cy="16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59880" y="3946320"/>
              <a:ext cx="403200" cy="16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81760" y="2335320"/>
              <a:ext cx="805320" cy="80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84560" y="3139920"/>
              <a:ext cx="805680" cy="80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81760" y="2335320"/>
              <a:ext cx="403200" cy="40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82440" y="2737080"/>
              <a:ext cx="402120" cy="40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81760" y="2335320"/>
              <a:ext cx="96120" cy="40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70400" y="2335320"/>
              <a:ext cx="9612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78960" y="3139920"/>
              <a:ext cx="196920" cy="80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76240" y="3139920"/>
              <a:ext cx="195840" cy="80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6720" y="3946320"/>
              <a:ext cx="94680" cy="16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54000" y="3946320"/>
              <a:ext cx="95040" cy="16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4140360" y="2924280"/>
            <a:ext cx="796680" cy="507960"/>
          </a:xfrm>
          <a:prstGeom prst="wedgeRoundRectCallout">
            <a:avLst>
              <a:gd name="adj1" fmla="val -104782"/>
              <a:gd name="adj2" fmla="val 6718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x8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179280" y="3213000"/>
            <a:ext cx="711360" cy="451080"/>
          </a:xfrm>
          <a:prstGeom prst="wedgeRoundRectCallout">
            <a:avLst>
              <a:gd name="adj1" fmla="val -62055"/>
              <a:gd name="adj2" fmla="val 2422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x16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1" name=""/>
          <p:cNvSpPr/>
          <p:nvPr/>
        </p:nvSpPr>
        <p:spPr>
          <a:xfrm>
            <a:off x="324000" y="5661000"/>
            <a:ext cx="887400" cy="485640"/>
          </a:xfrm>
          <a:prstGeom prst="wedgeRoundRectCallout">
            <a:avLst>
              <a:gd name="adj1" fmla="val 104384"/>
              <a:gd name="adj2" fmla="val -130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4x16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2" name=""/>
          <p:cNvSpPr/>
          <p:nvPr/>
        </p:nvSpPr>
        <p:spPr>
          <a:xfrm>
            <a:off x="3851280" y="4437000"/>
            <a:ext cx="792000" cy="504720"/>
          </a:xfrm>
          <a:prstGeom prst="wedgeRoundRectCallout">
            <a:avLst>
              <a:gd name="adj1" fmla="val -139981"/>
              <a:gd name="adj2" fmla="val 2452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6x16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253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5" name=""/>
          <p:cNvSpPr/>
          <p:nvPr/>
        </p:nvSpPr>
        <p:spPr>
          <a:xfrm>
            <a:off x="1476360" y="1773360"/>
            <a:ext cx="720720" cy="455400"/>
          </a:xfrm>
          <a:prstGeom prst="wedgeRoundRectCallout">
            <a:avLst>
              <a:gd name="adj1" fmla="val 104305"/>
              <a:gd name="adj2" fmla="val 12606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x4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6" name=""/>
          <p:cNvSpPr/>
          <p:nvPr/>
        </p:nvSpPr>
        <p:spPr>
          <a:xfrm>
            <a:off x="4140360" y="1700280"/>
            <a:ext cx="774720" cy="522360"/>
          </a:xfrm>
          <a:prstGeom prst="wedgeRoundRectCallout">
            <a:avLst>
              <a:gd name="adj1" fmla="val -129601"/>
              <a:gd name="adj2" fmla="val 10235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x8</a:t>
            </a: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Unified SDIP intra predict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309" name="Picture 6" descr=""/>
          <p:cNvPicPr/>
          <p:nvPr/>
        </p:nvPicPr>
        <p:blipFill>
          <a:blip r:embed="rId1"/>
          <a:stretch/>
        </p:blipFill>
        <p:spPr>
          <a:xfrm>
            <a:off x="3059280" y="765000"/>
            <a:ext cx="2663640" cy="2468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50920" y="3022560"/>
            <a:ext cx="849780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UDI modes can be from 9 to 34 and the number of modes is configurable as HM 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ne UDI mode flag is identified for every 4x16/16x4 or 2x8/8x2 partition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 1x16/16x1 partitions used the same mode that identified in 4x16/16x4 and similar for 1x4/4x1 partitions in 4x4 PU. 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idirectional intra prediction for mode 6 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quare blocks in HM were used for chroma, candidate modes are updated according to the SDIP luma intra modes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Transform and sca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e same transform matrices (2x2, 4x4, 8x8 and 16x16) in HM were reused in SDIP modes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e coefficients are scanned into a 1D buffer and then reorganized into a 4x4 or 8x8 block and coded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utigerNext LT Regular"/>
              </a:rPr>
              <a:t>          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313" name="Picture 8" descr=""/>
          <p:cNvPicPr/>
          <p:nvPr/>
        </p:nvPicPr>
        <p:blipFill>
          <a:blip r:embed="rId1"/>
          <a:stretch/>
        </p:blipFill>
        <p:spPr>
          <a:xfrm>
            <a:off x="1116000" y="4508640"/>
            <a:ext cx="6121440" cy="15922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2843280" y="2637000"/>
            <a:ext cx="31687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Results of full serch without any fast method in CE6 test condition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51960" y="1641240"/>
            <a:ext cx="7664760" cy="1716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In this set of configurations, no any fast method was used, 17 modes are used for 1x4/4x1, 2x8/8x2 and 1x16/16x1 partitions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34 modes are used for 4x16/16x4 partitions</a:t>
            </a: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755640" y="3860640"/>
          <a:ext cx="7200720" cy="1460160"/>
        </p:xfrm>
        <a:graphic>
          <a:graphicData uri="http://schemas.openxmlformats.org/drawingml/2006/table">
            <a:tbl>
              <a:tblPr/>
              <a:tblGrid>
                <a:gridCol w="2274480"/>
                <a:gridCol w="2274120"/>
                <a:gridCol w="1363680"/>
                <a:gridCol w="1288440"/>
              </a:tblGrid>
              <a:tr h="438480">
                <a:tc>
                  <a:txBody>
                    <a:bodyPr lIns="79200" rIns="79200" tIns="39600" bIns="39600" anchor="t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mpi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1680">
                <a:tc>
                  <a:txBody>
                    <a:bodyPr lIns="79200" rIns="79200" tIns="39600" bIns="39600" anchor="t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indows Server 2008 R2 64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xIntel Xeon L5420@2.5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VS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Results of full search configuration in CE6 test conditions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52320" y="1641600"/>
          <a:ext cx="7929720" cy="4194000"/>
        </p:xfrm>
        <a:graphic>
          <a:graphicData uri="http://schemas.openxmlformats.org/drawingml/2006/table">
            <a:tbl>
              <a:tblPr/>
              <a:tblGrid>
                <a:gridCol w="1490760"/>
                <a:gridCol w="1068480"/>
                <a:gridCol w="1082520"/>
                <a:gridCol w="1068480"/>
                <a:gridCol w="1068480"/>
                <a:gridCol w="1082520"/>
                <a:gridCol w="1068480"/>
              </a:tblGrid>
              <a:tr h="349200">
                <a:tc rowSpan="2"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ra Lo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51000"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49200"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7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49200"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7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51000"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7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49200"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582480"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4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18000" rIns="18000" tIns="18000" bIns="18000" anchor="b">
                      <a:noAutofit/>
                    </a:bodyPr>
                    <a:p>
                      <a:pPr marL="299880" indent="-2998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b">
                      <a:noAutofit/>
                    </a:bodyPr>
                    <a:p>
                      <a:pPr marL="299880" indent="-2998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3:39:39Z</dcterms:created>
  <dc:creator>huawei</dc:creator>
  <dc:description/>
  <dc:language>en-US</dc:language>
  <cp:lastModifiedBy>*</cp:lastModifiedBy>
  <dcterms:modified xsi:type="dcterms:W3CDTF">2011-01-20T05:23:54Z</dcterms:modified>
  <cp:revision>29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95243167</vt:lpwstr>
  </property>
</Properties>
</file>