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3B83-DC3A-4B7E-963B-65390A44C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8ADE-B88C-4DA1-9519-FD74825C232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E33A-0EE8-4FBA-8A60-6C0FABCFC4CF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014-6C4D-4569-8CA4-1A79761A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FEB-DAEF-44B3-938E-ECE15BAB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D66AC-D882-4D50-83F4-1055C6C5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99EDF-874B-4AB8-96C5-A1C43266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4C9D6-1D0A-4949-8D04-952EFF2C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6F637-675F-462F-993B-02CABEC1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AAE5A-6194-44C1-8114-65273333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531B3-B6DA-48D2-8129-BBB971B8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DE0E9-2D39-48AF-9AF1-A29112B7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0A27F-337A-45C0-A1E2-47412B49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1EA90-48FC-4E2E-BA71-B3D2DDF7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7AD69-AD20-4C00-96D8-061578CA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DBB-12E1-4DEA-983F-30649FE0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7B2AF-2BA0-442B-BCCE-A7DB1E8E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D1CB8-8099-4BA1-B02F-A198F599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64960-736C-4379-BFEA-655E2BD5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B54AC-BF21-4E0E-8199-381CBD62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7121E-393B-4A05-A207-1138DB96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AA123-ADFE-4629-99F0-2E5043FF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2001A-3F2A-444D-8A84-FF696459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D77A1-B9AA-442B-A409-38D957B5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3BB25-8DCC-4A03-B27D-DFAEAC7C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E7683-F60A-4960-9519-1591C819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242-088E-4245-8626-23112DFD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5BBA3-4F0E-463C-991C-B6F958FA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03CF7-848C-4A86-BCC7-3142DC6F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3E28E-768B-4EE0-8B9A-EB536A7F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5BF98-4891-4F3B-95E3-A1A33A75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C4BD5-04EC-4FCD-95FF-A15D283F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E7750-999F-492F-8CCE-F04A8F61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DE293-A5B4-4990-969F-636D3B9C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1CC23-77A6-4961-81B0-CE378633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E37B6-A423-407E-8A28-42B96A08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B0319-CBBE-4428-B42E-352BDB84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50635-8852-4131-912D-DFD7DFA4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34826-CB18-4330-A66A-FE7388AD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2B78D-B487-4B7D-8EDC-317F11F7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AAE68-1DCB-4FB7-BD65-842C87FB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24CF8-3AD7-440D-BF12-656411B6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7AC11-4474-46C6-BB8C-7576CFE7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1841C-4410-44B1-ADF7-71A62BBA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519E4-2584-4723-8AD2-38433BBB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B0472-A522-4742-A17A-FCACA4D5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7AFDF-006B-46D5-82F3-1FD6B0BC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9BD05-7169-4E51-99F9-655EBBED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4020F-CAB3-4011-AC00-77991F27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4D526-3DD4-4F08-B132-CB0F2B6C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FCCFD-29B7-48F1-AF3D-7A2DB9A3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F8EF0-AF83-442B-96D2-41001D6B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EF4-0602-4A0A-9098-01D797A2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DC3B-9F56-401E-AC88-392BF19A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3226-B620-450F-9831-51C8DCDD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6E94-7D6F-4B06-AFA8-D2AD6CC9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5BB1-A3AA-4A17-92EC-1652F422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B218-7B9A-4922-BDF2-04933DFE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777-6F80-4808-A89A-96BCDEEB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0665-E7A9-40DF-A288-BC53650B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89BE-B436-41F3-A3F2-E3485C77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D9A7-3719-42F1-ACD4-AD142194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6129-6770-4668-803C-808D023B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1A8D-709F-4352-8B7B-E601015B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39F2-A0B9-4C0E-82AD-34A7DFFE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68B0-9796-4A5E-9A40-3440BCE9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70E3-8B40-48B5-A9A1-C1E9DB3B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1A537-1EF6-4030-8C5A-0A546FF4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2D60E-9D2D-43BC-8D8A-C4C821E1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180-9B99-4740-BBB3-535602CB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6D4E4-3CC8-491C-B76D-86138E47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41278-23B0-45D6-AEBD-2D8008A3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0864-5F48-4F6B-9B33-1E8FF05E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CFF3-C235-4F3E-B4A6-084D5DE3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BFD8-CF18-4BD5-B875-880B8BFC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5B82D-3C5F-4EF6-A98B-3914E797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5ABF-D76C-436B-AC33-CB2B0CD0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C68DA-F7A9-45FA-9A97-2171EF27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58E39-9E17-4BE6-9B17-2541864C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E0B6E-FE0A-4419-A9A9-F1729EF6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CA8-68ED-490A-B875-5EA8364C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61941-D612-490A-93C8-FDC5B3FF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98BEB-4971-436B-B49A-6A9F5A08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82AE9-BF50-4771-9EA0-F764F962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70B71-8F08-4C28-960F-1FDB7597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D63E-63C0-4FAE-9D82-76B5F49D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45DCF-BA82-4D79-8341-697684F1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A6247-B421-435F-9B70-D3015E5A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CEB33-7263-4976-9ECC-13496656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DDBF3-F001-4940-A619-04AB128A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70C58-1410-4B81-A0FE-1206CE42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6D8-CDF0-47BF-857D-0AC3B354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FC597-F515-4C92-B816-432CF88F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20C64-50F6-4405-ADB0-F3DBEB88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F74DB-819B-4B5A-B3B5-91D4241F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ABD91-BAE1-425E-BF73-4EC0DA97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46D3B-8CFF-4117-8687-BC5C9F8C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69320-AFCE-4B53-83AA-74D749F6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80C21-52B0-4A4D-A186-730C4D0D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2172A-77B2-4102-92E1-7713C811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73F09-8574-4E7D-81DD-B46D1B10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2ABA0-6AA2-4828-BA79-C16AD32F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8D0-F43D-4317-9A57-32B1DA08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18A06-B55E-4193-B1E9-CEE3D9DA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A325-EFA9-4AEA-A5ED-796930A2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C7EB6-F9A9-4116-A287-2EC7B1D0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B694E-F314-4677-8761-14C8DAFE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8912A-425B-4AC2-B4E6-72353AE0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97772-2A21-4593-8E89-A46FB0AF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16DF6-CA59-45D7-818A-B1D64EAD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4A598-26FE-420E-9442-B577D9AA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9F508-2D12-4361-84F2-3FAAE5D5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E8F7C-8B6B-4AD7-9317-5BF93C18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32A-D0AF-40DD-997F-04B098C9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C00FC-8379-433E-A0A0-1BAFFEBE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59A6A-731F-459B-ABD9-F302AF44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7245E-E007-4C26-987D-A8CD6D07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2ED99-D6CD-451F-953D-0A578353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5F7D6-1C97-4830-A418-E97FFFD1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F39BC-4AF9-4A79-B789-702F2500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6696B-5104-441F-8524-F614D6BF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C1E56-3009-4460-9928-E5410F57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8AEF4-ED39-4978-B487-9F19F6C0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2DEEF-955F-4EDB-9AE8-BBD46BA7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247-F781-4386-A49F-5DAC8617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A288E-A96F-4E40-A71B-07D64AFE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40E86-E632-4CC8-A670-34B0F2E6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534AF-9613-4E25-B072-716D5A1B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25506-77D8-4C3B-87DD-82375928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2688C-0669-4118-B55C-7A4547AF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35737-F2C8-410D-B48F-7BDBDCA5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5475C-2AF0-44DE-A3EF-086FC179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D203B-28FC-42FB-895B-2C2F65D4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F6979-4A2E-4AD0-AC68-3716A108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2E36A-0CB8-487B-A873-BA16B0FE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3066-2D34-4ECA-9D49-D167A158329A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0FFC-1B4C-4CCA-B1DC-A347F11CB508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正方形/長方形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正方形/長方形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9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EFB0-B5CC-4ABD-AC98-5F8AA9CBF498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Verdana"/>
                <a:ea typeface="HGｺﾞｼｯｸ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Verdana"/>
                <a:ea typeface="HGｺﾞｼｯｸM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F3ED-8FF2-4AF8-8700-8658B2199A97}" type="slidenum">
              <a:rPr b="0" lang="ja-JP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正方形/長方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6"/>
          <p:cNvPicPr/>
          <p:nvPr/>
        </p:nvPicPr>
        <p:blipFill>
          <a:blip r:embed="rId2"/>
          <a:stretch/>
        </p:blipFill>
        <p:spPr>
          <a:xfrm>
            <a:off x="0" y="6515280"/>
            <a:ext cx="9182160" cy="34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07E3-085C-43CD-8667-E18290991499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正方形/長方形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DE0B-C22F-43E7-9033-9B1DFD096EE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78B5-ECC1-4DEC-8DBD-E5B5C5FC5F4C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FD24-3CC7-451C-B516-17471AB795DA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AF43-7457-449F-88A6-197F56DAF63D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正方形/長方形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正方形/長方形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ACD2-2CD3-457A-9C6C-8E27A7D6DDFA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正方形/長方形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正方形/長方形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2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3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6AB4-DB4D-4466-9248-06C82E18CF99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8077320" cy="1446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mmary and Improvements of DCIM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JCTVC-D279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3492000" y="3573360"/>
            <a:ext cx="5270760" cy="12556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hsan Maani, Ali Tabatabai (Sony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rginie Drugeon (Panasonic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omoyuki Yamamoto</a:t>
            </a:r>
            <a:r>
              <a:rPr b="0" lang="ja-JP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SHARP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71320" y="6429240"/>
            <a:ext cx="4360680" cy="285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 marL="29160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CT-VC 4th Meeting: Daegu, KR, 20-28 January,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bjective evaluation (3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8DEA-7114-4946-AFF4-0B72BB8FF0F4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78552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V sequences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c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am_locomotive_tr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buta_festiv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-che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ified by NHK, NE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536840" y="3357720"/>
          <a:ext cx="6068880" cy="1087200"/>
        </p:xfrm>
        <a:graphic>
          <a:graphicData uri="http://schemas.openxmlformats.org/drawingml/2006/table">
            <a:tbl>
              <a:tblPr/>
              <a:tblGrid>
                <a:gridCol w="961920"/>
                <a:gridCol w="934920"/>
                <a:gridCol w="857160"/>
                <a:gridCol w="800280"/>
                <a:gridCol w="799920"/>
                <a:gridCol w="857520"/>
                <a:gridCol w="857160"/>
              </a:tblGrid>
              <a:tr h="177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Int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Intra Lo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SH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8" descr=""/>
          <p:cNvPicPr/>
          <p:nvPr/>
        </p:nvPicPr>
        <p:blipFill>
          <a:blip r:embed="rId1"/>
          <a:stretch/>
        </p:blipFill>
        <p:spPr>
          <a:xfrm>
            <a:off x="1835280" y="3436920"/>
            <a:ext cx="5948280" cy="342108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bjective evaluat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63324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ion (by NE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sketballDriva QP=37 and BasketballDrill QP=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ndom Ac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sual appearance is differ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significant improvement/degradation as a vide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51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gnificant improvement as a fr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6415-3036-4782-B101-E8A3C97DB236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50920" y="785520"/>
            <a:ext cx="86868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ment and comprehensive study of DCIM was d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ive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: 2.3% gain with 106/106 % encoding/decoding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C: 2.6% gain with 106/117 % encoding/decoding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jective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s regions with strong ed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mmend for 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CD20-F18E-4447-AA08-4DCDE236435A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96480"/>
            <a:ext cx="848052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CIM: Differential Coding of Intra Mod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836280"/>
            <a:ext cx="7283520" cy="3003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‘neighbors suggested modes’ (DCIM modes) to original modes (UIP mod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CIM mode (main) is decided based on the derived direction by applying sobel operater to the neighbor pix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ound the main DCIM mode, additional DCIM modes are ad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FCDA-0556-4726-A8A4-2BBEADF8B214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Object 1"/>
          <p:cNvGraphicFramePr/>
          <p:nvPr/>
        </p:nvGraphicFramePr>
        <p:xfrm>
          <a:off x="395280" y="3573360"/>
          <a:ext cx="320040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573360"/>
                    <a:ext cx="320040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633920" y="4508640"/>
          <a:ext cx="3394080" cy="1523880"/>
        </p:xfrm>
        <a:graphic>
          <a:graphicData uri="http://schemas.openxmlformats.org/drawingml/2006/table">
            <a:tbl>
              <a:tblPr/>
              <a:tblGrid>
                <a:gridCol w="1738440"/>
                <a:gridCol w="720720"/>
                <a:gridCol w="93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U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DCIM(k=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DCIM(k=+1,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1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DCIM(k=+2,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01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DCIM(k=+3,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00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テキスト ボックス 17"/>
          <p:cNvSpPr/>
          <p:nvPr/>
        </p:nvSpPr>
        <p:spPr>
          <a:xfrm>
            <a:off x="4500720" y="40053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de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24000" y="-77760"/>
            <a:ext cx="8169120" cy="698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marL="304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DCIM Technology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395280" y="1281240"/>
            <a:ext cx="26049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304920" indent="-304920" algn="ctr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DCIM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3394080" y="1413000"/>
            <a:ext cx="2427120" cy="258840"/>
          </a:xfrm>
          <a:prstGeom prst="rect">
            <a:avLst/>
          </a:prstGeom>
          <a:solidFill>
            <a:srgbClr val="002b82"/>
          </a:solidFill>
          <a:ln w="2844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DCIM  Key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6284880" y="1287360"/>
            <a:ext cx="24289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304920" indent="-304920" algn="ctr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HM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6427800" y="1905120"/>
            <a:ext cx="2174760" cy="25257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4"/>
          <p:cNvSpPr/>
          <p:nvPr/>
        </p:nvSpPr>
        <p:spPr>
          <a:xfrm>
            <a:off x="3246480" y="2206800"/>
            <a:ext cx="326556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 marL="112680" indent="-1126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hances current U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icient signaling of directional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ificant Coding &amp; Visual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2"/>
          <p:cNvGraphicFramePr/>
          <p:nvPr/>
        </p:nvGraphicFramePr>
        <p:xfrm>
          <a:off x="-36360" y="1436760"/>
          <a:ext cx="3200400" cy="302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1436760"/>
                    <a:ext cx="320040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3" descr="C:\home\s127342\exp\hevc_sim\proj\dcim_new\sim33\ana\vis\org\BasketballDrill_832x480_50_1.jpg"/>
          <p:cNvPicPr/>
          <p:nvPr/>
        </p:nvPicPr>
        <p:blipFill>
          <a:blip r:embed="rId1"/>
          <a:stretch/>
        </p:blipFill>
        <p:spPr>
          <a:xfrm>
            <a:off x="6012000" y="333360"/>
            <a:ext cx="2690640" cy="1550880"/>
          </a:xfrm>
          <a:prstGeom prst="rect">
            <a:avLst/>
          </a:prstGeom>
          <a:ln w="0">
            <a:noFill/>
          </a:ln>
        </p:spPr>
      </p:pic>
      <p:sp>
        <p:nvSpPr>
          <p:cNvPr id="546" name="テキスト ボックス 5"/>
          <p:cNvSpPr/>
          <p:nvPr/>
        </p:nvSpPr>
        <p:spPr>
          <a:xfrm>
            <a:off x="400680" y="84924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ketballDr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uC 0.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, QP=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home\s127342\exp\hevc_sim\proj\dcim_new\sim33\ana\vis\jpg\BasketballDrill_832x480_50_1_tmuc_io_q32.jpg"/>
          <p:cNvPicPr/>
          <p:nvPr/>
        </p:nvPicPr>
        <p:blipFill>
          <a:blip r:embed="rId2"/>
          <a:stretch/>
        </p:blipFill>
        <p:spPr>
          <a:xfrm>
            <a:off x="468360" y="202716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548" name="タイトル 1"/>
          <p:cNvSpPr/>
          <p:nvPr/>
        </p:nvSpPr>
        <p:spPr>
          <a:xfrm>
            <a:off x="457200" y="96840"/>
            <a:ext cx="82296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HGｺﾞｼｯｸM"/>
              </a:rPr>
              <a:t>Mode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C:\home\s127342\exp\hevc_sim\proj\dcim_new\sim33\ana\vis\jpg\BasketballDrill_832x480_50_1_dcim_io_q32.jpg"/>
          <p:cNvPicPr/>
          <p:nvPr/>
        </p:nvPicPr>
        <p:blipFill>
          <a:blip r:embed="rId1"/>
          <a:stretch/>
        </p:blipFill>
        <p:spPr>
          <a:xfrm>
            <a:off x="468360" y="2027160"/>
            <a:ext cx="7924680" cy="4572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C:\home\s127342\exp\hevc_sim\proj\dcim_new\sim33\ana\vis\org\BasketballDrill_832x480_50_1.jpg"/>
          <p:cNvPicPr/>
          <p:nvPr/>
        </p:nvPicPr>
        <p:blipFill>
          <a:blip r:embed="rId2"/>
          <a:stretch/>
        </p:blipFill>
        <p:spPr>
          <a:xfrm>
            <a:off x="6012000" y="333360"/>
            <a:ext cx="2690640" cy="1550880"/>
          </a:xfrm>
          <a:prstGeom prst="rect">
            <a:avLst/>
          </a:prstGeom>
          <a:ln w="0">
            <a:noFill/>
          </a:ln>
        </p:spPr>
      </p:pic>
      <p:sp>
        <p:nvSpPr>
          <p:cNvPr id="551" name="テキスト ボックス 19"/>
          <p:cNvSpPr/>
          <p:nvPr/>
        </p:nvSpPr>
        <p:spPr>
          <a:xfrm>
            <a:off x="400680" y="77796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ketballDr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I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, QP=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タイトル 1"/>
          <p:cNvSpPr/>
          <p:nvPr/>
        </p:nvSpPr>
        <p:spPr>
          <a:xfrm>
            <a:off x="457200" y="96840"/>
            <a:ext cx="82296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HGｺﾞｼｯｸM"/>
              </a:rPr>
              <a:t>Mode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bjective evaluation (1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8841-1E2D-4D52-BF3B-426028FE8467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78552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CIM (v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 prediction m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IP modes ... max 34 mo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CIM mo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-che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ified by NEC, NHK, Panason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652760" y="3500280"/>
          <a:ext cx="5838480" cy="2190960"/>
        </p:xfrm>
        <a:graphic>
          <a:graphicData uri="http://schemas.openxmlformats.org/drawingml/2006/table">
            <a:tbl>
              <a:tblPr/>
              <a:tblGrid>
                <a:gridCol w="955440"/>
                <a:gridCol w="814320"/>
                <a:gridCol w="812880"/>
                <a:gridCol w="814320"/>
                <a:gridCol w="814680"/>
                <a:gridCol w="812520"/>
                <a:gridCol w="814320"/>
              </a:tblGrid>
              <a:tr h="2192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ntra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1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1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1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1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bjective evaluation (2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610B-3311-458E-AE48-69270424ABBF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78552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CIM (v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 prediction m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IP modes ... max 17 modes, modified MPM deriv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CIM mo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-che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ified by NH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617840" y="3535200"/>
          <a:ext cx="5978520" cy="2190960"/>
        </p:xfrm>
        <a:graphic>
          <a:graphicData uri="http://schemas.openxmlformats.org/drawingml/2006/table">
            <a:tbl>
              <a:tblPr/>
              <a:tblGrid>
                <a:gridCol w="103968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2192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ntra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1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6C5E-72F0-40F6-B23C-464B141291C2}" type="slidenum">
              <a:rPr b="0" lang="zh-CN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930240" y="1066680"/>
            <a:ext cx="7527960" cy="4024440"/>
          </a:xfrm>
          <a:prstGeom prst="rect">
            <a:avLst/>
          </a:prstGeom>
          <a:ln w="0">
            <a:noFill/>
          </a:ln>
        </p:spPr>
      </p:pic>
      <p:sp>
        <p:nvSpPr>
          <p:cNvPr id="563" name="テキスト ボックス 3"/>
          <p:cNvSpPr/>
          <p:nvPr/>
        </p:nvSpPr>
        <p:spPr>
          <a:xfrm>
            <a:off x="7407360" y="3032280"/>
            <a:ext cx="1006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IM (v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テキスト ボックス 4"/>
          <p:cNvSpPr/>
          <p:nvPr/>
        </p:nvSpPr>
        <p:spPr>
          <a:xfrm>
            <a:off x="7410600" y="3274920"/>
            <a:ext cx="1006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IM (v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E473-A836-4D6B-B53B-3EC2FE630DDF}" type="slidenum">
              <a:rPr b="0" lang="zh-CN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522360" y="838080"/>
            <a:ext cx="8240760" cy="4405320"/>
          </a:xfrm>
          <a:prstGeom prst="rect">
            <a:avLst/>
          </a:prstGeom>
          <a:ln w="0">
            <a:noFill/>
          </a:ln>
        </p:spPr>
      </p:pic>
      <p:sp>
        <p:nvSpPr>
          <p:cNvPr id="567" name="テキスト ボックス 3"/>
          <p:cNvSpPr/>
          <p:nvPr/>
        </p:nvSpPr>
        <p:spPr>
          <a:xfrm>
            <a:off x="7610400" y="3002040"/>
            <a:ext cx="1006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IM (v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テキスト ボックス 4"/>
          <p:cNvSpPr/>
          <p:nvPr/>
        </p:nvSpPr>
        <p:spPr>
          <a:xfrm>
            <a:off x="7613640" y="3244680"/>
            <a:ext cx="1006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IM (v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1:38:00Z</dcterms:created>
  <dc:creator/>
  <dc:description/>
  <dc:language>en-US</dc:language>
  <cp:lastModifiedBy/>
  <dcterms:modified xsi:type="dcterms:W3CDTF">2011-01-20T11:26:35Z</dcterms:modified>
  <cp:revision>19</cp:revision>
  <dc:subject/>
  <dc:title>Analysis and improvement of differential coding of intra modes  (JCTVC-C176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31033</vt:lpwstr>
  </property>
</Properties>
</file>