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0345-00B7-4F5E-95C6-55F1660DB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5031-5AFB-4D34-BE2B-DCD7A52CE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57B-95EC-4ABC-810F-11909DBA2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8535-1EF7-491E-815D-81F1940D6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17A7-16AE-47BB-941B-4DFF7616EE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C87D-60EF-4136-B833-9EC38EA60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255F-2D68-4377-8809-DE900E92B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A79F-38AD-48EA-983C-1EE18D289D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E836-C38B-4D9B-8772-5F64189C2D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DC71-381D-4C5E-88D4-883A1F558C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F16A-8A48-4DAC-90D5-CBE85271D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9D78-0F3E-4B56-B645-78D7CD17D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124F-F0F5-45E1-8257-DF28B9AB92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64E4-CB95-4204-ABC7-B9B6D74A5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1873-F524-48CF-B13B-F6C02C0407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4734-FA61-43DA-85F2-704FA810A0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02C1-77B8-4D1D-A5E7-2936B56A7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E1F1-B74D-41D2-AA10-078501886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762A-F5D3-43D4-9A2B-CD8373651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51C5-C211-4E0D-9C99-6C10F95CE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2E32-2212-4DA3-B77E-A2BE72D5A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0017-4A3B-4B88-B191-83363EEB9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F75A-B55F-48D4-8E28-C84CB361C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987C-C7C6-4432-B4F8-3B75F7E5C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12D2-2FBF-44BA-A495-3AA559B7EA4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7A6-6D60-4881-ADDC-D8AC3FA5937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84880" y="602136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3040" y="1844280"/>
            <a:ext cx="88898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TVC-D274: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usage of predicted motion vectors in forward directional bi-predictive coding fram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hiyasu Su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posed method saves bits for all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BD rate for each sequences (Low Delay c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08160" y="981000"/>
            <a:ext cx="7121520" cy="2695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08160" y="3716280"/>
            <a:ext cx="7118280" cy="269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B483-1861-4C0B-BBE9-E8BEBF1EAB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040" y="642960"/>
            <a:ext cx="92678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modified usage of temporally/spatially predicted MV is propos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or Bf-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 saves 1.0% bits for HE and 2.2% bits for LC on average in the LD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t reduces encoding and decoding time slightly relative to TMuC0.9-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6A85-4B11-4995-9E47-BD81ADAAB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515760" y="3141720"/>
            <a:ext cx="25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93FB-7B1B-483E-B293-657AE831A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040" y="642960"/>
            <a:ext cx="93409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Special B-frames are used as an alternative of the conventional P-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e referred them as “Bf-fram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f-frames use forward directional bi-prediction with reference list 0 an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hen list 0 and 1 are identical, the prediction using only list 1 is 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e referred it as list 1 “uni-prediction” in contrast with “bi-predic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f-frames just use forward directional bi-prediction and list 0 uni-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re are some rooms for improvement in Bf-frame coding efficienc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ue to disabled list 1 uni-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52520" y="4292640"/>
            <a:ext cx="3260880" cy="1166400"/>
            <a:chOff x="1352520" y="4292640"/>
            <a:chExt cx="3260880" cy="1166400"/>
          </a:xfrm>
        </p:grpSpPr>
        <p:sp>
          <p:nvSpPr>
            <p:cNvPr id="88" name=""/>
            <p:cNvSpPr/>
            <p:nvPr/>
          </p:nvSpPr>
          <p:spPr>
            <a:xfrm rot="16200000">
              <a:off x="1544760" y="4472280"/>
              <a:ext cx="639360" cy="279720"/>
            </a:xfrm>
            <a:prstGeom prst="parallelogram">
              <a:avLst>
                <a:gd name="adj" fmla="val 57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918080" y="4698000"/>
              <a:ext cx="639360" cy="279720"/>
            </a:xfrm>
            <a:prstGeom prst="parallelogram">
              <a:avLst>
                <a:gd name="adj" fmla="val 57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172520" y="4999320"/>
              <a:ext cx="639360" cy="279720"/>
            </a:xfrm>
            <a:prstGeom prst="parallelogram">
              <a:avLst>
                <a:gd name="adj" fmla="val 57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2291760" y="4472280"/>
              <a:ext cx="639360" cy="280080"/>
            </a:xfrm>
            <a:prstGeom prst="parallelogram">
              <a:avLst>
                <a:gd name="adj" fmla="val 570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2664360" y="4849200"/>
              <a:ext cx="639360" cy="279000"/>
            </a:xfrm>
            <a:prstGeom prst="parallelogram">
              <a:avLst>
                <a:gd name="adj" fmla="val 572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3034800" y="4472640"/>
              <a:ext cx="639360" cy="279000"/>
            </a:xfrm>
            <a:prstGeom prst="parallelogram">
              <a:avLst>
                <a:gd name="adj" fmla="val 572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3406680" y="4698000"/>
              <a:ext cx="639360" cy="279720"/>
            </a:xfrm>
            <a:prstGeom prst="parallelogram">
              <a:avLst>
                <a:gd name="adj" fmla="val 57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3780000" y="4472280"/>
              <a:ext cx="639360" cy="279720"/>
            </a:xfrm>
            <a:prstGeom prst="parallelogram">
              <a:avLst>
                <a:gd name="adj" fmla="val 57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4153680" y="4999320"/>
              <a:ext cx="639360" cy="280080"/>
            </a:xfrm>
            <a:prstGeom prst="parallelogram">
              <a:avLst>
                <a:gd name="adj" fmla="val 570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457960" y="4508280"/>
            <a:ext cx="3368160" cy="733320"/>
            <a:chOff x="5457960" y="4508280"/>
            <a:chExt cx="3368160" cy="733320"/>
          </a:xfrm>
        </p:grpSpPr>
        <p:sp>
          <p:nvSpPr>
            <p:cNvPr id="98" name=""/>
            <p:cNvSpPr/>
            <p:nvPr/>
          </p:nvSpPr>
          <p:spPr>
            <a:xfrm rot="16200000">
              <a:off x="562464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600840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24196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HG創英角ｺﾞｼｯｸUB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639108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677484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715860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754128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792504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8308440" y="4723920"/>
              <a:ext cx="733320" cy="301680"/>
            </a:xfrm>
            <a:prstGeom prst="parallelogram">
              <a:avLst>
                <a:gd name="adj" fmla="val 607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067480" y="565956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access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18000" y="57326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1A4E-A073-43D0-AB52-515A4D1B14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0191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040" y="642960"/>
            <a:ext cx="9196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proposal includes the following four key points for Bf-fra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i-prediction in Skipped Prediction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i-prediction in Direct Prediction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hanced Reference Index Decision for Skipped and Direct 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hanced Temporal Motion Vector Pred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CD7A-7075-4B9F-8809-6D72334753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1. Uni-prediction in Skipped Predicti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040" y="642960"/>
            <a:ext cx="9196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kipped PUs in the TMuC0.9-hm are using bi-prediction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uracy of mvL1 for bi-prediction tends to be worse than mvL0 in Bf-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list 1 uni-prediction has been disable for Bf-fr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o, the number of MV predictors for list 1 is usually less than that for lis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 of skipped PUs has been worsen by the prediction based on the list 1, and it cannot be recovered by residual signals due to th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1240" y="3789360"/>
            <a:ext cx="720072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 1: For skipped PUs in Bf-frame,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ly list 0 uni-prediction is used instead of bi-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58FC-6CFE-4A65-832F-E4EC00B501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. Bi-prediction in Direct Predicti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0160" y="642960"/>
            <a:ext cx="9505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 explicit signaling by the flag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_pred_id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” is used to switch bi-prediction or uni-prediction for direct 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 Bf-frame, difference between two RD-costs of bi-prediction and list 0 uni-prediction tends to be small in direct 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ecause one single reference frame is often used for both uni- and bi-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V are likely to point the very ne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’s considered to be not worth sending that flag for such a small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4680" y="3835440"/>
            <a:ext cx="9182880" cy="1283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 2: For direct PUs in Bf-fr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ngle prediction scheme is used and 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ter_pred_idc”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has been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i-prediction is used to combine with propos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a prediction mode which can reduce the motion vector overhead for bi-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BE26-CE40-4137-993F-432BA95B0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7600" y="57240"/>
            <a:ext cx="934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3. Enhanced Reference Index Decision for Skipped/Direct 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160" y="642960"/>
            <a:ext cx="9505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fIdx of skipped and direct PUs are alway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ven if there were plural of available MVs which refIdx are 1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patially MVs are regarded to be not available due to having different refI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36520" y="3141720"/>
            <a:ext cx="712944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 3: For skipped and direct P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fIdx follow the majority of refIdx of neighboring 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7162-8B53-44C7-AAC3-78DA16840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7600" y="57240"/>
            <a:ext cx="934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4. Enhanced Temporal Motion Vector 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20800" y="3805200"/>
            <a:ext cx="4996080" cy="2863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0160" y="642960"/>
            <a:ext cx="9505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e proposed a modified derivation process of temporal MV predict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 JCTVC-D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at modified process doesn’t work in Bf-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ecause mvL1 cannot be available when mvL0 is not available du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abled list 1 uni-predi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4520" y="2492280"/>
            <a:ext cx="921708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posal 4: In order to improve the coding efficiency in Bf-fr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wo temporal MV predictors (mvL0Col and mvL1Col) are added to MVP candi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are derived from mvL0 and mvL1 of co-located partition, if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1D73-118E-4A8E-84C3-C587171CC7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proposed method was implemented on TMuC0.9-hm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 was tested for four inter coding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2520" y="1125360"/>
            <a:ext cx="20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chor: TMuC0.9-h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52520" y="1484280"/>
            <a:ext cx="7016760" cy="493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35BD-DF62-4EAD-8090-078D1AE3B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posed method saves bits for almost all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BD rate for each sequences (Random Access c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81240" y="981000"/>
            <a:ext cx="7126200" cy="2882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81240" y="3860640"/>
            <a:ext cx="7126200" cy="28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95DC-CF97-4870-ACC3-2C7BF0630E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01-21T16:08:48Z</dcterms:modified>
  <cp:revision>1715</cp:revision>
  <dc:subject/>
  <dc:title>Title</dc:title>
</cp:coreProperties>
</file>