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907588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13370-290D-41E5-BF0A-AAD15087C9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FDE6D-A339-40A1-94D3-FC3A980699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FED69-9125-49DE-BD72-4D355E92BD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6B008-B2DC-4714-A4B8-19ADD1A06F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B28976-D95C-4152-9EA1-4B9E485678E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E1E45-7B03-44BE-9C05-1B5DF08643B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E19537-4681-4F88-92DB-7E1BA59FA6E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E87154-770F-40AE-B7C0-F96DE346322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BA110E-6C9B-4466-B4A8-61AE7BA6117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408EE7-AFA1-4D26-851F-D9DF07F3E59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3C9092-7F0A-48C8-B016-B85F6E4B887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118F5-1F95-4FFB-A54A-DD8B12A1B7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7F9CC4-15E9-4D54-A547-6BA9AD4C491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71460E-1F11-4D2F-9416-8D5A25E88F4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0E948A-0717-4D14-828A-22CDA12A617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A3F1CE-0776-4806-A1A6-83989CC33E3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286680-1A7F-4D23-96B1-AD8D5FC16B3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43471-60E1-45AF-B8A5-D787013E72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8DA5D-D1BC-47CC-953A-9DAE27C932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A7A9E-3A3E-4047-8A97-7A239D3DF3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F6492-9EC8-4306-BDF3-52AA5014CE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A71F5-E900-4BDA-BDDA-483CA5E3EB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7AC2E-5A43-4617-AA85-3BC1D1DF04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7591C-70A6-44F6-BE90-CC79828050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906120" cy="534960"/>
          </a:xfrm>
          <a:prstGeom prst="rect">
            <a:avLst/>
          </a:prstGeom>
          <a:gradFill rotWithShape="0">
            <a:gsLst>
              <a:gs pos="0">
                <a:srgbClr val="171746"/>
              </a:gs>
              <a:gs pos="50000">
                <a:srgbClr val="333399"/>
              </a:gs>
              <a:gs pos="100000">
                <a:srgbClr val="17174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7594200" y="-2736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4B7D6-AE20-43F0-9491-CA02CF70592E}" type="slidenum"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200160" y="6572160"/>
            <a:ext cx="2160360" cy="139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06120" cy="534960"/>
          </a:xfrm>
          <a:prstGeom prst="rect">
            <a:avLst/>
          </a:prstGeom>
          <a:gradFill rotWithShape="0">
            <a:gsLst>
              <a:gs pos="0">
                <a:srgbClr val="171746"/>
              </a:gs>
              <a:gs pos="50000">
                <a:srgbClr val="333399"/>
              </a:gs>
              <a:gs pos="100000">
                <a:srgbClr val="17174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Num" idx="2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DFE7D-699D-4AD9-B98C-357946638326}" type="slidenum"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323040"/>
            <a:ext cx="9906120" cy="534960"/>
          </a:xfrm>
          <a:prstGeom prst="rect">
            <a:avLst/>
          </a:prstGeom>
          <a:gradFill rotWithShape="0">
            <a:gsLst>
              <a:gs pos="0">
                <a:srgbClr val="171746"/>
              </a:gs>
              <a:gs pos="50000">
                <a:srgbClr val="333399"/>
              </a:gs>
              <a:gs pos="100000">
                <a:srgbClr val="17174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184880" y="6021360"/>
            <a:ext cx="2592360" cy="1684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43040" y="1844280"/>
            <a:ext cx="888984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CTVC-D273:</a:t>
            </a:r>
            <a:br>
              <a:rPr sz="28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ified derivation process of temporal motion vector predictor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485720" y="38862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shiyasu Sug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ahiro Nish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naso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47600" y="57240"/>
            <a:ext cx="88441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 Unicode MS"/>
              </a:rPr>
              <a:t>Moti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040" y="642960"/>
            <a:ext cx="919656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Temporal MV predictor is important as one of the MVP candidates for AMV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In the TMuC0.9-hm, if “collocated_from_l0_flag” is equal to 0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temporal MV predictor is derived as below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715400" y="5227560"/>
            <a:ext cx="820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HGP創英角ｺﾞｼｯｸUB"/>
              </a:rPr>
              <a:t>curr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HGP創英角ｺﾞｼｯｸUB"/>
              </a:rPr>
              <a:t>pi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058840" y="3560760"/>
            <a:ext cx="86040" cy="164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79880" y="3560760"/>
            <a:ext cx="85680" cy="164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752200" y="522756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HGP創英角ｺﾞｼｯｸUB"/>
              </a:rPr>
              <a:t>colP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3480" y="3560760"/>
            <a:ext cx="85680" cy="164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058840" y="3905280"/>
            <a:ext cx="86040" cy="43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182760" y="3905280"/>
            <a:ext cx="86040" cy="43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107720" y="4253040"/>
            <a:ext cx="1986120" cy="69048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144880" y="3917880"/>
            <a:ext cx="1035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144880" y="4332240"/>
            <a:ext cx="1035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532320" y="2752560"/>
            <a:ext cx="1095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HGP創英角ｺﾞｼｯｸUB"/>
              </a:rPr>
              <a:t>co-loc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HGP創英角ｺﾞｼｯｸUB"/>
              </a:rPr>
              <a:t>part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/>
          <p:nvPr/>
        </p:nvCxnSpPr>
        <p:spPr>
          <a:xfrm rot="5400000">
            <a:off x="3224520" y="3388320"/>
            <a:ext cx="648360" cy="560880"/>
          </a:xfrm>
          <a:prstGeom prst="curvedConnector2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9" name=""/>
          <p:cNvSpPr/>
          <p:nvPr/>
        </p:nvSpPr>
        <p:spPr>
          <a:xfrm>
            <a:off x="1632960" y="2695680"/>
            <a:ext cx="1552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HGP創英角ｺﾞｼｯｸUB"/>
              </a:rPr>
              <a:t>targ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HGP創英角ｺﾞｼｯｸUB"/>
              </a:rPr>
              <a:t>prediction 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/>
          <p:nvPr/>
        </p:nvCxnSpPr>
        <p:spPr>
          <a:xfrm rot="5400000">
            <a:off x="2038320" y="3321720"/>
            <a:ext cx="766080" cy="554760"/>
          </a:xfrm>
          <a:prstGeom prst="curvedConnector2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1" name=""/>
          <p:cNvSpPr/>
          <p:nvPr/>
        </p:nvSpPr>
        <p:spPr>
          <a:xfrm flipH="1">
            <a:off x="1107720" y="4164120"/>
            <a:ext cx="947880" cy="34740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23840" y="3844800"/>
            <a:ext cx="82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HGP創英角ｺﾞｼｯｸUB"/>
              </a:rPr>
              <a:t>mvL0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219560" y="3560760"/>
            <a:ext cx="85680" cy="164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538280" y="4425840"/>
            <a:ext cx="173160" cy="258840"/>
          </a:xfrm>
          <a:prstGeom prst="upArrow">
            <a:avLst>
              <a:gd name="adj1" fmla="val 50000"/>
              <a:gd name="adj2" fmla="val 3737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82320" y="480996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HGP創英角ｺﾞｼｯｸUB"/>
              </a:rPr>
              <a:t>mvL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354480" y="3817800"/>
            <a:ext cx="865080" cy="34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290760" y="414504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HGP創英角ｺﾞｼｯｸUB"/>
              </a:rPr>
              <a:t>mvL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425600" y="4130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Courier New"/>
                <a:ea typeface="HGP創英角ｺﾞｼｯｸUB"/>
              </a:rPr>
              <a:t>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20480" y="5227560"/>
            <a:ext cx="1003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HGP創英角ｺﾞｼｯｸUB"/>
              </a:rPr>
              <a:t>re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HGP創英角ｺﾞｼｯｸUB"/>
              </a:rPr>
              <a:t>pi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543720" y="3530520"/>
            <a:ext cx="85680" cy="164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666200" y="3530520"/>
            <a:ext cx="85680" cy="164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99920" y="5197320"/>
            <a:ext cx="820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HGP創英角ｺﾞｼｯｸUB"/>
              </a:rPr>
              <a:t>curr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HGP創英角ｺﾞｼｯｸUB"/>
              </a:rPr>
              <a:t>pi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364880" y="519732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HGP創英角ｺﾞｼｯｸUB"/>
              </a:rPr>
              <a:t>colP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418000" y="3530520"/>
            <a:ext cx="86040" cy="164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543720" y="3875040"/>
            <a:ext cx="85680" cy="432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667640" y="3875040"/>
            <a:ext cx="85680" cy="432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5590800" y="4221000"/>
            <a:ext cx="1989000" cy="692280"/>
          </a:xfrm>
          <a:prstGeom prst="line">
            <a:avLst/>
          </a:prstGeom>
          <a:ln cap="rnd" w="28440">
            <a:solidFill>
              <a:srgbClr val="ff33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629400" y="3887640"/>
            <a:ext cx="1036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9400" y="4302000"/>
            <a:ext cx="1036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068320" y="2782800"/>
            <a:ext cx="1095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HGP創英角ｺﾞｼｯｸUB"/>
              </a:rPr>
              <a:t>co-loc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HGP創英角ｺﾞｼｯｸUB"/>
              </a:rPr>
              <a:t>part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/>
          <p:nvPr/>
        </p:nvCxnSpPr>
        <p:spPr>
          <a:xfrm rot="5400000">
            <a:off x="7709040" y="3358080"/>
            <a:ext cx="648360" cy="561240"/>
          </a:xfrm>
          <a:prstGeom prst="curvedConnector2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"/>
          <p:cNvCxnSpPr/>
          <p:nvPr/>
        </p:nvCxnSpPr>
        <p:spPr>
          <a:xfrm rot="5400000">
            <a:off x="6522120" y="3290760"/>
            <a:ext cx="767520" cy="554760"/>
          </a:xfrm>
          <a:prstGeom prst="curvedConnector2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3" name=""/>
          <p:cNvSpPr/>
          <p:nvPr/>
        </p:nvSpPr>
        <p:spPr>
          <a:xfrm flipH="1">
            <a:off x="5590800" y="4133880"/>
            <a:ext cx="949320" cy="34776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508720" y="3814920"/>
            <a:ext cx="82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HGP創英角ｺﾞｼｯｸUB"/>
              </a:rPr>
              <a:t>mvL0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704440" y="3530520"/>
            <a:ext cx="85680" cy="164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67200" y="478008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HGP創英角ｺﾞｼｯｸUB"/>
              </a:rPr>
              <a:t>mvL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7839000" y="3787560"/>
            <a:ext cx="865440" cy="3459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775280" y="411480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HGP創英角ｺﾞｼｯｸUB"/>
              </a:rPr>
              <a:t>mvL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94800" y="44100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urier New"/>
                <a:ea typeface="HGP創英角ｺﾞｼｯｸUB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05160" y="39751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urier New"/>
                <a:ea typeface="HGP創英角ｺﾞｼｯｸUB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35840" y="2695680"/>
            <a:ext cx="1552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HGP創英角ｺﾞｼｯｸUB"/>
              </a:rPr>
              <a:t>targ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HGP創英角ｺﾞｼｯｸUB"/>
              </a:rPr>
              <a:t>prediction 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812840" y="5197320"/>
            <a:ext cx="1003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HGP創英角ｺﾞｼｯｸUB"/>
              </a:rPr>
              <a:t>re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HGP創英角ｺﾞｼｯｸUB"/>
              </a:rPr>
              <a:t>pi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57400" y="5864400"/>
            <a:ext cx="4687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vL0 is avail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vL0Col is added to MVP candidates as temporal M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153400" y="5864400"/>
            <a:ext cx="4598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vL1 is not avail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thing is added to MVP candidates as temporal M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35160" y="2260440"/>
            <a:ext cx="303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Case of collocated_from_l0_flag =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7D214-04AD-45B3-B791-77A9A445AC1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2653920" y="2492280"/>
            <a:ext cx="3735000" cy="2548080"/>
            <a:chOff x="2653920" y="2492280"/>
            <a:chExt cx="3735000" cy="2548080"/>
          </a:xfrm>
        </p:grpSpPr>
        <p:sp>
          <p:nvSpPr>
            <p:cNvPr id="137" name=""/>
            <p:cNvSpPr/>
            <p:nvPr/>
          </p:nvSpPr>
          <p:spPr>
            <a:xfrm>
              <a:off x="4093920" y="3212640"/>
              <a:ext cx="70920" cy="1368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28840" y="3212640"/>
              <a:ext cx="71280" cy="1368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8440" y="4581360"/>
              <a:ext cx="8208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HGP創英角ｺﾞｼｯｸUB"/>
                </a:rPr>
                <a:t>curr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HGP創英角ｺﾞｼｯｸUB"/>
                </a:rPr>
                <a:t>pictu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778280" y="4581360"/>
              <a:ext cx="72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HGP創英角ｺﾞｼｯｸUB"/>
                </a:rPr>
                <a:t>colPi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157200" y="3212640"/>
              <a:ext cx="71280" cy="1368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093920" y="3500280"/>
              <a:ext cx="70920" cy="360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030640" y="3500280"/>
              <a:ext cx="70920" cy="360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3301200" y="3789000"/>
              <a:ext cx="1655640" cy="576000"/>
            </a:xfrm>
            <a:prstGeom prst="line">
              <a:avLst/>
            </a:prstGeom>
            <a:ln cap="rnd" w="28440">
              <a:solidFill>
                <a:srgbClr val="ff33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165200" y="3511080"/>
              <a:ext cx="863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165200" y="3855600"/>
              <a:ext cx="863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93800" y="2565000"/>
              <a:ext cx="1095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HGP創英角ｺﾞｼｯｸUB"/>
                </a:rPr>
                <a:t>co-locat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HGP創英角ｺﾞｼｯｸUB"/>
                </a:rPr>
                <a:t>parti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8" name=""/>
            <p:cNvCxnSpPr/>
            <p:nvPr/>
          </p:nvCxnSpPr>
          <p:spPr>
            <a:xfrm rot="5400000">
              <a:off x="5064840" y="3069720"/>
              <a:ext cx="540000" cy="467280"/>
            </a:xfrm>
            <a:prstGeom prst="curvedConnector2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149" name=""/>
            <p:cNvCxnSpPr/>
            <p:nvPr/>
          </p:nvCxnSpPr>
          <p:spPr>
            <a:xfrm rot="5400000">
              <a:off x="4076640" y="3013200"/>
              <a:ext cx="638280" cy="462600"/>
            </a:xfrm>
            <a:prstGeom prst="curvedConnector2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150" name=""/>
            <p:cNvSpPr/>
            <p:nvPr/>
          </p:nvSpPr>
          <p:spPr>
            <a:xfrm flipH="1">
              <a:off x="3301560" y="3715920"/>
              <a:ext cx="790560" cy="2887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232440" y="3428640"/>
              <a:ext cx="820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HGP創英角ｺﾞｼｯｸUB"/>
                </a:rPr>
                <a:t>mvL1C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894280" y="3212640"/>
              <a:ext cx="70920" cy="1368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447360" y="4254120"/>
              <a:ext cx="54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HGP創英角ｺﾞｼｯｸUB"/>
                </a:rPr>
                <a:t>mvL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V="1">
              <a:off x="5173560" y="3426840"/>
              <a:ext cx="720360" cy="2883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120640" y="3700080"/>
              <a:ext cx="54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HGP創英角ｺﾞｼｯｸUB"/>
                </a:rPr>
                <a:t>mvL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731400" y="387972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Courier New"/>
                  <a:ea typeface="HGP創英角ｺﾞｼｯｸUB"/>
                </a:rPr>
                <a:t>×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rot="15839400">
              <a:off x="4485240" y="3175560"/>
              <a:ext cx="141120" cy="1228320"/>
            </a:xfrm>
            <a:prstGeom prst="upArrow">
              <a:avLst>
                <a:gd name="adj1" fmla="val 50000"/>
                <a:gd name="adj2" fmla="val 217602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595320" y="3609720"/>
              <a:ext cx="36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Courier New"/>
                  <a:ea typeface="HGP創英角ｺﾞｼｯｸUB"/>
                </a:rPr>
                <a:t>○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663360" y="2492280"/>
              <a:ext cx="1552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HGP創英角ｺﾞｼｯｸUB"/>
                </a:rPr>
                <a:t>targ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HGP創英角ｺﾞｼｯｸUB"/>
                </a:rPr>
                <a:t>prediction 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653920" y="4581360"/>
              <a:ext cx="10036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HGP創英角ｺﾞｼｯｸUB"/>
                </a:rPr>
                <a:t>referen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HGP創英角ｺﾞｼｯｸUB"/>
                </a:rPr>
                <a:t>pictu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147600" y="57240"/>
            <a:ext cx="88441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 Unicode MS"/>
              </a:rPr>
              <a:t>Proposed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10191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65040" y="642960"/>
            <a:ext cx="88362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If mvL0 in co-located partition were not available, availability of mvL1 is checked and, if available, mvL1 is used to derive temporal MV predi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This is conceptually same as AVC specification, and it was modified to suit the TMuC0.9-h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B7ECE-86B5-46EC-9597-CAEB84C1BA5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"/>
          <p:cNvGrpSpPr/>
          <p:nvPr/>
        </p:nvGrpSpPr>
        <p:grpSpPr>
          <a:xfrm>
            <a:off x="776160" y="1844640"/>
            <a:ext cx="8280000" cy="3973320"/>
            <a:chOff x="776160" y="1844640"/>
            <a:chExt cx="8280000" cy="3973320"/>
          </a:xfrm>
        </p:grpSpPr>
        <p:sp>
          <p:nvSpPr>
            <p:cNvPr id="165" name=""/>
            <p:cNvSpPr/>
            <p:nvPr/>
          </p:nvSpPr>
          <p:spPr>
            <a:xfrm>
              <a:off x="776160" y="2708280"/>
              <a:ext cx="2678040" cy="531360"/>
            </a:xfrm>
            <a:prstGeom prst="flowChartDecision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HGP創英角ｺﾞｼｯｸUB"/>
                </a:rPr>
                <a:t>collocated_from_l0_flag == 1 ?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624320" y="5487840"/>
              <a:ext cx="978480" cy="330120"/>
            </a:xfrm>
            <a:prstGeom prst="flowChartProcess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HGP創英角ｺﾞｼｯｸUB"/>
                </a:rPr>
                <a:t>use MvL1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HGP創英角ｺﾞｼｯｸUB"/>
                </a:rPr>
                <a:t>as mvC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988000" y="5487840"/>
              <a:ext cx="979920" cy="330120"/>
            </a:xfrm>
            <a:prstGeom prst="flowChartProcess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HGP創英角ｺﾞｼｯｸUB"/>
                </a:rPr>
                <a:t>use MvL0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HGP創英角ｺﾞｼｯｸUB"/>
                </a:rPr>
                <a:t>as mvC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8" name=""/>
            <p:cNvCxnSpPr>
              <a:stCxn id="169" idx="2"/>
              <a:endCxn id="165" idx="0"/>
            </p:cNvCxnSpPr>
            <p:nvPr/>
          </p:nvCxnSpPr>
          <p:spPr>
            <a:xfrm flipV="1" rot="10800000">
              <a:off x="2114640" y="2441880"/>
              <a:ext cx="1080" cy="2664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70" name=""/>
            <p:cNvSpPr/>
            <p:nvPr/>
          </p:nvSpPr>
          <p:spPr>
            <a:xfrm>
              <a:off x="1688760" y="2382840"/>
              <a:ext cx="45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HGP創英角ｺﾞｼｯｸUB"/>
                </a:rPr>
                <a:t>Y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866680" y="1872000"/>
              <a:ext cx="38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HGP創英角ｺﾞｼｯｸUB"/>
                </a:rPr>
                <a:t>N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363680" y="1844640"/>
              <a:ext cx="1501560" cy="597600"/>
            </a:xfrm>
            <a:prstGeom prst="flowChartDecision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HGP創英角ｺﾞｼｯｸUB"/>
                </a:rPr>
                <a:t>Is B slice ?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74080" y="3539520"/>
              <a:ext cx="2481840" cy="663840"/>
            </a:xfrm>
            <a:prstGeom prst="flowChartDecision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HGP創英角ｺﾞｼｯｸUB"/>
                </a:rPr>
                <a:t>MvL1 of co-locat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HGP創英角ｺﾞｼｯｸUB"/>
                </a:rPr>
                <a:t>partition is available ?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73" name=""/>
            <p:cNvCxnSpPr>
              <a:stCxn id="165" idx="2"/>
              <a:endCxn id="172" idx="0"/>
            </p:cNvCxnSpPr>
            <p:nvPr/>
          </p:nvCxnSpPr>
          <p:spPr>
            <a:xfrm flipV="1" rot="10800000">
              <a:off x="2114640" y="3239640"/>
              <a:ext cx="1080" cy="3002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4" name=""/>
            <p:cNvCxnSpPr>
              <a:stCxn id="172" idx="2"/>
              <a:endCxn id="166" idx="0"/>
            </p:cNvCxnSpPr>
            <p:nvPr/>
          </p:nvCxnSpPr>
          <p:spPr>
            <a:xfrm rot="5400000">
              <a:off x="1471680" y="4844520"/>
              <a:ext cx="1284840" cy="2160"/>
            </a:xfrm>
            <a:prstGeom prst="bentConnector3">
              <a:avLst>
                <a:gd name="adj1" fmla="val 49915"/>
              </a:avLst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5" name=""/>
            <p:cNvCxnSpPr>
              <a:stCxn id="172" idx="3"/>
              <a:endCxn id="176" idx="0"/>
            </p:cNvCxnSpPr>
            <p:nvPr/>
          </p:nvCxnSpPr>
          <p:spPr>
            <a:xfrm>
              <a:off x="3355560" y="3871800"/>
              <a:ext cx="123480" cy="599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7" name=""/>
            <p:cNvCxnSpPr>
              <a:stCxn id="176" idx="2"/>
              <a:endCxn id="167" idx="0"/>
            </p:cNvCxnSpPr>
            <p:nvPr/>
          </p:nvCxnSpPr>
          <p:spPr>
            <a:xfrm flipV="1" rot="10800000">
              <a:off x="3477960" y="5134320"/>
              <a:ext cx="1080" cy="353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76" name=""/>
            <p:cNvSpPr/>
            <p:nvPr/>
          </p:nvSpPr>
          <p:spPr>
            <a:xfrm>
              <a:off x="2238120" y="4470840"/>
              <a:ext cx="2481480" cy="663840"/>
            </a:xfrm>
            <a:prstGeom prst="flowChartDecision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HGP創英角ｺﾞｼｯｸUB"/>
                </a:rPr>
                <a:t>MvL0 of co-locat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HGP創英角ｺﾞｼｯｸUB"/>
                </a:rPr>
                <a:t>partition is available ?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325400" y="5487840"/>
              <a:ext cx="978840" cy="330120"/>
            </a:xfrm>
            <a:prstGeom prst="flowChartProcess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HGP創英角ｺﾞｼｯｸUB"/>
                </a:rPr>
                <a:t>Set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HGP創英角ｺﾞｼｯｸUB"/>
                </a:rPr>
                <a:t>not availab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79" name=""/>
            <p:cNvCxnSpPr>
              <a:stCxn id="176" idx="3"/>
              <a:endCxn id="178" idx="0"/>
            </p:cNvCxnSpPr>
            <p:nvPr/>
          </p:nvCxnSpPr>
          <p:spPr>
            <a:xfrm>
              <a:off x="4719600" y="4803120"/>
              <a:ext cx="95760" cy="685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80" name=""/>
            <p:cNvSpPr/>
            <p:nvPr/>
          </p:nvSpPr>
          <p:spPr>
            <a:xfrm>
              <a:off x="5405760" y="5487840"/>
              <a:ext cx="978480" cy="330120"/>
            </a:xfrm>
            <a:prstGeom prst="flowChartProcess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HGP創英角ｺﾞｼｯｸUB"/>
                </a:rPr>
                <a:t>use MvL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HGP創英角ｺﾞｼｯｸUB"/>
                </a:rPr>
                <a:t>as mvC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738480" y="5487840"/>
              <a:ext cx="978480" cy="330120"/>
            </a:xfrm>
            <a:prstGeom prst="flowChartProcess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HGP創英角ｺﾞｼｯｸUB"/>
                </a:rPr>
                <a:t>use MvL1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HGP創英角ｺﾞｼｯｸUB"/>
                </a:rPr>
                <a:t>as mvC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655160" y="3539520"/>
              <a:ext cx="2480400" cy="663840"/>
            </a:xfrm>
            <a:prstGeom prst="flowChartDecision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HGP創英角ｺﾞｼｯｸUB"/>
                </a:rPr>
                <a:t>MvL0 of co-locat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HGP創英角ｺﾞｼｯｸUB"/>
                </a:rPr>
                <a:t>partition is available ?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83" name=""/>
            <p:cNvCxnSpPr>
              <a:stCxn id="182" idx="2"/>
              <a:endCxn id="180" idx="0"/>
            </p:cNvCxnSpPr>
            <p:nvPr/>
          </p:nvCxnSpPr>
          <p:spPr>
            <a:xfrm rot="5400000">
              <a:off x="5252760" y="4844520"/>
              <a:ext cx="1284840" cy="2160"/>
            </a:xfrm>
            <a:prstGeom prst="bentConnector3">
              <a:avLst>
                <a:gd name="adj1" fmla="val 49915"/>
              </a:avLst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84" name=""/>
            <p:cNvCxnSpPr>
              <a:stCxn id="182" idx="3"/>
              <a:endCxn id="185" idx="0"/>
            </p:cNvCxnSpPr>
            <p:nvPr/>
          </p:nvCxnSpPr>
          <p:spPr>
            <a:xfrm>
              <a:off x="7135560" y="3871800"/>
              <a:ext cx="91080" cy="599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86" name=""/>
            <p:cNvCxnSpPr>
              <a:stCxn id="185" idx="2"/>
              <a:endCxn id="181" idx="0"/>
            </p:cNvCxnSpPr>
            <p:nvPr/>
          </p:nvCxnSpPr>
          <p:spPr>
            <a:xfrm flipH="1" rot="16200000">
              <a:off x="7049520" y="5310360"/>
              <a:ext cx="353520" cy="1800"/>
            </a:xfrm>
            <a:prstGeom prst="bentConnector3">
              <a:avLst>
                <a:gd name="adj1" fmla="val 49745"/>
              </a:avLst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85" name=""/>
            <p:cNvSpPr/>
            <p:nvPr/>
          </p:nvSpPr>
          <p:spPr>
            <a:xfrm>
              <a:off x="5985000" y="4470840"/>
              <a:ext cx="2481840" cy="663840"/>
            </a:xfrm>
            <a:prstGeom prst="flowChartDecision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HGP創英角ｺﾞｼｯｸUB"/>
                </a:rPr>
                <a:t>MvL1 of co-locat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HGP創英角ｺﾞｼｯｸUB"/>
                </a:rPr>
                <a:t>partition is available ?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077320" y="5487840"/>
              <a:ext cx="978840" cy="330120"/>
            </a:xfrm>
            <a:prstGeom prst="flowChartProcess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HGP創英角ｺﾞｼｯｸUB"/>
                </a:rPr>
                <a:t>Set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HGP創英角ｺﾞｼｯｸUB"/>
                </a:rPr>
                <a:t>not availab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88" name=""/>
            <p:cNvCxnSpPr>
              <a:stCxn id="185" idx="3"/>
              <a:endCxn id="187" idx="0"/>
            </p:cNvCxnSpPr>
            <p:nvPr/>
          </p:nvCxnSpPr>
          <p:spPr>
            <a:xfrm>
              <a:off x="8466840" y="4803120"/>
              <a:ext cx="100440" cy="685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89" name=""/>
            <p:cNvCxnSpPr>
              <a:stCxn id="165" idx="3"/>
              <a:endCxn id="182" idx="0"/>
            </p:cNvCxnSpPr>
            <p:nvPr/>
          </p:nvCxnSpPr>
          <p:spPr>
            <a:xfrm>
              <a:off x="3454200" y="2973600"/>
              <a:ext cx="2442960" cy="566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0" name=""/>
            <p:cNvCxnSpPr>
              <a:stCxn id="169" idx="3"/>
              <a:endCxn id="182" idx="0"/>
            </p:cNvCxnSpPr>
            <p:nvPr/>
          </p:nvCxnSpPr>
          <p:spPr>
            <a:xfrm>
              <a:off x="2865240" y="2144160"/>
              <a:ext cx="3031920" cy="13957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91" name=""/>
            <p:cNvSpPr/>
            <p:nvPr/>
          </p:nvSpPr>
          <p:spPr>
            <a:xfrm>
              <a:off x="1688760" y="3173760"/>
              <a:ext cx="45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HGP創英角ｺﾞｼｯｸUB"/>
                </a:rPr>
                <a:t>Y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688760" y="4211640"/>
              <a:ext cx="45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HGP創英角ｺﾞｼｯｸUB"/>
                </a:rPr>
                <a:t>Y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085920" y="5049360"/>
              <a:ext cx="45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HGP創英角ｺﾞｼｯｸUB"/>
                </a:rPr>
                <a:t>Y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469840" y="4211640"/>
              <a:ext cx="45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HGP創英角ｺﾞｼｯｸUB"/>
                </a:rPr>
                <a:t>Y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833520" y="5073480"/>
              <a:ext cx="45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HGP創英角ｺﾞｼｯｸUB"/>
                </a:rPr>
                <a:t>Y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390480" y="2714760"/>
              <a:ext cx="38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HGP創英角ｺﾞｼｯｸUB"/>
                </a:rPr>
                <a:t>N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259440" y="3613680"/>
              <a:ext cx="38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HGP創英角ｺﾞｼｯｸUB"/>
                </a:rPr>
                <a:t>N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91080" y="4543560"/>
              <a:ext cx="38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HGP創英角ｺﾞｼｯｸUB"/>
                </a:rPr>
                <a:t>N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105680" y="3613680"/>
              <a:ext cx="38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HGP創英角ｺﾞｼｯｸUB"/>
                </a:rPr>
                <a:t>N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337240" y="4543560"/>
              <a:ext cx="38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HGP創英角ｺﾞｼｯｸUB"/>
                </a:rPr>
                <a:t>N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365040" y="642960"/>
            <a:ext cx="88362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Non-highlighted blocks are same as original TMuC0.9-hm 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Highlighted blocks are newly added in this propos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47600" y="57240"/>
            <a:ext cx="88441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 Unicode MS"/>
              </a:rPr>
              <a:t>Flowchart of proposed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12430-5E06-4AE4-BE7A-F11EE244EF9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147600" y="57240"/>
            <a:ext cx="88441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 Unicode MS"/>
              </a:rPr>
              <a:t>Experimental results ( Anchor: TMuC0.9-hm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1424160" y="1557360"/>
            <a:ext cx="6840360" cy="48276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65040" y="642960"/>
            <a:ext cx="88362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A proposed method was implemented on TMuC0.9-hm softw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It was tested for four inter coding configu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462000" y="1197000"/>
            <a:ext cx="200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Anchor: TMuC0.9-h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CC6BE-1BD9-4588-A11C-63B050FE2DC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1496880" y="979560"/>
            <a:ext cx="7121520" cy="288108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1496880" y="3860640"/>
            <a:ext cx="7121520" cy="288144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65040" y="642960"/>
            <a:ext cx="88362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Proposed method saves bits for all seque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47600" y="57240"/>
            <a:ext cx="88441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 Unicode MS"/>
              </a:rPr>
              <a:t>BD rate for each sequ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9A079-9404-4051-BE0C-7D51FD4ED98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47600" y="57240"/>
            <a:ext cx="88441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 Unicode MS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65040" y="642960"/>
            <a:ext cx="926784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A modified derivation process of temporal MV predictor was propo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It saves 0.4% bits for HE and 0.3% bits for LC on average in the RA c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It saves the number of bits consistently for all sequen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Reduction in BD rate was observ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The complexity impact is negligi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We recommend that proposed method be adopted in the HM/WD of HEV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61FE6-E0EE-4ECB-9D99-23DD1A5FF47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3515760" y="3141720"/>
            <a:ext cx="255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B9C77-212B-4BBB-B2E6-A3E10A7CAC6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6T07:01:19Z</dcterms:created>
  <dc:creator>Hisao Sasai</dc:creator>
  <dc:description/>
  <dc:language>en-US</dc:language>
  <cp:lastModifiedBy>全社標準ＰＣ</cp:lastModifiedBy>
  <dcterms:modified xsi:type="dcterms:W3CDTF">2011-01-21T16:07:09Z</dcterms:modified>
  <cp:revision>1677</cp:revision>
  <dc:subject/>
  <dc:title>Title</dc:title>
</cp:coreProperties>
</file>