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A3D4-BA96-4B5F-96E2-11D24D6EB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0BC-B1CD-4EA1-BBCC-3AD48BF2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01FE-7758-49A9-A299-76E70CE0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9A26-9B2B-41AB-B488-558C08DA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C1D3-B758-4AFD-BC1B-8B3C700C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C44D-D566-4D0A-A699-A589BF7E5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5814-C417-4810-8F98-AF45119D0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F738-2113-4E9D-A7A0-66BC7BD7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1518-B2BC-4E45-808F-3776695B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9C07-168C-44EE-990F-5571B94C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76F4-F31C-40FE-B827-787CC927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CE38-74CE-4830-95DA-5790C6CB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C2AB-E8EC-4095-96BA-0E96D51D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2291-F9FC-4669-9F23-EADDA093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2EFC-8CBF-4ADE-9A0C-E03F22D5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6189-131B-4CBE-973E-7E0F3006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53D2-3554-438F-A02D-6F21CC15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668B5-5B6C-4293-AE7C-EB5310946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98AC-022C-445D-867D-538E0EBB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D13DAC-E485-44DD-97EC-DC06DD690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0DD12-CEDE-463D-BB2D-371D2307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E9FC5-06A7-4C2C-B890-E2D63B2B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9297-8EE5-4446-A138-413052C9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FA96F-DDE0-497D-BDC0-D43315F6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5389B-39ED-4CEB-8023-A0E0DAF5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DD307-F860-4AA6-96C0-5D6BFC4B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7AC8A-DC53-46A3-8624-35BDB346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7C27E-7F53-4FBE-81F7-CF3B8941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5B77C-324A-454F-9905-B7041689D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0D7ED-2113-48A2-A1C2-0CC3B2CA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F84E2-6DA8-47E0-B276-68CA2240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61C2-39BB-42E8-AEB6-C1251B33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46FDE-A8CF-428F-8F58-6B8BE5C3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D45F-EB9B-4C39-984A-0EE92BA9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D6F44-A034-4AE9-BAB1-9C9213B9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CF258-A7D0-405C-97DB-C79AD2FD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E2ECA-0639-4859-BA5F-46EEFFC6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2AE85-09F6-45FD-AD1E-50D0960B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1C124-354E-4801-A0E7-A55B02EA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AA7A6-8619-4788-86EB-18FD4C00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77F06-FE9D-43CB-A7F6-F3AF5874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21388-D9D2-4DA1-B8FB-AAB480F1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B8AFE-0570-4E1A-95D6-DFA392D2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D7D0B-D9BB-451F-A99B-D1A33366A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711-F841-42EC-AA12-3CDEF3E2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8A013-B4ED-4CE3-8B7E-7C6F3A44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E9D92-AE45-4494-878E-1A23D897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A7550-796E-47B5-B447-5BAB8450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F51DC-2D77-4C50-BECA-E9EE061A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C6BD1-5C74-4CA5-8BF4-F4F81446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B58D4-0231-4EC4-B1C5-C49A1198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87229-BFD9-43E0-851E-36085921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D2EC9-E2EC-43DF-8AB4-CBF30E7D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8BD42-68F9-459F-8B87-8C4DFA8F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20ED5-9DA9-4F8E-89DE-09812BBA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723-B356-4D9C-A215-206BFAB4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8104D-AF69-4F47-87FD-5598ABFA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872A7C-5249-4563-9D99-80E3E30C5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84A28-2AF7-443E-8CC6-256CB54A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F5EBD-2CE9-41C9-BAB2-EF2E9810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E896A-4EEE-4DD1-83FA-B898F13E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0A1EA-142C-4180-8A5B-7E346029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3B116-C570-4757-B97F-B408E8D7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D97DD-AEBB-4F23-9306-92EC0A82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37278-0D41-4E84-AB65-16595EC7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616420-A1EC-4A09-93AC-A86EBD89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1015-B525-4B4F-9165-27687025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1F3EE-6769-4DE5-8694-51B5A6BF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141437-D359-41DD-A3F8-2C0FD3FA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6B993-004A-479F-9CFA-2FB94D2D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33B88-DFE9-4678-A00A-A5A1EFB8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44C06-89D8-4177-B1CC-320F85D6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FD889-3ED5-4C54-B74E-2D574B10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4B997-8C9A-4172-8574-E6B1B10C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3CD42-340C-437E-9DE8-59F90763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F580D-D39F-4A11-9F8C-A1E53DD6F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2E0D1-20BC-4034-AD76-1867BFF66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68AA-0D2F-4404-9E3D-09402243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99D0A-8EA9-4030-92BD-5889D40F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8B38F-B85B-4C1E-8759-B558369B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121BB-2FE4-4F9B-82CE-4B8EC215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B6633-6F1E-44F4-A517-C1FEA7868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7F95A-BF0E-4074-AC7C-0003CAECE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6861-B79E-4B45-956A-E783D28E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E3FE-4DD4-41A4-ADCB-06B7A2D90FA5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1E43-82DF-4276-A765-3F6DFD2FDD8F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FCC5-05FB-46EC-A317-3282AC410B39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0D9A-77AB-46DB-89A1-36B03524F098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5391-42FD-4BD0-BB28-FB9FAAD57500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AE7B-051E-4291-8337-BF2311589200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67472-75B1-4007-AC4D-CC09E5DEF8DD}" type="slidenum">
              <a:rPr b="0" lang="zh-CN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Improved Intra Mode Coding by Multiple mode candidat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Wenpeng ding Xiaoyin Che Yunhui Shi and  Baocai Yi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</a:rPr>
              <a:t>Beijing University of Technolog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"/>
          <p:cNvGraphicFramePr/>
          <p:nvPr/>
        </p:nvGraphicFramePr>
        <p:xfrm>
          <a:off x="1476360" y="2565360"/>
          <a:ext cx="6551640" cy="3962520"/>
        </p:xfrm>
        <a:graphic>
          <a:graphicData uri="http://schemas.openxmlformats.org/drawingml/2006/table">
            <a:tbl>
              <a:tblPr/>
              <a:tblGrid>
                <a:gridCol w="1225440"/>
                <a:gridCol w="892440"/>
                <a:gridCol w="890280"/>
                <a:gridCol w="881280"/>
                <a:gridCol w="890640"/>
                <a:gridCol w="892080"/>
                <a:gridCol w="879480"/>
              </a:tblGrid>
              <a:tr h="30528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nt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ntra Lo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Y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V BD-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lass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lass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lass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lass 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lass 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n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ec Time[%]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9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10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Experimental Results:Summery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Adopt to the HM softwar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Or establish a Core experiment for the next meeting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Recommendation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Most Probable Mode = Min(Left, Top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 bit to indicate whether the most probable mode hit the current mod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Intra prediction Mode in TMuc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9" name=""/>
          <p:cNvGraphicFramePr/>
          <p:nvPr/>
        </p:nvGraphicFramePr>
        <p:xfrm>
          <a:off x="826920" y="2924280"/>
          <a:ext cx="7490160" cy="1728720"/>
        </p:xfrm>
        <a:graphic>
          <a:graphicData uri="http://schemas.openxmlformats.org/drawingml/2006/table">
            <a:tbl>
              <a:tblPr/>
              <a:tblGrid>
                <a:gridCol w="1346400"/>
                <a:gridCol w="1023840"/>
                <a:gridCol w="1023840"/>
                <a:gridCol w="1024200"/>
                <a:gridCol w="1023840"/>
                <a:gridCol w="1023840"/>
                <a:gridCol w="1024200"/>
              </a:tblGrid>
              <a:tr h="865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ne candi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TMuc0.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wo candi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hree candida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63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robability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23.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76.6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4.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5.7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37.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62.8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Multiple mode candidat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Two mode candidat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343" name="Object 4"/>
          <p:cNvGraphicFramePr/>
          <p:nvPr/>
        </p:nvGraphicFramePr>
        <p:xfrm>
          <a:off x="1187280" y="2492280"/>
          <a:ext cx="5553360" cy="31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492280"/>
                    <a:ext cx="5553360" cy="31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Most Probable Modes = {Left, Top}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 bit to indicate whether the most probable modes hit the current mod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1bit to which one hit the current mod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Multiple mode candidat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7" name=""/>
          <p:cNvGraphicFramePr/>
          <p:nvPr/>
        </p:nvGraphicFramePr>
        <p:xfrm>
          <a:off x="539640" y="2421000"/>
          <a:ext cx="7993080" cy="2808360"/>
        </p:xfrm>
        <a:graphic>
          <a:graphicData uri="http://schemas.openxmlformats.org/drawingml/2006/table">
            <a:tbl>
              <a:tblPr/>
              <a:tblGrid>
                <a:gridCol w="2259000"/>
                <a:gridCol w="1341720"/>
                <a:gridCol w="1884240"/>
                <a:gridCol w="2508120"/>
              </a:tblGrid>
              <a:tr h="25560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a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Not   Ma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One Mode Candi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wo Mode Candid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(Left!=Top &amp;&amp; Left_Availabe&amp;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op_Availb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odeX==le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ModeX==righ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ncode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ncode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ncode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ncode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ncod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ncod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ncode_Mode_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Multiple mode candidates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"/>
          <p:cNvGraphicFramePr/>
          <p:nvPr/>
        </p:nvGraphicFramePr>
        <p:xfrm>
          <a:off x="1476360" y="2205000"/>
          <a:ext cx="6480360" cy="4032360"/>
        </p:xfrm>
        <a:graphic>
          <a:graphicData uri="http://schemas.openxmlformats.org/drawingml/2006/table">
            <a:tbl>
              <a:tblPr/>
              <a:tblGrid>
                <a:gridCol w="4827600"/>
                <a:gridCol w="1652760"/>
              </a:tblGrid>
              <a:tr h="63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ad_intra_pred_mode(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escrip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se_candidate_d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(1)|ae(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f (use_candidate_dir)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f(num_of_ candidate_num = 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  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andidate_n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(1)|ae(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}else{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em_intra_pred_m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ue(v)|ae(v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}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Syntex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</a:rPr>
              <a:t>Experimental Results:Intra_CABAC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332000" y="1700280"/>
          <a:ext cx="5472000" cy="4797360"/>
        </p:xfrm>
        <a:graphic>
          <a:graphicData uri="http://schemas.openxmlformats.org/drawingml/2006/table">
            <a:tbl>
              <a:tblPr/>
              <a:tblGrid>
                <a:gridCol w="944640"/>
                <a:gridCol w="1695240"/>
                <a:gridCol w="943200"/>
                <a:gridCol w="944280"/>
                <a:gridCol w="944640"/>
              </a:tblGrid>
              <a:tr h="191880">
                <a:tc gridSpan="5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n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raf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eopleOn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Kimo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arkSc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ac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asketballDr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QTer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asketballDr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QM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artySc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aceHor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asketballP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Q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4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lowingBub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aceHor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Vidyo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Vidyo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Vidyo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b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b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Experimental Results:Intra_loco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1332000" y="1844640"/>
          <a:ext cx="5832360" cy="4567320"/>
        </p:xfrm>
        <a:graphic>
          <a:graphicData uri="http://schemas.openxmlformats.org/drawingml/2006/table">
            <a:tbl>
              <a:tblPr/>
              <a:tblGrid>
                <a:gridCol w="1006560"/>
                <a:gridCol w="1806480"/>
                <a:gridCol w="1006560"/>
                <a:gridCol w="1006200"/>
                <a:gridCol w="1006560"/>
              </a:tblGrid>
              <a:tr h="182880">
                <a:tc gridSpan="5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Intra_lo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Traf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eopleOnStre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Kimo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arkSc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ac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asketballDr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QTerr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asketballDri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QM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PartySc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aceHor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60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asketballPa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QSqu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BlowingBub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RaceHor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Vidyo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Vidyo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Vidyo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r"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26676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ndara"/>
                        </a:rPr>
                        <a:t>-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0T02:23:30Z</dcterms:created>
  <dc:creator>wpding</dc:creator>
  <dc:description/>
  <dc:language>en-US</dc:language>
  <cp:lastModifiedBy>wpding</cp:lastModifiedBy>
  <dcterms:modified xsi:type="dcterms:W3CDTF">2011-01-20T03:11:50Z</dcterms:modified>
  <cp:revision>9</cp:revision>
  <dc:subject/>
  <dc:title>PowerPoint Presentation</dc:title>
</cp:coreProperties>
</file>