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3167A-4EDB-4FAA-9421-A7056DCBE2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6480" y="284040"/>
            <a:ext cx="70297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41000" y="1044720"/>
            <a:ext cx="80010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41000" y="3768480"/>
            <a:ext cx="80010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72FAE-9F58-4571-9BC1-14D95DE9E2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6480" y="284040"/>
            <a:ext cx="70297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41000" y="1044720"/>
            <a:ext cx="39042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40680" y="1044720"/>
            <a:ext cx="39042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41000" y="3768480"/>
            <a:ext cx="39042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40680" y="3768480"/>
            <a:ext cx="39042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79F2C-C1AD-4E69-9159-F7D14AC16E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6480" y="284040"/>
            <a:ext cx="70297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41000" y="1044720"/>
            <a:ext cx="25761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46400" y="1044720"/>
            <a:ext cx="25761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51800" y="1044720"/>
            <a:ext cx="25761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41000" y="3768480"/>
            <a:ext cx="25761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46400" y="3768480"/>
            <a:ext cx="25761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51800" y="3768480"/>
            <a:ext cx="25761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3C549-5AFC-42AC-9EA0-07EFA080BB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6480" y="284040"/>
            <a:ext cx="70297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41000" y="1044720"/>
            <a:ext cx="80010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6480" y="284040"/>
            <a:ext cx="70297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1000" y="1044720"/>
            <a:ext cx="80010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6480" y="284040"/>
            <a:ext cx="70297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1000" y="1044720"/>
            <a:ext cx="39042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40680" y="1044720"/>
            <a:ext cx="39042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6480" y="284040"/>
            <a:ext cx="70297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96480" y="284040"/>
            <a:ext cx="7029720" cy="223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6480" y="284040"/>
            <a:ext cx="70297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41000" y="1044720"/>
            <a:ext cx="39042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40680" y="1044720"/>
            <a:ext cx="39042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41000" y="3768480"/>
            <a:ext cx="39042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6480" y="284040"/>
            <a:ext cx="70297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41000" y="1044720"/>
            <a:ext cx="80010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2C446-845C-452E-8EDE-F0EE892A39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6480" y="284040"/>
            <a:ext cx="70297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41000" y="1044720"/>
            <a:ext cx="39042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40680" y="1044720"/>
            <a:ext cx="39042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40680" y="3768480"/>
            <a:ext cx="39042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6480" y="284040"/>
            <a:ext cx="70297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41000" y="1044720"/>
            <a:ext cx="39042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40680" y="1044720"/>
            <a:ext cx="39042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41000" y="3768480"/>
            <a:ext cx="80010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6480" y="284040"/>
            <a:ext cx="70297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41000" y="1044720"/>
            <a:ext cx="80010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41000" y="3768480"/>
            <a:ext cx="80010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6480" y="284040"/>
            <a:ext cx="70297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41000" y="1044720"/>
            <a:ext cx="39042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40680" y="1044720"/>
            <a:ext cx="39042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1000" y="3768480"/>
            <a:ext cx="39042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40680" y="3768480"/>
            <a:ext cx="39042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6480" y="284040"/>
            <a:ext cx="70297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41000" y="1044720"/>
            <a:ext cx="25761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146400" y="1044720"/>
            <a:ext cx="25761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851800" y="1044720"/>
            <a:ext cx="25761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41000" y="3768480"/>
            <a:ext cx="25761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146400" y="3768480"/>
            <a:ext cx="25761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851800" y="3768480"/>
            <a:ext cx="25761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6480" y="284040"/>
            <a:ext cx="70297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1000" y="1044720"/>
            <a:ext cx="80010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EB770-C9B6-4DFA-BEED-46F3731FF9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6480" y="284040"/>
            <a:ext cx="70297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41000" y="1044720"/>
            <a:ext cx="39042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40680" y="1044720"/>
            <a:ext cx="39042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A3C02-CF38-4FDF-9F24-73A1F34C9E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6480" y="284040"/>
            <a:ext cx="70297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D8CF5-8E9F-4513-9854-D5C1CD0C6F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6480" y="284040"/>
            <a:ext cx="7029720" cy="223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49E45-F6F2-4C86-92CE-0F7C056C2E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6480" y="284040"/>
            <a:ext cx="70297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41000" y="1044720"/>
            <a:ext cx="39042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0680" y="1044720"/>
            <a:ext cx="39042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41000" y="3768480"/>
            <a:ext cx="39042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2ADB2-8A1E-47B0-ACB4-DA8B79E497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6480" y="284040"/>
            <a:ext cx="70297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41000" y="1044720"/>
            <a:ext cx="39042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40680" y="1044720"/>
            <a:ext cx="39042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40680" y="3768480"/>
            <a:ext cx="39042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B72FE-8D70-4421-91F4-778C89A910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6480" y="284040"/>
            <a:ext cx="70297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1000" y="1044720"/>
            <a:ext cx="39042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40680" y="1044720"/>
            <a:ext cx="39042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1000" y="3768480"/>
            <a:ext cx="80010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C3602-760F-4B22-89FC-453513B189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6480" y="284040"/>
            <a:ext cx="70297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1000" y="1044720"/>
            <a:ext cx="80010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47080" y="6500520"/>
            <a:ext cx="990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900" spc="-1" strike="noStrike">
                <a:solidFill>
                  <a:srgbClr val="5f5f5f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E239C-62B2-47D0-9BA3-06A5D85E33AB}" type="slidenum">
              <a:rPr b="0" lang="ja-JP" sz="9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67480"/>
            <a:ext cx="310824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DOCOMO USA Labs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533520"/>
            <a:ext cx="69840" cy="6324480"/>
            <a:chOff x="0" y="533520"/>
            <a:chExt cx="69840" cy="6324480"/>
          </a:xfrm>
        </p:grpSpPr>
        <p:sp>
          <p:nvSpPr>
            <p:cNvPr id="5" name=""/>
            <p:cNvSpPr/>
            <p:nvPr/>
          </p:nvSpPr>
          <p:spPr>
            <a:xfrm>
              <a:off x="0" y="2514600"/>
              <a:ext cx="69840" cy="434340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533520"/>
              <a:ext cx="69840" cy="1981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" name=""/>
          <p:cNvGrpSpPr/>
          <p:nvPr/>
        </p:nvGrpSpPr>
        <p:grpSpPr>
          <a:xfrm>
            <a:off x="236160" y="730080"/>
            <a:ext cx="8361000" cy="55800"/>
            <a:chOff x="236160" y="730080"/>
            <a:chExt cx="8361000" cy="55800"/>
          </a:xfrm>
        </p:grpSpPr>
        <p:sp>
          <p:nvSpPr>
            <p:cNvPr id="8" name=""/>
            <p:cNvSpPr/>
            <p:nvPr/>
          </p:nvSpPr>
          <p:spPr>
            <a:xfrm flipH="1" rot="10800000">
              <a:off x="535320" y="731880"/>
              <a:ext cx="8061480" cy="54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0800000">
              <a:off x="236160" y="730080"/>
              <a:ext cx="430200" cy="5400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0" y="395280"/>
            <a:ext cx="1025640" cy="385920"/>
          </a:xfrm>
          <a:prstGeom prst="parallelogram">
            <a:avLst>
              <a:gd name="adj" fmla="val 6644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" descr="新コーポレートブランドロゴ画像"/>
          <p:cNvPicPr/>
          <p:nvPr/>
        </p:nvPicPr>
        <p:blipFill>
          <a:blip r:embed="rId2"/>
          <a:stretch/>
        </p:blipFill>
        <p:spPr>
          <a:xfrm>
            <a:off x="7529400" y="0"/>
            <a:ext cx="1614600" cy="4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4640" y="12902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14560"/>
            <a:ext cx="361800" cy="5743080"/>
            <a:chOff x="0" y="1114560"/>
            <a:chExt cx="361800" cy="5743080"/>
          </a:xfrm>
        </p:grpSpPr>
        <p:sp>
          <p:nvSpPr>
            <p:cNvPr id="50" name=""/>
            <p:cNvSpPr/>
            <p:nvPr/>
          </p:nvSpPr>
          <p:spPr>
            <a:xfrm>
              <a:off x="0" y="2913480"/>
              <a:ext cx="361800" cy="3944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1114560"/>
              <a:ext cx="361800" cy="1798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3226320" y="6461280"/>
            <a:ext cx="303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COMO USA Labs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新コーポレートブランドロゴ画像"/>
          <p:cNvPicPr/>
          <p:nvPr/>
        </p:nvPicPr>
        <p:blipFill>
          <a:blip r:embed="rId2"/>
          <a:stretch/>
        </p:blipFill>
        <p:spPr>
          <a:xfrm>
            <a:off x="19080" y="0"/>
            <a:ext cx="1614600" cy="420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 Unicode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4640" y="12902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ments to Intra 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95160" y="3168720"/>
            <a:ext cx="7761600" cy="15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CTVC-D235 / m189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deep Kanumuri, TK Tan and Frank Bos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OMO USA Labs &amp; NTT DOCOMO,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74640" y="12902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al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96480" y="284040"/>
            <a:ext cx="70297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arison to HM V0.9 (Intra cod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441360" y="1044720"/>
          <a:ext cx="7959600" cy="1649160"/>
        </p:xfrm>
        <a:graphic>
          <a:graphicData uri="http://schemas.openxmlformats.org/drawingml/2006/table">
            <a:tbl>
              <a:tblPr/>
              <a:tblGrid>
                <a:gridCol w="3106800"/>
                <a:gridCol w="982440"/>
                <a:gridCol w="982800"/>
                <a:gridCol w="982800"/>
                <a:gridCol w="952200"/>
                <a:gridCol w="952560"/>
              </a:tblGrid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-Efficien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BAC Bug fi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g fix + Planar+D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g fix + Planar+D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g fix + Propos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438120" y="3478320"/>
          <a:ext cx="7959600" cy="1649160"/>
        </p:xfrm>
        <a:graphic>
          <a:graphicData uri="http://schemas.openxmlformats.org/drawingml/2006/table">
            <a:tbl>
              <a:tblPr/>
              <a:tblGrid>
                <a:gridCol w="3106800"/>
                <a:gridCol w="982800"/>
                <a:gridCol w="982440"/>
                <a:gridCol w="982800"/>
                <a:gridCol w="952560"/>
                <a:gridCol w="952200"/>
              </a:tblGrid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-Complex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BAC Bug fi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g fix + Planar+D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g fix + Planar+D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g fix + Propos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"/>
          <p:cNvSpPr/>
          <p:nvPr/>
        </p:nvSpPr>
        <p:spPr>
          <a:xfrm>
            <a:off x="476280" y="5837400"/>
            <a:ext cx="797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BAC Bug (Computation of RD cost in the encoder): Probability estimate used is different for different mo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C86F5-7403-4F27-B724-9DF5B1D8AB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6480" y="284040"/>
            <a:ext cx="70297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41000" y="1044720"/>
            <a:ext cx="80010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d enhancements to Intra 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 of a non-directional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lanar+DST mod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o need to implement new transforms or quantization matric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ST supported using existing implementation of D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Intra Mode 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gnal the most probable mode from up to 2 candidat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ing Efficiency (Y BD-r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-Efficiency  (HE): -2.1% (Intra), -1.1% (RA), -0.3% (L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-Complexity (LD): -2.4% (Intra), -1.0% (RA), -0.3% (L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der/Decoder run-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 increase for Intra coding con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ncoder: 107% (HE), 111% (LC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coder: 102% (HE), 105% (LC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act is not significant for RA and LD coding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0AD53-2160-4BCA-92C9-7D5D1425AB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6480" y="284040"/>
            <a:ext cx="70297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anar+DST – Comparison to Plan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438120" y="2978280"/>
            <a:ext cx="8119800" cy="3558600"/>
            <a:chOff x="438120" y="2978280"/>
            <a:chExt cx="8119800" cy="3558600"/>
          </a:xfrm>
        </p:grpSpPr>
        <p:sp>
          <p:nvSpPr>
            <p:cNvPr id="97" name=""/>
            <p:cNvSpPr/>
            <p:nvPr/>
          </p:nvSpPr>
          <p:spPr>
            <a:xfrm>
              <a:off x="4344480" y="4642200"/>
              <a:ext cx="2633400" cy="65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Value of Z is cod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Residual is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NOT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 cod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438120" y="2978280"/>
              <a:ext cx="3555000" cy="3558600"/>
              <a:chOff x="438120" y="2978280"/>
              <a:chExt cx="3555000" cy="3558600"/>
            </a:xfrm>
          </p:grpSpPr>
          <p:sp>
            <p:nvSpPr>
              <p:cNvPr id="99" name=""/>
              <p:cNvSpPr/>
              <p:nvPr/>
            </p:nvSpPr>
            <p:spPr>
              <a:xfrm>
                <a:off x="834840" y="3378600"/>
                <a:ext cx="3151800" cy="3152160"/>
              </a:xfrm>
              <a:prstGeom prst="rect">
                <a:avLst/>
              </a:prstGeom>
              <a:solidFill>
                <a:srgbClr val="c0c0c0">
                  <a:alpha val="20000"/>
                </a:srgbClr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" name=""/>
              <p:cNvGrpSpPr/>
              <p:nvPr/>
            </p:nvGrpSpPr>
            <p:grpSpPr>
              <a:xfrm>
                <a:off x="438120" y="2978280"/>
                <a:ext cx="3555000" cy="392760"/>
                <a:chOff x="438120" y="2978280"/>
                <a:chExt cx="3555000" cy="39276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834840" y="2978280"/>
                  <a:ext cx="393120" cy="392760"/>
                </a:xfrm>
                <a:prstGeom prst="rect">
                  <a:avLst/>
                </a:prstGeom>
                <a:blipFill rotWithShape="0">
                  <a:blip r:embed="rId1">
                    <a:alphaModFix amt="20000"/>
                  </a:blip>
                  <a:srcRect/>
                  <a:tile tx="0" ty="0" sx="100000" sy="100000" algn="ctr"/>
                </a:blip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1227960" y="2978280"/>
                  <a:ext cx="393840" cy="392760"/>
                </a:xfrm>
                <a:prstGeom prst="rect">
                  <a:avLst/>
                </a:prstGeom>
                <a:blipFill rotWithShape="0">
                  <a:blip r:embed="rId2">
                    <a:alphaModFix amt="20000"/>
                  </a:blip>
                  <a:srcRect/>
                  <a:tile tx="0" ty="0" sx="100000" sy="100000" algn="ctr"/>
                </a:blip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1622160" y="2978280"/>
                  <a:ext cx="393120" cy="392760"/>
                </a:xfrm>
                <a:prstGeom prst="rect">
                  <a:avLst/>
                </a:prstGeom>
                <a:blipFill rotWithShape="0">
                  <a:blip r:embed="rId3">
                    <a:alphaModFix amt="20000"/>
                  </a:blip>
                  <a:srcRect/>
                  <a:tile tx="0" ty="0" sx="100000" sy="100000" algn="ctr"/>
                </a:blip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2022480" y="2978280"/>
                  <a:ext cx="393120" cy="392760"/>
                </a:xfrm>
                <a:prstGeom prst="rect">
                  <a:avLst/>
                </a:prstGeom>
                <a:blipFill rotWithShape="0">
                  <a:blip r:embed="rId4">
                    <a:alphaModFix amt="20000"/>
                  </a:blip>
                  <a:srcRect/>
                  <a:tile tx="0" ty="0" sx="100000" sy="100000" algn="ctr"/>
                </a:blip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2415600" y="2978280"/>
                  <a:ext cx="393120" cy="392760"/>
                </a:xfrm>
                <a:prstGeom prst="rect">
                  <a:avLst/>
                </a:prstGeom>
                <a:blipFill rotWithShape="0">
                  <a:blip r:embed="rId5">
                    <a:alphaModFix amt="20000"/>
                  </a:blip>
                  <a:srcRect/>
                  <a:tile tx="0" ty="0" sx="100000" sy="100000" algn="ctr"/>
                </a:blip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808720" y="2978280"/>
                  <a:ext cx="393840" cy="392760"/>
                </a:xfrm>
                <a:prstGeom prst="rect">
                  <a:avLst/>
                </a:prstGeom>
                <a:blipFill rotWithShape="0">
                  <a:blip r:embed="rId6">
                    <a:alphaModFix amt="20000"/>
                  </a:blip>
                  <a:srcRect/>
                  <a:tile tx="0" ty="0" sx="100000" sy="100000" algn="ctr"/>
                </a:blip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205800" y="2978280"/>
                  <a:ext cx="393840" cy="392760"/>
                </a:xfrm>
                <a:prstGeom prst="rect">
                  <a:avLst/>
                </a:prstGeom>
                <a:blipFill rotWithShape="0">
                  <a:blip r:embed="rId7">
                    <a:alphaModFix amt="20000"/>
                  </a:blip>
                  <a:srcRect/>
                  <a:tile tx="0" ty="0" sx="100000" sy="100000" algn="ctr"/>
                </a:blip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3600000" y="2978280"/>
                  <a:ext cx="393120" cy="392760"/>
                </a:xfrm>
                <a:prstGeom prst="rect">
                  <a:avLst/>
                </a:prstGeom>
                <a:blipFill rotWithShape="0">
                  <a:blip r:embed="rId8">
                    <a:alphaModFix amt="20000"/>
                  </a:blip>
                  <a:srcRect/>
                  <a:tile tx="0" ty="0" sx="100000" sy="100000" algn="ctr"/>
                </a:blip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MS Mincho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438120" y="2978280"/>
                  <a:ext cx="393120" cy="392760"/>
                </a:xfrm>
                <a:prstGeom prst="rect">
                  <a:avLst/>
                </a:prstGeom>
                <a:blipFill rotWithShape="0">
                  <a:blip r:embed="rId9">
                    <a:alphaModFix amt="20000"/>
                  </a:blip>
                  <a:srcRect/>
                  <a:tile tx="0" ty="0" sx="100000" sy="100000" algn="ctr"/>
                </a:blip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438120" y="3378600"/>
                <a:ext cx="393120" cy="3158280"/>
                <a:chOff x="438120" y="3378600"/>
                <a:chExt cx="393120" cy="315828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438120" y="3378600"/>
                  <a:ext cx="393120" cy="393840"/>
                </a:xfrm>
                <a:prstGeom prst="rect">
                  <a:avLst/>
                </a:prstGeom>
                <a:blipFill rotWithShape="0">
                  <a:blip r:embed="rId10">
                    <a:alphaModFix amt="20000"/>
                  </a:blip>
                  <a:srcRect/>
                  <a:tile tx="0" ty="0" sx="100000" sy="100000" algn="ctr"/>
                </a:blip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438120" y="3778920"/>
                  <a:ext cx="393120" cy="393840"/>
                </a:xfrm>
                <a:prstGeom prst="rect">
                  <a:avLst/>
                </a:prstGeom>
                <a:blipFill rotWithShape="0">
                  <a:blip r:embed="rId11">
                    <a:alphaModFix amt="20000"/>
                  </a:blip>
                  <a:srcRect/>
                  <a:tile tx="0" ty="0" sx="100000" sy="100000" algn="ctr"/>
                </a:blip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438120" y="4172760"/>
                  <a:ext cx="393120" cy="392760"/>
                </a:xfrm>
                <a:prstGeom prst="rect">
                  <a:avLst/>
                </a:prstGeom>
                <a:blipFill rotWithShape="0">
                  <a:blip r:embed="rId12">
                    <a:alphaModFix amt="20000"/>
                  </a:blip>
                  <a:srcRect/>
                  <a:tile tx="0" ty="0" sx="100000" sy="100000" algn="ctr"/>
                </a:blip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438120" y="4565880"/>
                  <a:ext cx="393120" cy="393840"/>
                </a:xfrm>
                <a:prstGeom prst="rect">
                  <a:avLst/>
                </a:prstGeom>
                <a:blipFill rotWithShape="0">
                  <a:blip r:embed="rId13">
                    <a:alphaModFix amt="20000"/>
                  </a:blip>
                  <a:srcRect/>
                  <a:tile tx="0" ty="0" sx="100000" sy="100000" algn="ctr"/>
                </a:blip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438120" y="4960080"/>
                  <a:ext cx="393120" cy="392760"/>
                </a:xfrm>
                <a:prstGeom prst="rect">
                  <a:avLst/>
                </a:prstGeom>
                <a:blipFill rotWithShape="0">
                  <a:blip r:embed="rId14">
                    <a:alphaModFix amt="20000"/>
                  </a:blip>
                  <a:srcRect/>
                  <a:tile tx="0" ty="0" sx="100000" sy="100000" algn="ctr"/>
                </a:blip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438120" y="5349600"/>
                  <a:ext cx="393120" cy="393840"/>
                </a:xfrm>
                <a:prstGeom prst="rect">
                  <a:avLst/>
                </a:prstGeom>
                <a:blipFill rotWithShape="0">
                  <a:blip r:embed="rId15">
                    <a:alphaModFix amt="20000"/>
                  </a:blip>
                  <a:srcRect/>
                  <a:tile tx="0" ty="0" sx="100000" sy="100000" algn="ctr"/>
                </a:blip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438120" y="5743440"/>
                  <a:ext cx="393120" cy="392760"/>
                </a:xfrm>
                <a:prstGeom prst="rect">
                  <a:avLst/>
                </a:prstGeom>
                <a:blipFill rotWithShape="0">
                  <a:blip r:embed="rId16">
                    <a:alphaModFix amt="20000"/>
                  </a:blip>
                  <a:srcRect/>
                  <a:tile tx="0" ty="0" sx="100000" sy="100000" algn="ctr"/>
                </a:blip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38120" y="6144120"/>
                  <a:ext cx="393120" cy="392760"/>
                </a:xfrm>
                <a:prstGeom prst="rect">
                  <a:avLst/>
                </a:prstGeom>
                <a:blipFill rotWithShape="0">
                  <a:blip r:embed="rId17">
                    <a:alphaModFix amt="20000"/>
                  </a:blip>
                  <a:srcRect/>
                  <a:tile tx="0" ty="0" sx="100000" sy="100000" algn="ctr"/>
                </a:blip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MS Mincho"/>
                    </a:rPr>
                    <a:t>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" name=""/>
              <p:cNvSpPr/>
              <p:nvPr/>
            </p:nvSpPr>
            <p:spPr>
              <a:xfrm>
                <a:off x="3592440" y="6136560"/>
                <a:ext cx="393840" cy="3938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  <a:ea typeface="MS Mincho"/>
                  </a:rPr>
                  <a:t>Z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592440" y="4952880"/>
                <a:ext cx="393840" cy="3938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415600" y="6133320"/>
                <a:ext cx="393120" cy="3938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15600" y="4952880"/>
                <a:ext cx="393120" cy="3938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3" name=""/>
              <p:cNvCxnSpPr>
                <a:stCxn id="118" idx="3"/>
                <a:endCxn id="121" idx="1"/>
              </p:cNvCxnSpPr>
              <p:nvPr/>
            </p:nvCxnSpPr>
            <p:spPr>
              <a:xfrm flipV="1">
                <a:off x="830880" y="6330600"/>
                <a:ext cx="1585080" cy="10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</p:cxnSp>
          <p:cxnSp>
            <p:nvCxnSpPr>
              <p:cNvPr id="124" name=""/>
              <p:cNvCxnSpPr>
                <a:stCxn id="119" idx="1"/>
                <a:endCxn id="121" idx="3"/>
              </p:cNvCxnSpPr>
              <p:nvPr/>
            </p:nvCxnSpPr>
            <p:spPr>
              <a:xfrm flipH="1" flipV="1">
                <a:off x="2808360" y="6330600"/>
                <a:ext cx="784080" cy="3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</p:cxnSp>
          <p:cxnSp>
            <p:nvCxnSpPr>
              <p:cNvPr id="125" name=""/>
              <p:cNvCxnSpPr>
                <a:stCxn id="108" idx="2"/>
                <a:endCxn id="120" idx="0"/>
              </p:cNvCxnSpPr>
              <p:nvPr/>
            </p:nvCxnSpPr>
            <p:spPr>
              <a:xfrm flipH="1">
                <a:off x="3789360" y="3370680"/>
                <a:ext cx="6840" cy="15822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</p:cxnSp>
          <p:cxnSp>
            <p:nvCxnSpPr>
              <p:cNvPr id="126" name=""/>
              <p:cNvCxnSpPr>
                <a:stCxn id="119" idx="0"/>
                <a:endCxn id="120" idx="2"/>
              </p:cNvCxnSpPr>
              <p:nvPr/>
            </p:nvCxnSpPr>
            <p:spPr>
              <a:xfrm flipV="1">
                <a:off x="3790080" y="5346360"/>
                <a:ext cx="144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</p:cxnSp>
          <p:cxnSp>
            <p:nvCxnSpPr>
              <p:cNvPr id="127" name=""/>
              <p:cNvCxnSpPr>
                <a:stCxn id="115" idx="3"/>
                <a:endCxn id="122" idx="1"/>
              </p:cNvCxnSpPr>
              <p:nvPr/>
            </p:nvCxnSpPr>
            <p:spPr>
              <a:xfrm flipV="1">
                <a:off x="830880" y="5149440"/>
                <a:ext cx="1585080" cy="68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</p:cxnSp>
          <p:cxnSp>
            <p:nvCxnSpPr>
              <p:cNvPr id="128" name=""/>
              <p:cNvCxnSpPr>
                <a:stCxn id="105" idx="2"/>
                <a:endCxn id="122" idx="0"/>
              </p:cNvCxnSpPr>
              <p:nvPr/>
            </p:nvCxnSpPr>
            <p:spPr>
              <a:xfrm>
                <a:off x="2612160" y="3370680"/>
                <a:ext cx="1440" cy="15822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</p:cxnSp>
          <p:cxnSp>
            <p:nvCxnSpPr>
              <p:cNvPr id="129" name=""/>
              <p:cNvCxnSpPr>
                <a:stCxn id="120" idx="1"/>
                <a:endCxn id="122" idx="3"/>
              </p:cNvCxnSpPr>
              <p:nvPr/>
            </p:nvCxnSpPr>
            <p:spPr>
              <a:xfrm flipH="1">
                <a:off x="2808360" y="5150160"/>
                <a:ext cx="784080" cy="1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</p:cxnSp>
          <p:cxnSp>
            <p:nvCxnSpPr>
              <p:cNvPr id="130" name=""/>
              <p:cNvCxnSpPr>
                <a:stCxn id="121" idx="0"/>
                <a:endCxn id="122" idx="2"/>
              </p:cNvCxnSpPr>
              <p:nvPr/>
            </p:nvCxnSpPr>
            <p:spPr>
              <a:xfrm flipV="1">
                <a:off x="2612160" y="5346360"/>
                <a:ext cx="1440" cy="786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</p:cxnSp>
        </p:grpSp>
        <p:sp>
          <p:nvSpPr>
            <p:cNvPr id="131" name=""/>
            <p:cNvSpPr/>
            <p:nvPr/>
          </p:nvSpPr>
          <p:spPr>
            <a:xfrm>
              <a:off x="4509000" y="3830040"/>
              <a:ext cx="3236760" cy="26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Interpolation indicated by dashed arro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344480" y="5629320"/>
              <a:ext cx="2633400" cy="87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Value of Z is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NOT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 cod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Z = (L + T) &gt;&gt;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Residual is coded using D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09000" y="3435120"/>
              <a:ext cx="2633400" cy="26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Pixels being predict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234680" y="3022200"/>
              <a:ext cx="263160" cy="263880"/>
            </a:xfrm>
            <a:prstGeom prst="rect">
              <a:avLst/>
            </a:prstGeom>
            <a:blipFill rotWithShape="0">
              <a:blip r:embed="rId18">
                <a:alphaModFix amt="20000"/>
              </a:blip>
              <a:srcRect/>
              <a:tile tx="0" ty="0" sx="100000" sy="100000" algn="ctr"/>
            </a:blip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234680" y="3457080"/>
              <a:ext cx="263160" cy="263160"/>
            </a:xfrm>
            <a:prstGeom prst="rect">
              <a:avLst/>
            </a:prstGeom>
            <a:solidFill>
              <a:srgbClr val="c0c0c0">
                <a:alpha val="2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509000" y="2996280"/>
              <a:ext cx="2633400" cy="26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Pixels already reconstruct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7" name=""/>
            <p:cNvCxnSpPr>
              <a:endCxn id="131" idx="1"/>
            </p:cNvCxnSpPr>
            <p:nvPr/>
          </p:nvCxnSpPr>
          <p:spPr>
            <a:xfrm>
              <a:off x="4059000" y="3957120"/>
              <a:ext cx="450360" cy="50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138" name=""/>
            <p:cNvSpPr/>
            <p:nvPr/>
          </p:nvSpPr>
          <p:spPr>
            <a:xfrm>
              <a:off x="6758280" y="4664160"/>
              <a:ext cx="109440" cy="548280"/>
            </a:xfrm>
            <a:custGeom>
              <a:avLst/>
              <a:gdLst>
                <a:gd name="textAreaLeft" fmla="*/ 0 w 109440"/>
                <a:gd name="textAreaRight" fmla="*/ 39600 w 109440"/>
                <a:gd name="textAreaTop" fmla="*/ 14040 h 548280"/>
                <a:gd name="textAreaBottom" fmla="*/ 534240 h 54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758280" y="5629320"/>
              <a:ext cx="109440" cy="877680"/>
            </a:xfrm>
            <a:custGeom>
              <a:avLst/>
              <a:gdLst>
                <a:gd name="textAreaLeft" fmla="*/ 0 w 109440"/>
                <a:gd name="textAreaRight" fmla="*/ 39600 w 109440"/>
                <a:gd name="textAreaTop" fmla="*/ 22680 h 877680"/>
                <a:gd name="textAreaBottom" fmla="*/ 855000 h 87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977880" y="4795560"/>
              <a:ext cx="15800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Plan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977880" y="5914800"/>
              <a:ext cx="1580040" cy="26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Planar+D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2" name=""/>
          <p:cNvGraphicFramePr/>
          <p:nvPr/>
        </p:nvGraphicFramePr>
        <p:xfrm>
          <a:off x="441360" y="831960"/>
          <a:ext cx="8001000" cy="1287360"/>
        </p:xfrm>
        <a:graphic>
          <a:graphicData uri="http://schemas.openxmlformats.org/drawingml/2006/table">
            <a:tbl>
              <a:tblPr/>
              <a:tblGrid>
                <a:gridCol w="2960640"/>
                <a:gridCol w="2373480"/>
                <a:gridCol w="2666880"/>
              </a:tblGrid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ar+D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tom-right pixel value (Z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d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Cod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d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Cod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ded using DST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"/>
          <p:cNvSpPr/>
          <p:nvPr/>
        </p:nvSpPr>
        <p:spPr>
          <a:xfrm>
            <a:off x="3825720" y="2112840"/>
            <a:ext cx="5312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ST* = DST (NxN) – part of DCT (2Nx2N) when N &lt;=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ST* = DCT (NxN) when N = 32 (largest transform size in H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No need to implement new transforms or quantization t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7FF0C-7E5E-401C-9208-1883C11CE7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6480" y="284040"/>
            <a:ext cx="70297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pler Prediction using Planar+D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41000" y="774720"/>
            <a:ext cx="80010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need for Bi-linear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ation using additions and shif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need for multiplications or div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additions and 1 shift for each row and each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additions and 1 shift for each pix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41000" y="2548080"/>
            <a:ext cx="8447040" cy="4136760"/>
            <a:chOff x="441000" y="2548080"/>
            <a:chExt cx="8447040" cy="4136760"/>
          </a:xfrm>
        </p:grpSpPr>
        <p:grpSp>
          <p:nvGrpSpPr>
            <p:cNvPr id="147" name=""/>
            <p:cNvGrpSpPr/>
            <p:nvPr/>
          </p:nvGrpSpPr>
          <p:grpSpPr>
            <a:xfrm>
              <a:off x="441000" y="2548080"/>
              <a:ext cx="8447040" cy="3825360"/>
              <a:chOff x="441000" y="2548080"/>
              <a:chExt cx="8447040" cy="3825360"/>
            </a:xfrm>
          </p:grpSpPr>
          <p:sp>
            <p:nvSpPr>
              <p:cNvPr id="148" name=""/>
              <p:cNvSpPr/>
              <p:nvPr/>
            </p:nvSpPr>
            <p:spPr>
              <a:xfrm>
                <a:off x="3932280" y="3916800"/>
                <a:ext cx="70380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197200" y="3912120"/>
                <a:ext cx="690840" cy="46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ＭＳ Ｐゴシック"/>
                  </a:rPr>
                  <a:t>&gt;&gt;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" name=""/>
              <p:cNvGrpSpPr/>
              <p:nvPr/>
            </p:nvGrpSpPr>
            <p:grpSpPr>
              <a:xfrm>
                <a:off x="531000" y="2629440"/>
                <a:ext cx="3648600" cy="3649320"/>
                <a:chOff x="531000" y="2629440"/>
                <a:chExt cx="3648600" cy="36493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938160" y="3039840"/>
                  <a:ext cx="3235320" cy="3232800"/>
                </a:xfrm>
                <a:prstGeom prst="rect">
                  <a:avLst/>
                </a:prstGeom>
                <a:solidFill>
                  <a:srgbClr val="c0c0c0">
                    <a:alpha val="20000"/>
                  </a:srgbClr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2" name=""/>
                <p:cNvGrpSpPr/>
                <p:nvPr/>
              </p:nvGrpSpPr>
              <p:grpSpPr>
                <a:xfrm>
                  <a:off x="531000" y="2629440"/>
                  <a:ext cx="3648600" cy="402840"/>
                  <a:chOff x="531000" y="2629440"/>
                  <a:chExt cx="3648600" cy="402840"/>
                </a:xfrm>
              </p:grpSpPr>
              <p:sp>
                <p:nvSpPr>
                  <p:cNvPr id="153" name=""/>
                  <p:cNvSpPr/>
                  <p:nvPr/>
                </p:nvSpPr>
                <p:spPr>
                  <a:xfrm>
                    <a:off x="938160" y="2629440"/>
                    <a:ext cx="403200" cy="402840"/>
                  </a:xfrm>
                  <a:prstGeom prst="rect">
                    <a:avLst/>
                  </a:prstGeom>
                  <a:blipFill rotWithShape="0">
                    <a:blip r:embed="rId1">
                      <a:alphaModFix amt="20000"/>
                    </a:blip>
                    <a:srcRect/>
                    <a:tile tx="0" ty="0" sx="100000" sy="100000" algn="ctr"/>
                  </a:blip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1341720" y="2629440"/>
                    <a:ext cx="404280" cy="402840"/>
                  </a:xfrm>
                  <a:prstGeom prst="rect">
                    <a:avLst/>
                  </a:prstGeom>
                  <a:blipFill rotWithShape="0">
                    <a:blip r:embed="rId2">
                      <a:alphaModFix amt="20000"/>
                    </a:blip>
                    <a:srcRect/>
                    <a:tile tx="0" ty="0" sx="100000" sy="100000" algn="ctr"/>
                  </a:blip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1746360" y="2629440"/>
                    <a:ext cx="403200" cy="402840"/>
                  </a:xfrm>
                  <a:prstGeom prst="rect">
                    <a:avLst/>
                  </a:prstGeom>
                  <a:blipFill rotWithShape="0">
                    <a:blip r:embed="rId3">
                      <a:alphaModFix amt="20000"/>
                    </a:blip>
                    <a:srcRect/>
                    <a:tile tx="0" ty="0" sx="100000" sy="100000" algn="ctr"/>
                  </a:blip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2157480" y="2629440"/>
                    <a:ext cx="403200" cy="402840"/>
                  </a:xfrm>
                  <a:prstGeom prst="rect">
                    <a:avLst/>
                  </a:prstGeom>
                  <a:blipFill rotWithShape="0">
                    <a:blip r:embed="rId4">
                      <a:alphaModFix amt="20000"/>
                    </a:blip>
                    <a:srcRect/>
                    <a:tile tx="0" ty="0" sx="100000" sy="100000" algn="ctr"/>
                  </a:blip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2561040" y="2629440"/>
                    <a:ext cx="403200" cy="402840"/>
                  </a:xfrm>
                  <a:prstGeom prst="rect">
                    <a:avLst/>
                  </a:prstGeom>
                  <a:blipFill rotWithShape="0">
                    <a:blip r:embed="rId5">
                      <a:alphaModFix amt="20000"/>
                    </a:blip>
                    <a:srcRect/>
                    <a:tile tx="0" ty="0" sx="100000" sy="100000" algn="ctr"/>
                  </a:blip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2964240" y="2629440"/>
                    <a:ext cx="404280" cy="402840"/>
                  </a:xfrm>
                  <a:prstGeom prst="rect">
                    <a:avLst/>
                  </a:prstGeom>
                  <a:blipFill rotWithShape="0">
                    <a:blip r:embed="rId6">
                      <a:alphaModFix amt="20000"/>
                    </a:blip>
                    <a:srcRect/>
                    <a:tile tx="0" ty="0" sx="100000" sy="100000" algn="ctr"/>
                  </a:blip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3371760" y="2629440"/>
                    <a:ext cx="404280" cy="402840"/>
                  </a:xfrm>
                  <a:prstGeom prst="rect">
                    <a:avLst/>
                  </a:prstGeom>
                  <a:blipFill rotWithShape="0">
                    <a:blip r:embed="rId7">
                      <a:alphaModFix amt="20000"/>
                    </a:blip>
                    <a:srcRect/>
                    <a:tile tx="0" ty="0" sx="100000" sy="100000" algn="ctr"/>
                  </a:blip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3776400" y="2629440"/>
                    <a:ext cx="403200" cy="402840"/>
                  </a:xfrm>
                  <a:prstGeom prst="rect">
                    <a:avLst/>
                  </a:prstGeom>
                  <a:blipFill rotWithShape="0">
                    <a:blip r:embed="rId8">
                      <a:alphaModFix amt="20000"/>
                    </a:blip>
                    <a:srcRect/>
                    <a:tile tx="0" ty="0" sx="100000" sy="100000" algn="ctr"/>
                  </a:blip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MS Mincho"/>
                      </a:rPr>
                      <a:t>T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531000" y="2629440"/>
                    <a:ext cx="403200" cy="402840"/>
                  </a:xfrm>
                  <a:prstGeom prst="rect">
                    <a:avLst/>
                  </a:prstGeom>
                  <a:blipFill rotWithShape="0">
                    <a:blip r:embed="rId9">
                      <a:alphaModFix amt="20000"/>
                    </a:blip>
                    <a:srcRect/>
                    <a:tile tx="0" ty="0" sx="100000" sy="100000" algn="ctr"/>
                  </a:blip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" name=""/>
                <p:cNvGrpSpPr/>
                <p:nvPr/>
              </p:nvGrpSpPr>
              <p:grpSpPr>
                <a:xfrm>
                  <a:off x="531000" y="3039840"/>
                  <a:ext cx="403560" cy="3238920"/>
                  <a:chOff x="531000" y="3039840"/>
                  <a:chExt cx="403560" cy="323892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531000" y="3039840"/>
                    <a:ext cx="403560" cy="403920"/>
                  </a:xfrm>
                  <a:prstGeom prst="rect">
                    <a:avLst/>
                  </a:prstGeom>
                  <a:blipFill rotWithShape="0">
                    <a:blip r:embed="rId10">
                      <a:alphaModFix amt="20000"/>
                    </a:blip>
                    <a:srcRect/>
                    <a:tile tx="0" ty="0" sx="100000" sy="100000" algn="ctr"/>
                  </a:blip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531000" y="3450600"/>
                    <a:ext cx="403560" cy="403920"/>
                  </a:xfrm>
                  <a:prstGeom prst="rect">
                    <a:avLst/>
                  </a:prstGeom>
                  <a:blipFill rotWithShape="0">
                    <a:blip r:embed="rId11">
                      <a:alphaModFix amt="20000"/>
                    </a:blip>
                    <a:srcRect/>
                    <a:tile tx="0" ty="0" sx="100000" sy="100000" algn="ctr"/>
                  </a:blip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531000" y="3854520"/>
                    <a:ext cx="403560" cy="402840"/>
                  </a:xfrm>
                  <a:prstGeom prst="rect">
                    <a:avLst/>
                  </a:prstGeom>
                  <a:blipFill rotWithShape="0">
                    <a:blip r:embed="rId12">
                      <a:alphaModFix amt="20000"/>
                    </a:blip>
                    <a:srcRect/>
                    <a:tile tx="0" ty="0" sx="100000" sy="100000" algn="ctr"/>
                  </a:blip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>
                    <a:off x="531000" y="4257360"/>
                    <a:ext cx="403560" cy="403920"/>
                  </a:xfrm>
                  <a:prstGeom prst="rect">
                    <a:avLst/>
                  </a:prstGeom>
                  <a:blipFill rotWithShape="0">
                    <a:blip r:embed="rId13">
                      <a:alphaModFix amt="20000"/>
                    </a:blip>
                    <a:srcRect/>
                    <a:tile tx="0" ty="0" sx="100000" sy="100000" algn="ctr"/>
                  </a:blip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531000" y="4661640"/>
                    <a:ext cx="403560" cy="402840"/>
                  </a:xfrm>
                  <a:prstGeom prst="rect">
                    <a:avLst/>
                  </a:prstGeom>
                  <a:blipFill rotWithShape="0">
                    <a:blip r:embed="rId14">
                      <a:alphaModFix amt="20000"/>
                    </a:blip>
                    <a:srcRect/>
                    <a:tile tx="0" ty="0" sx="100000" sy="100000" algn="ctr"/>
                  </a:blip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531000" y="5061240"/>
                    <a:ext cx="403560" cy="403920"/>
                  </a:xfrm>
                  <a:prstGeom prst="rect">
                    <a:avLst/>
                  </a:prstGeom>
                  <a:blipFill rotWithShape="0">
                    <a:blip r:embed="rId15">
                      <a:alphaModFix amt="20000"/>
                    </a:blip>
                    <a:srcRect/>
                    <a:tile tx="0" ty="0" sx="100000" sy="100000" algn="ctr"/>
                  </a:blip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531000" y="5465160"/>
                    <a:ext cx="403560" cy="402840"/>
                  </a:xfrm>
                  <a:prstGeom prst="rect">
                    <a:avLst/>
                  </a:prstGeom>
                  <a:blipFill rotWithShape="0">
                    <a:blip r:embed="rId16">
                      <a:alphaModFix amt="20000"/>
                    </a:blip>
                    <a:srcRect/>
                    <a:tile tx="0" ty="0" sx="100000" sy="100000" algn="ctr"/>
                  </a:blip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531000" y="5875920"/>
                    <a:ext cx="403560" cy="402840"/>
                  </a:xfrm>
                  <a:prstGeom prst="rect">
                    <a:avLst/>
                  </a:prstGeom>
                  <a:blipFill rotWithShape="0">
                    <a:blip r:embed="rId17">
                      <a:alphaModFix amt="20000"/>
                    </a:blip>
                    <a:srcRect/>
                    <a:tile tx="0" ty="0" sx="100000" sy="100000" algn="ctr"/>
                  </a:blip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MS Mincho"/>
                      </a:rPr>
                      <a:t>L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1" name=""/>
                <p:cNvSpPr/>
                <p:nvPr/>
              </p:nvSpPr>
              <p:spPr>
                <a:xfrm>
                  <a:off x="3768840" y="4654440"/>
                  <a:ext cx="404280" cy="403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MS Mincho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561040" y="4654440"/>
                  <a:ext cx="403200" cy="403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173" name=""/>
                <p:cNvCxnSpPr>
                  <a:stCxn id="160" idx="2"/>
                  <a:endCxn id="171" idx="0"/>
                </p:cNvCxnSpPr>
                <p:nvPr/>
              </p:nvCxnSpPr>
              <p:spPr>
                <a:xfrm flipH="1">
                  <a:off x="3971160" y="3031920"/>
                  <a:ext cx="7200" cy="16225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prstDash val="sysDot"/>
                  <a:miter/>
                  <a:tailEnd len="med" type="triangle" w="med"/>
                </a:ln>
              </p:spPr>
            </p:cxnSp>
            <p:cxnSp>
              <p:nvCxnSpPr>
                <p:cNvPr id="174" name=""/>
                <p:cNvCxnSpPr>
                  <a:stCxn id="167" idx="3"/>
                  <a:endCxn id="172" idx="1"/>
                </p:cNvCxnSpPr>
                <p:nvPr/>
              </p:nvCxnSpPr>
              <p:spPr>
                <a:xfrm flipV="1">
                  <a:off x="934560" y="4856400"/>
                  <a:ext cx="1627200" cy="68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  <a:tailEnd len="med" type="triangle" w="med"/>
                </a:ln>
              </p:spPr>
            </p:cxnSp>
            <p:cxnSp>
              <p:nvCxnSpPr>
                <p:cNvPr id="175" name=""/>
                <p:cNvCxnSpPr>
                  <a:stCxn id="171" idx="1"/>
                  <a:endCxn id="172" idx="3"/>
                </p:cNvCxnSpPr>
                <p:nvPr/>
              </p:nvCxnSpPr>
              <p:spPr>
                <a:xfrm flipH="1">
                  <a:off x="2964240" y="4857120"/>
                  <a:ext cx="804960" cy="14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  <a:tailEnd len="med" type="triangle" w="med"/>
                </a:ln>
              </p:spPr>
            </p:cxnSp>
          </p:grpSp>
          <p:grpSp>
            <p:nvGrpSpPr>
              <p:cNvPr id="176" name=""/>
              <p:cNvGrpSpPr/>
              <p:nvPr/>
            </p:nvGrpSpPr>
            <p:grpSpPr>
              <a:xfrm>
                <a:off x="4383000" y="2629440"/>
                <a:ext cx="3648600" cy="3649320"/>
                <a:chOff x="4383000" y="2629440"/>
                <a:chExt cx="3648600" cy="364932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4790160" y="3039840"/>
                  <a:ext cx="3234960" cy="3232800"/>
                </a:xfrm>
                <a:prstGeom prst="rect">
                  <a:avLst/>
                </a:prstGeom>
                <a:solidFill>
                  <a:srgbClr val="c0c0c0">
                    <a:alpha val="20000"/>
                  </a:srgbClr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8" name=""/>
                <p:cNvGrpSpPr/>
                <p:nvPr/>
              </p:nvGrpSpPr>
              <p:grpSpPr>
                <a:xfrm>
                  <a:off x="4383000" y="2629440"/>
                  <a:ext cx="3648600" cy="402840"/>
                  <a:chOff x="4383000" y="2629440"/>
                  <a:chExt cx="3648600" cy="40284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4790160" y="2629440"/>
                    <a:ext cx="403200" cy="402840"/>
                  </a:xfrm>
                  <a:prstGeom prst="rect">
                    <a:avLst/>
                  </a:prstGeom>
                  <a:blipFill rotWithShape="0">
                    <a:blip r:embed="rId18">
                      <a:alphaModFix amt="20000"/>
                    </a:blip>
                    <a:srcRect/>
                    <a:tile tx="0" ty="0" sx="100000" sy="100000" algn="ctr"/>
                  </a:blip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5193720" y="2629440"/>
                    <a:ext cx="404280" cy="402840"/>
                  </a:xfrm>
                  <a:prstGeom prst="rect">
                    <a:avLst/>
                  </a:prstGeom>
                  <a:blipFill rotWithShape="0">
                    <a:blip r:embed="rId19">
                      <a:alphaModFix amt="20000"/>
                    </a:blip>
                    <a:srcRect/>
                    <a:tile tx="0" ty="0" sx="100000" sy="100000" algn="ctr"/>
                  </a:blip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5598360" y="2629440"/>
                    <a:ext cx="403200" cy="402840"/>
                  </a:xfrm>
                  <a:prstGeom prst="rect">
                    <a:avLst/>
                  </a:prstGeom>
                  <a:blipFill rotWithShape="0">
                    <a:blip r:embed="rId20">
                      <a:alphaModFix amt="20000"/>
                    </a:blip>
                    <a:srcRect/>
                    <a:tile tx="0" ty="0" sx="100000" sy="100000" algn="ctr"/>
                  </a:blip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6009480" y="2629440"/>
                    <a:ext cx="403200" cy="402840"/>
                  </a:xfrm>
                  <a:prstGeom prst="rect">
                    <a:avLst/>
                  </a:prstGeom>
                  <a:blipFill rotWithShape="0">
                    <a:blip r:embed="rId21">
                      <a:alphaModFix amt="20000"/>
                    </a:blip>
                    <a:srcRect/>
                    <a:tile tx="0" ty="0" sx="100000" sy="100000" algn="ctr"/>
                  </a:blip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6413040" y="2629440"/>
                    <a:ext cx="403200" cy="402840"/>
                  </a:xfrm>
                  <a:prstGeom prst="rect">
                    <a:avLst/>
                  </a:prstGeom>
                  <a:blipFill rotWithShape="0">
                    <a:blip r:embed="rId22">
                      <a:alphaModFix amt="20000"/>
                    </a:blip>
                    <a:srcRect/>
                    <a:tile tx="0" ty="0" sx="100000" sy="100000" algn="ctr"/>
                  </a:blip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6816240" y="2629440"/>
                    <a:ext cx="404280" cy="402840"/>
                  </a:xfrm>
                  <a:prstGeom prst="rect">
                    <a:avLst/>
                  </a:prstGeom>
                  <a:blipFill rotWithShape="0">
                    <a:blip r:embed="rId23">
                      <a:alphaModFix amt="20000"/>
                    </a:blip>
                    <a:srcRect/>
                    <a:tile tx="0" ty="0" sx="100000" sy="100000" algn="ctr"/>
                  </a:blip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7223760" y="2629440"/>
                    <a:ext cx="404280" cy="402840"/>
                  </a:xfrm>
                  <a:prstGeom prst="rect">
                    <a:avLst/>
                  </a:prstGeom>
                  <a:blipFill rotWithShape="0">
                    <a:blip r:embed="rId24">
                      <a:alphaModFix amt="20000"/>
                    </a:blip>
                    <a:srcRect/>
                    <a:tile tx="0" ty="0" sx="100000" sy="100000" algn="ctr"/>
                  </a:blip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7628400" y="2629440"/>
                    <a:ext cx="403200" cy="402840"/>
                  </a:xfrm>
                  <a:prstGeom prst="rect">
                    <a:avLst/>
                  </a:prstGeom>
                  <a:blipFill rotWithShape="0">
                    <a:blip r:embed="rId25">
                      <a:alphaModFix amt="20000"/>
                    </a:blip>
                    <a:srcRect/>
                    <a:tile tx="0" ty="0" sx="100000" sy="100000" algn="ctr"/>
                  </a:blip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MS Mincho"/>
                      </a:rPr>
                      <a:t>T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4383000" y="2629440"/>
                    <a:ext cx="403200" cy="402840"/>
                  </a:xfrm>
                  <a:prstGeom prst="rect">
                    <a:avLst/>
                  </a:prstGeom>
                  <a:blipFill rotWithShape="0">
                    <a:blip r:embed="rId26">
                      <a:alphaModFix amt="20000"/>
                    </a:blip>
                    <a:srcRect/>
                    <a:tile tx="0" ty="0" sx="100000" sy="100000" algn="ctr"/>
                  </a:blip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4383000" y="3039840"/>
                  <a:ext cx="403200" cy="3238920"/>
                  <a:chOff x="4383000" y="3039840"/>
                  <a:chExt cx="403200" cy="323892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>
                    <a:off x="4383000" y="3039840"/>
                    <a:ext cx="403200" cy="403920"/>
                  </a:xfrm>
                  <a:prstGeom prst="rect">
                    <a:avLst/>
                  </a:prstGeom>
                  <a:blipFill rotWithShape="0">
                    <a:blip r:embed="rId27">
                      <a:alphaModFix amt="20000"/>
                    </a:blip>
                    <a:srcRect/>
                    <a:tile tx="0" ty="0" sx="100000" sy="100000" algn="ctr"/>
                  </a:blip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4383000" y="3450600"/>
                    <a:ext cx="403200" cy="403920"/>
                  </a:xfrm>
                  <a:prstGeom prst="rect">
                    <a:avLst/>
                  </a:prstGeom>
                  <a:blipFill rotWithShape="0">
                    <a:blip r:embed="rId28">
                      <a:alphaModFix amt="20000"/>
                    </a:blip>
                    <a:srcRect/>
                    <a:tile tx="0" ty="0" sx="100000" sy="100000" algn="ctr"/>
                  </a:blip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4383000" y="3854520"/>
                    <a:ext cx="403200" cy="402840"/>
                  </a:xfrm>
                  <a:prstGeom prst="rect">
                    <a:avLst/>
                  </a:prstGeom>
                  <a:blipFill rotWithShape="0">
                    <a:blip r:embed="rId29">
                      <a:alphaModFix amt="20000"/>
                    </a:blip>
                    <a:srcRect/>
                    <a:tile tx="0" ty="0" sx="100000" sy="100000" algn="ctr"/>
                  </a:blip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4383000" y="4257360"/>
                    <a:ext cx="403200" cy="403920"/>
                  </a:xfrm>
                  <a:prstGeom prst="rect">
                    <a:avLst/>
                  </a:prstGeom>
                  <a:blipFill rotWithShape="0">
                    <a:blip r:embed="rId30">
                      <a:alphaModFix amt="20000"/>
                    </a:blip>
                    <a:srcRect/>
                    <a:tile tx="0" ty="0" sx="100000" sy="100000" algn="ctr"/>
                  </a:blip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4383000" y="4661640"/>
                    <a:ext cx="403200" cy="402840"/>
                  </a:xfrm>
                  <a:prstGeom prst="rect">
                    <a:avLst/>
                  </a:prstGeom>
                  <a:blipFill rotWithShape="0">
                    <a:blip r:embed="rId31">
                      <a:alphaModFix amt="20000"/>
                    </a:blip>
                    <a:srcRect/>
                    <a:tile tx="0" ty="0" sx="100000" sy="100000" algn="ctr"/>
                  </a:blip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4383000" y="5061240"/>
                    <a:ext cx="403200" cy="403920"/>
                  </a:xfrm>
                  <a:prstGeom prst="rect">
                    <a:avLst/>
                  </a:prstGeom>
                  <a:blipFill rotWithShape="0">
                    <a:blip r:embed="rId32">
                      <a:alphaModFix amt="20000"/>
                    </a:blip>
                    <a:srcRect/>
                    <a:tile tx="0" ty="0" sx="100000" sy="100000" algn="ctr"/>
                  </a:blip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4383000" y="5465160"/>
                    <a:ext cx="403200" cy="402840"/>
                  </a:xfrm>
                  <a:prstGeom prst="rect">
                    <a:avLst/>
                  </a:prstGeom>
                  <a:blipFill rotWithShape="0">
                    <a:blip r:embed="rId33">
                      <a:alphaModFix amt="20000"/>
                    </a:blip>
                    <a:srcRect/>
                    <a:tile tx="0" ty="0" sx="100000" sy="100000" algn="ctr"/>
                  </a:blip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4383000" y="5875920"/>
                    <a:ext cx="403200" cy="402840"/>
                  </a:xfrm>
                  <a:prstGeom prst="rect">
                    <a:avLst/>
                  </a:prstGeom>
                  <a:blipFill rotWithShape="0">
                    <a:blip r:embed="rId34">
                      <a:alphaModFix amt="20000"/>
                    </a:blip>
                    <a:srcRect/>
                    <a:tile tx="0" ty="0" sx="100000" sy="100000" algn="ctr"/>
                  </a:blip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MS Mincho"/>
                      </a:rPr>
                      <a:t>L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7" name=""/>
                <p:cNvSpPr/>
                <p:nvPr/>
              </p:nvSpPr>
              <p:spPr>
                <a:xfrm>
                  <a:off x="6413040" y="5865120"/>
                  <a:ext cx="403200" cy="403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MS Mincho"/>
                    </a:rPr>
                    <a:t>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6413040" y="4654440"/>
                  <a:ext cx="403200" cy="403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199" name=""/>
                <p:cNvCxnSpPr>
                  <a:stCxn id="196" idx="3"/>
                  <a:endCxn id="197" idx="1"/>
                </p:cNvCxnSpPr>
                <p:nvPr/>
              </p:nvCxnSpPr>
              <p:spPr>
                <a:xfrm flipV="1">
                  <a:off x="4786200" y="6067440"/>
                  <a:ext cx="1627200" cy="104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prstDash val="sysDot"/>
                  <a:miter/>
                  <a:tailEnd len="med" type="triangle" w="med"/>
                </a:ln>
              </p:spPr>
            </p:cxnSp>
            <p:cxnSp>
              <p:nvCxnSpPr>
                <p:cNvPr id="200" name=""/>
                <p:cNvCxnSpPr>
                  <a:stCxn id="183" idx="2"/>
                  <a:endCxn id="198" idx="0"/>
                </p:cNvCxnSpPr>
                <p:nvPr/>
              </p:nvCxnSpPr>
              <p:spPr>
                <a:xfrm>
                  <a:off x="6614640" y="3031920"/>
                  <a:ext cx="1440" cy="16225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  <a:tailEnd len="med" type="triangle" w="med"/>
                </a:ln>
              </p:spPr>
            </p:cxnSp>
            <p:cxnSp>
              <p:nvCxnSpPr>
                <p:cNvPr id="201" name=""/>
                <p:cNvCxnSpPr>
                  <a:stCxn id="197" idx="0"/>
                  <a:endCxn id="198" idx="2"/>
                </p:cNvCxnSpPr>
                <p:nvPr/>
              </p:nvCxnSpPr>
              <p:spPr>
                <a:xfrm flipV="1">
                  <a:off x="6614640" y="5058000"/>
                  <a:ext cx="1440" cy="8067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  <a:tailEnd len="med" type="triangle" w="med"/>
                </a:ln>
              </p:spPr>
            </p:cxnSp>
          </p:grpSp>
          <p:sp>
            <p:nvSpPr>
              <p:cNvPr id="202" name=""/>
              <p:cNvSpPr/>
              <p:nvPr/>
            </p:nvSpPr>
            <p:spPr>
              <a:xfrm>
                <a:off x="441000" y="2548080"/>
                <a:ext cx="112320" cy="3825360"/>
              </a:xfrm>
              <a:custGeom>
                <a:avLst/>
                <a:gdLst>
                  <a:gd name="textAreaLeft" fmla="*/ 33120 w 112320"/>
                  <a:gd name="textAreaRight" fmla="*/ 112680 w 112320"/>
                  <a:gd name="textAreaTop" fmla="*/ 159120 h 3825360"/>
                  <a:gd name="textAreaBottom" fmla="*/ 3666240 h 3825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900"/>
                      <a:pt x="0" y="1800"/>
                    </a:cubicBezTo>
                    <a:lnTo>
                      <a:pt x="0" y="19800"/>
                    </a:lnTo>
                    <a:cubicBezTo>
                      <a:pt x="0" y="20700"/>
                      <a:pt x="108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10800000">
                <a:off x="8098920" y="2548080"/>
                <a:ext cx="112680" cy="3825360"/>
              </a:xfrm>
              <a:custGeom>
                <a:avLst/>
                <a:gdLst>
                  <a:gd name="textAreaLeft" fmla="*/ 33120 w 112680"/>
                  <a:gd name="textAreaRight" fmla="*/ 113040 w 112680"/>
                  <a:gd name="textAreaTop" fmla="*/ 159120 h 3825360"/>
                  <a:gd name="textAreaBottom" fmla="*/ 3666240 h 3825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900"/>
                      <a:pt x="0" y="1800"/>
                    </a:cubicBezTo>
                    <a:lnTo>
                      <a:pt x="0" y="19800"/>
                    </a:lnTo>
                    <a:cubicBezTo>
                      <a:pt x="0" y="20700"/>
                      <a:pt x="108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>
              <a:off x="947880" y="6414840"/>
              <a:ext cx="332244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Interpolation indicated by dashed arro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5" name=""/>
            <p:cNvCxnSpPr>
              <a:endCxn id="204" idx="1"/>
            </p:cNvCxnSpPr>
            <p:nvPr/>
          </p:nvCxnSpPr>
          <p:spPr>
            <a:xfrm>
              <a:off x="486360" y="6545160"/>
              <a:ext cx="462240" cy="50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206" name=""/>
            <p:cNvSpPr/>
            <p:nvPr/>
          </p:nvSpPr>
          <p:spPr>
            <a:xfrm>
              <a:off x="4889880" y="6414840"/>
              <a:ext cx="332244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Replication indicated by dotted arro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7" name=""/>
            <p:cNvCxnSpPr>
              <a:endCxn id="206" idx="1"/>
            </p:cNvCxnSpPr>
            <p:nvPr/>
          </p:nvCxnSpPr>
          <p:spPr>
            <a:xfrm>
              <a:off x="4428360" y="6545160"/>
              <a:ext cx="462240" cy="5040"/>
            </a:xfrm>
            <a:prstGeom prst="straightConnector1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E194B-0395-46FE-AFB4-240B0E2369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6480" y="284040"/>
            <a:ext cx="70297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oved Intra Mode Cod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41000" y="1044720"/>
            <a:ext cx="80010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 number of intra modes in 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probability of match between most probable mode and current intra prediction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cost of signaling the remainder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up to 2 candidates for the most probable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a prediction mode for Above Partition (If availa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a prediction mode for Left Partition (If availa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 the available candidates in ascending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al the candidate (when 2 candidates are 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3A7A2-06B2-496D-9040-00745638A0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6480" y="284040"/>
            <a:ext cx="70297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arison to HM V0.9 (Intra cod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41360" y="1044720"/>
          <a:ext cx="7959600" cy="1011240"/>
        </p:xfrm>
        <a:graphic>
          <a:graphicData uri="http://schemas.openxmlformats.org/drawingml/2006/table">
            <a:tbl>
              <a:tblPr/>
              <a:tblGrid>
                <a:gridCol w="3106800"/>
                <a:gridCol w="982440"/>
                <a:gridCol w="982800"/>
                <a:gridCol w="982800"/>
                <a:gridCol w="952200"/>
                <a:gridCol w="952560"/>
              </a:tblGrid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-Efficien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BAC Bug fi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g fix + Propos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438120" y="3478320"/>
          <a:ext cx="7959600" cy="1011240"/>
        </p:xfrm>
        <a:graphic>
          <a:graphicData uri="http://schemas.openxmlformats.org/drawingml/2006/table">
            <a:tbl>
              <a:tblPr/>
              <a:tblGrid>
                <a:gridCol w="3106800"/>
                <a:gridCol w="982440"/>
                <a:gridCol w="982800"/>
                <a:gridCol w="982800"/>
                <a:gridCol w="952200"/>
                <a:gridCol w="952560"/>
              </a:tblGrid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-Complex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BAC Bug fi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g fix + Propos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3" name=""/>
          <p:cNvSpPr/>
          <p:nvPr/>
        </p:nvSpPr>
        <p:spPr>
          <a:xfrm>
            <a:off x="476280" y="5837400"/>
            <a:ext cx="797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BAC Bug (Computation of RD cost in the encoder): Probability estimate used is different for different mo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3B970-85A6-47FB-83B6-6B23E2D8D5C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6480" y="284040"/>
            <a:ext cx="70297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arison to HM V0.9 (Random-Acces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441360" y="1044720"/>
          <a:ext cx="7959600" cy="1011240"/>
        </p:xfrm>
        <a:graphic>
          <a:graphicData uri="http://schemas.openxmlformats.org/drawingml/2006/table">
            <a:tbl>
              <a:tblPr/>
              <a:tblGrid>
                <a:gridCol w="3106800"/>
                <a:gridCol w="982440"/>
                <a:gridCol w="982800"/>
                <a:gridCol w="982800"/>
                <a:gridCol w="952200"/>
                <a:gridCol w="952560"/>
              </a:tblGrid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-Efficien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BAC Bug fi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g fix + Propos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438120" y="3478320"/>
          <a:ext cx="7959600" cy="1011240"/>
        </p:xfrm>
        <a:graphic>
          <a:graphicData uri="http://schemas.openxmlformats.org/drawingml/2006/table">
            <a:tbl>
              <a:tblPr/>
              <a:tblGrid>
                <a:gridCol w="3106800"/>
                <a:gridCol w="982440"/>
                <a:gridCol w="982800"/>
                <a:gridCol w="982800"/>
                <a:gridCol w="952200"/>
                <a:gridCol w="952560"/>
              </a:tblGrid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-Complex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BAC Bug fi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g fix + Propos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40AD4-E046-40B9-9937-A5B8580A451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6480" y="284040"/>
            <a:ext cx="70297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arison to HM V0.9 (Low-Delay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441360" y="1044720"/>
          <a:ext cx="7959600" cy="1011240"/>
        </p:xfrm>
        <a:graphic>
          <a:graphicData uri="http://schemas.openxmlformats.org/drawingml/2006/table">
            <a:tbl>
              <a:tblPr/>
              <a:tblGrid>
                <a:gridCol w="3106800"/>
                <a:gridCol w="982440"/>
                <a:gridCol w="982800"/>
                <a:gridCol w="982800"/>
                <a:gridCol w="952200"/>
                <a:gridCol w="952560"/>
              </a:tblGrid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-Efficien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BAC Bug fi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g fix + Propos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438120" y="3478320"/>
          <a:ext cx="7959600" cy="1011240"/>
        </p:xfrm>
        <a:graphic>
          <a:graphicData uri="http://schemas.openxmlformats.org/drawingml/2006/table">
            <a:tbl>
              <a:tblPr/>
              <a:tblGrid>
                <a:gridCol w="3106800"/>
                <a:gridCol w="982440"/>
                <a:gridCol w="982800"/>
                <a:gridCol w="982800"/>
                <a:gridCol w="952200"/>
                <a:gridCol w="952560"/>
              </a:tblGrid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-Complex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BAC Bug fi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g fix + Propos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72A81-9470-41E5-895A-8DE7942F704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6480" y="284040"/>
            <a:ext cx="70297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41000" y="1044720"/>
            <a:ext cx="80010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CTVC-D235 proposes two enhancements to intra 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ar+DST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Intra Mode 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gain in coding efficiency with minimal impact on complex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mend the adoption of JCTVC-D235 into 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nks to Nokia (JCTVC-D201) for doing the cross-che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82330-62B8-48F3-9304-E9357A723B5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5T00:34:23Z</dcterms:created>
  <dc:creator>Sandeep Kanumuri</dc:creator>
  <dc:description/>
  <dc:language>en-US</dc:language>
  <cp:lastModifiedBy>skanumuri</cp:lastModifiedBy>
  <cp:lastPrinted>2008-07-15T16:42:41Z</cp:lastPrinted>
  <dcterms:modified xsi:type="dcterms:W3CDTF">2011-01-22T14:52:56Z</dcterms:modified>
  <cp:revision>697</cp:revision>
  <dc:subject/>
  <dc:title>Enhancements to Intra Coding</dc:title>
</cp:coreProperties>
</file>