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53E-CEFA-4778-B630-8627908B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49596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E19-FDEF-4E85-9AC9-4C3EDDE2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C1E-7AA4-440C-9638-4479345F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04D-17BF-4E83-8AE5-FF57FE6A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534-1462-4287-8A02-6C3EFDE7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3C5-69F1-4A20-AD44-23F2EB4B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7BB-8DF5-48CA-B70F-D162C255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101-FB0C-4616-BAE4-27C6BAFC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2C6-DEAF-4030-9928-15D23BB1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D0A-3320-4574-9DE4-C1F7F0F5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F3A-6A5D-46AB-8A07-66FE98F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D23-9C2C-4247-9F53-6159FE3F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75280" y="-360"/>
            <a:ext cx="46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FE2F-35C5-4E59-BFC9-C4FFF46D8C98}" type="slidenum">
              <a:rPr b="0" lang="en-S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Access for HE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C-D234 / m18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ujibayashi &amp; TK 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T DOCOMO, 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8EC-6365-4D70-B69F-A762BAD81E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0.9 with DDR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50017" t="0" r="0" b="0"/>
          <a:stretch/>
        </p:blipFill>
        <p:spPr>
          <a:xfrm>
            <a:off x="1407960" y="1341360"/>
            <a:ext cx="6464520" cy="40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9BD-DAD7-4049-A8D7-BF07F3836A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HM0.9 software does not produce bit streams that can be decoded from random access points within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ethods for creating bit streams with random access support were implemented into the HM0.9 softwar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irst method inserts IDR pictu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cond method inserts DDR pictures. (similar to Alpha Anchor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DDR vs. IDR pictures results in a 4.4% BD-rate improvement for both the high efficiency and low complexity test condu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ntribution propose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IDR and DDR NAL unit types be supported in the HEVC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capability be implemented in the HM softwar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eferred default random access configuration for core experiments should be the DDR meth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gested defini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erred decoding refresh (DDR) pi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taining onl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lic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 slice typ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causes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coding proc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ark all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ference pictur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cept the current DDR picture as "unused for reference" immediately before the decoding of the first picture following the current DDR with a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 ord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ater than the current DDR picture. All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ded pictur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follow a DDR picture 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 ord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be decoded withou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er predi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m 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i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precedes the DDR picture 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 ord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All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ded pictur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 ord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maller than the current DDR are not affected by the deferred marking proces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s to Samsung for cross checking the proposal (JCTVC-D26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3DA-752E-4551-AF59-74B5DF3BBD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om access is not implemented in HM0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aneous Decoding Refresh (ID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rred Decoding Refresh (DD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R increases the BD-rate by 6.7% and 5.8% for HE and LC, respec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DR increases the BD-rate by 1.9% and 1.1% for HE and LC, respec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DR vs. IDR gives a BD-rate improvements of 4.4% for both HE and L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es to adopt IDR and DDR and use DDR as the default configuration for the random access common condi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6E3-8D5F-4531-A031-2407905CE6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access example in HM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M0.9 only inserts Intra pictures at 1.1s intervals for the random access configu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 support for clean random access as the reference buffer is not refre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er usually crashes after decoding several pictures when starting from these Intra pictures at 1.1s interv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0" r="50017" b="0"/>
          <a:stretch/>
        </p:blipFill>
        <p:spPr>
          <a:xfrm>
            <a:off x="2268360" y="2565360"/>
            <a:ext cx="6480360" cy="4071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2637000"/>
            <a:ext cx="194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P =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c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 I fram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ame 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c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er crashes after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BEA-019D-4556-B23F-FF734D9FFA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 for this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random accessing into the current GOP, reference pictures from the previous GOP are not available and therefore will cause decoding err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ed to refresh the reference memory so that pictures that are not available in a random access situation are not used as re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6262560" cy="2484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0" y="692280"/>
            <a:ext cx="9144000" cy="2023920"/>
            <a:chOff x="0" y="692280"/>
            <a:chExt cx="9144000" cy="202392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692280"/>
              <a:ext cx="914400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020000" y="1989000"/>
              <a:ext cx="2124000" cy="289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A63-6BF5-4A8A-88E1-36E71B38C4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1: Instantaneous Decoding Refresh (I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 pictures are inserted at 1.1s intervals instead of I pi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memory refresh point is at the IDR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to pictures from the previous GOP are disallowed therefore providing a clean random access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ing efficiency suffers due to the closed GOP n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splicing and bit stream e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7344000" cy="2957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98520" y="2781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f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3141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803200" y="2781360"/>
            <a:ext cx="979200" cy="863640"/>
            <a:chOff x="5803200" y="2781360"/>
            <a:chExt cx="979200" cy="863640"/>
          </a:xfrm>
        </p:grpSpPr>
        <p:sp>
          <p:nvSpPr>
            <p:cNvPr id="61" name=""/>
            <p:cNvSpPr/>
            <p:nvPr/>
          </p:nvSpPr>
          <p:spPr>
            <a:xfrm>
              <a:off x="5803200" y="2781360"/>
              <a:ext cx="979200" cy="3682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Refre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00720" y="3141720"/>
              <a:ext cx="0" cy="503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863-2CF4-4C1C-AC25-4DFB37E48C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2: Deferred Decoding Refresh (D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R pictures are inserted at 1.1s intervals instead of I pict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memory refresh point is deferred to the first picture after the DDR picture in output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ing efficiency is better than using IDR pi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higher efficiency random access for storage and video on dem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2736720"/>
            <a:ext cx="7273800" cy="378792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7171560" y="2637000"/>
            <a:ext cx="979200" cy="862920"/>
            <a:chOff x="7171560" y="2637000"/>
            <a:chExt cx="979200" cy="862920"/>
          </a:xfrm>
        </p:grpSpPr>
        <p:sp>
          <p:nvSpPr>
            <p:cNvPr id="67" name=""/>
            <p:cNvSpPr/>
            <p:nvPr/>
          </p:nvSpPr>
          <p:spPr>
            <a:xfrm>
              <a:off x="7171560" y="2637000"/>
              <a:ext cx="979200" cy="3682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Refre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69080" y="2997000"/>
              <a:ext cx="0" cy="502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6300720" y="2565360"/>
            <a:ext cx="792360" cy="504720"/>
          </a:xfrm>
          <a:prstGeom prst="rightArrow">
            <a:avLst>
              <a:gd name="adj1" fmla="val 50000"/>
              <a:gd name="adj2" fmla="val 392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5DB-9FCC-4A94-8732-6CD7779EF9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95680" y="549000"/>
            <a:ext cx="704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Table 1: Summary results of BD-Rate comparing HM0.9 IDR to HM0.9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04760" y="907920"/>
          <a:ext cx="6806880" cy="2484360"/>
        </p:xfrm>
        <a:graphic>
          <a:graphicData uri="http://schemas.openxmlformats.org/drawingml/2006/table">
            <a:tbl>
              <a:tblPr/>
              <a:tblGrid>
                <a:gridCol w="1090440"/>
                <a:gridCol w="880200"/>
                <a:gridCol w="888840"/>
                <a:gridCol w="1126080"/>
                <a:gridCol w="880200"/>
                <a:gridCol w="888840"/>
                <a:gridCol w="1052280"/>
              </a:tblGrid>
              <a:tr h="218880">
                <a:tc gridSpan="7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M0.9 IDR vs. HM0.9 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106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838080" y="3715920"/>
            <a:ext cx="71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Table 4: Summary results of BD-Rate comparing HM0.9 DDR to HM0.9 de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4094280"/>
          <a:ext cx="6851520" cy="2484360"/>
        </p:xfrm>
        <a:graphic>
          <a:graphicData uri="http://schemas.openxmlformats.org/drawingml/2006/table">
            <a:tbl>
              <a:tblPr/>
              <a:tblGrid>
                <a:gridCol w="1108080"/>
                <a:gridCol w="954000"/>
                <a:gridCol w="963720"/>
                <a:gridCol w="954000"/>
                <a:gridCol w="954000"/>
                <a:gridCol w="963720"/>
                <a:gridCol w="954000"/>
              </a:tblGrid>
              <a:tr h="218880">
                <a:tc gridSpan="7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M0.9 DDR vs. HM0.9 defa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 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c Time[%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C405-DA95-41DF-B12F-E6456053BB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(con’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25360" y="1080720"/>
            <a:ext cx="68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Table 3: Summary results of BD-Rate comparing HM0.9 DDR to HM0.9 I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42920" y="1628640"/>
          <a:ext cx="7007400" cy="2816280"/>
        </p:xfrm>
        <a:graphic>
          <a:graphicData uri="http://schemas.openxmlformats.org/drawingml/2006/table">
            <a:tbl>
              <a:tblPr/>
              <a:tblGrid>
                <a:gridCol w="1200240"/>
                <a:gridCol w="965160"/>
                <a:gridCol w="974880"/>
                <a:gridCol w="963360"/>
                <a:gridCol w="965160"/>
                <a:gridCol w="973440"/>
                <a:gridCol w="965160"/>
              </a:tblGrid>
              <a:tr h="249480">
                <a:tc gridSpan="7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HM0.9 DDR vs. HM0.9 I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ndom access L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6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9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972E-4A41-44B9-AAD4-32D39052FE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50017" b="0"/>
          <a:stretch/>
        </p:blipFill>
        <p:spPr>
          <a:xfrm>
            <a:off x="1403280" y="1341360"/>
            <a:ext cx="6480360" cy="4071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0.9 with I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6CF-044A-4184-A689-A063FFB6C7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01:06:36Z</dcterms:created>
  <dc:creator>tktan</dc:creator>
  <dc:description/>
  <dc:language>en-US</dc:language>
  <cp:lastModifiedBy>tktan</cp:lastModifiedBy>
  <dcterms:modified xsi:type="dcterms:W3CDTF">2011-01-21T18:33:47Z</dcterms:modified>
  <cp:revision>15</cp:revision>
  <dc:subject/>
  <dc:title>Random Access for HEVC</dc:title>
</cp:coreProperties>
</file>