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93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94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70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</p:sldMasterIdLst>
  <p:notesMasterIdLst>
    <p:notesMasterId r:id="rId95"/>
  </p:notesMasterIdLst>
  <p:sldIdLst>
    <p:sldId id="256" r:id="rId96"/>
    <p:sldId id="257" r:id="rId97"/>
    <p:sldId id="258" r:id="rId98"/>
    <p:sldId id="259" r:id="rId99"/>
    <p:sldId id="260" r:id="rId100"/>
    <p:sldId id="261" r:id="rId101"/>
    <p:sldId id="262" r:id="rId102"/>
    <p:sldId id="263" r:id="rId103"/>
    <p:sldId id="264" r:id="rId104"/>
    <p:sldId id="265" r:id="rId105"/>
    <p:sldId id="266" r:id="rId106"/>
    <p:sldId id="267" r:id="rId107"/>
    <p:sldId id="268" r:id="rId108"/>
    <p:sldId id="269" r:id="rId109"/>
    <p:sldId id="270" r:id="rId110"/>
    <p:sldId id="271" r:id="rId1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notesMaster" Target="notesMasters/notesMaster1.xml"/><Relationship Id="rId96" Type="http://schemas.openxmlformats.org/officeDocument/2006/relationships/slide" Target="slides/slide1.xml"/><Relationship Id="rId97" Type="http://schemas.openxmlformats.org/officeDocument/2006/relationships/slide" Target="slides/slide2.xml"/><Relationship Id="rId98" Type="http://schemas.openxmlformats.org/officeDocument/2006/relationships/slide" Target="slides/slide3.xml"/><Relationship Id="rId99" Type="http://schemas.openxmlformats.org/officeDocument/2006/relationships/slide" Target="slides/slide4.xml"/><Relationship Id="rId100" Type="http://schemas.openxmlformats.org/officeDocument/2006/relationships/slide" Target="slides/slide5.xml"/><Relationship Id="rId101" Type="http://schemas.openxmlformats.org/officeDocument/2006/relationships/slide" Target="slides/slide6.xml"/><Relationship Id="rId102" Type="http://schemas.openxmlformats.org/officeDocument/2006/relationships/slide" Target="slides/slide7.xml"/><Relationship Id="rId103" Type="http://schemas.openxmlformats.org/officeDocument/2006/relationships/slide" Target="slides/slide8.xml"/><Relationship Id="rId104" Type="http://schemas.openxmlformats.org/officeDocument/2006/relationships/slide" Target="slides/slide9.xml"/><Relationship Id="rId105" Type="http://schemas.openxmlformats.org/officeDocument/2006/relationships/slide" Target="slides/slide10.xml"/><Relationship Id="rId106" Type="http://schemas.openxmlformats.org/officeDocument/2006/relationships/slide" Target="slides/slide11.xml"/><Relationship Id="rId107" Type="http://schemas.openxmlformats.org/officeDocument/2006/relationships/slide" Target="slides/slide12.xml"/><Relationship Id="rId108" Type="http://schemas.openxmlformats.org/officeDocument/2006/relationships/slide" Target="slides/slide13.xml"/><Relationship Id="rId109" Type="http://schemas.openxmlformats.org/officeDocument/2006/relationships/slide" Target="slides/slide14.xml"/><Relationship Id="rId110" Type="http://schemas.openxmlformats.org/officeDocument/2006/relationships/slide" Target="slides/slide15.xml"/><Relationship Id="rId111" Type="http://schemas.openxmlformats.org/officeDocument/2006/relationships/slide" Target="slides/slide16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 type="dt" idx="23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 type="ftr" idx="2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 type="sldNum" idx="2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F47AB52-ECB8-4CC8-969E-DF5C0590EC76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CEB2D8D-EFAC-4B45-9C5C-854C12EE2F39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4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겉표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타이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: Tahoma 46, Date : Arial 24 )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6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95791FC-6F55-4C9F-8A04-8349C5B08EBE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4CC1847-60B6-43C6-9A75-90F777ECAFEF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43EA005-B4C6-47A4-B42C-35BD1DD91FF7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79FDE55-4329-4695-9AA4-16D04938D4CF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06CF31-87A8-489B-8240-E9BA6410D712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8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2ACE18-027B-4E88-85E6-FB5036E77424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8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Sym prevent filtering across edg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A21416F-819C-4AA2-B126-33756FD05CA8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haracteristics of ALF in TMuC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3E33A5-71D7-4FC2-B5AA-4FC38B83FF60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4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0F52D6-59B5-445B-8686-FAE06D9C4A32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*Eliminated sort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BCC369-5D4B-4558-84B7-DEB56A17F848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5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54204D-F3F1-4E42-9987-AB6E6E9AF9C7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2FC8156-1412-4572-BF50-0B328D951510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5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Sym prevent filtering across edg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6AC4A7-0A2A-46A8-9C4A-33DA72F9A30D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2242613-0E96-464A-8756-B890106938AC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06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2303CF7-0E00-4C18-9828-12CE8B19D4BF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4E9-72E7-413D-BCE4-AAD790B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CCB-3A66-492D-B9D8-87AC1A5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755F5-81B4-4413-9246-B5831ED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2EF8733-3602-42F2-81B6-0D84C87B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50B9B71-4ACB-445E-BDA6-FE26DC4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8217077-BEBF-46D6-A351-251573F1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160CA70-20E0-4FC2-9049-8AC21DF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4D31AB5-BFFB-4CC9-9BC0-FFFA5E6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281E917-2772-44D4-B330-1A4DFBAC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404F8F1-8052-4BBA-B9C4-0D41E8EB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500DD5B-0D99-4069-8531-A09A878D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0123166-74CB-4284-B7DD-970F245C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C8D0C06-7165-4549-8A0E-E908BA72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F2875-D83D-42F8-8378-614CB05E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536E09A-E8AF-419F-9C73-DCA0BE8A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91DF6DC-1615-4698-8AE8-FFBB4BA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6BE2E09-B247-4E58-8FCE-4088C664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E0785F2-B79D-4258-A7F7-5317B015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10B1332-10EC-4AD4-9939-D1740E2A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CBBCC6D-7137-49A4-8A9A-0DDB574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C0B8D18-C498-4BF0-96E3-BE47B6A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A3043E3-EB0E-4B42-8674-4E8578A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7E4D0C8-0088-415A-885C-E3F78E78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0433DCF-A378-427E-90FE-4CDF42D7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E5C3D-03D4-44ED-8C4D-8A80ED4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A55B76B-A4E9-4C25-8965-1F4F189A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D97FD22-D098-4F39-A30E-20DCF860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FDBBCC6-DD48-46BB-8B1E-6E19C930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30FFBBD-EAF7-497C-BC50-6E2897FA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A5068FC-CCF7-4140-A240-35F0A8E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36092D4-0EF2-447B-B944-3385BD9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BD90169-79C1-45BE-91BE-0523721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5819C5A-A615-41D9-8FAD-E59C238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6A8D42A-6AA7-435B-992F-E73B1D1D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7C9AAE0-0118-4CA1-9FE0-84B708E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D8FC9-0988-42CC-AC44-586888B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AC281A2-752B-4682-BD07-11D6F31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65DEF0C-52BE-4BC8-BA1D-83A60A2E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4F57D8A-C6CA-4939-9842-03D844E4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AC93A8D-9BB6-4DF0-A1D7-AEF9027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1B3100E6-66DD-47B6-82C9-BA2D2782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B535EFF-FFD0-4DD8-A4E5-C9A6625C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C03AFE9-2B55-484E-8A90-C14AD78E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9408E4D5-187E-491A-B9E4-69708E9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C7FF6B2-EE94-4277-A27F-E207D507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E5940A6-A461-4DD0-94EC-A866400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33AE0-3D3F-45AB-9684-69B1830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1953EA12-ACE4-4990-BF78-F5313110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236BEFE-340A-480F-9FA5-340EE34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12BC0C45-99B2-4D84-9DD2-B89F3519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2575FE3-3194-44C0-A745-58CC1AD8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1D1198E-C59E-4BE1-8592-CC96BF15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15B7EF2-F20F-403C-B46A-1767B595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57BDD911-64C5-47B7-80BE-4C92132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1D9EF7B-0D4D-41FC-A9D3-E81D6FC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043604DF-85C6-418E-9C55-0C383056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2B430AB-E23D-49DC-B144-1FC14BC2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F51F2-D654-4CC6-9949-F1D1E7F1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FAB2750A-2809-42B1-94F3-61385F6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F3D33FA-904E-468A-A9DD-EB94EAB3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7FF46AE-34E6-4C7F-849B-15A762D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DE7F71C-57BB-406B-B1DF-8F101D5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774CDCD1-E81E-4A46-9924-04BBC4AF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085B3CBC-79F0-4090-8D94-258E7A61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2E5F4B2-4E5B-4EE3-B3C3-64E34D75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B83DD06-1468-4BAD-BE81-8250F08C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9A44FC4-8F4E-487E-A3D5-5426A42D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CDCB54A-F1B6-473B-8228-BAAAC21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37EE3-49A8-4FF7-8A29-191B9EC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4F2A349-0498-4050-9109-9FBC9D56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298B838-D050-40AE-A89E-E7D21A98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ED5042D-9088-47B1-AF48-71F316BE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E5186120-0607-40E3-8A4F-67A1C5A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0C09D2B-3DE7-4170-AD79-F6A6039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81B717A-05A4-4404-A3CA-840C253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DD1F8A3-CF82-482B-953E-98BD38A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C210D64-1514-48AE-8E36-32376B7C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70CF7BD-43E0-4FEB-A388-BBC2FEDD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C340869-47DB-4B10-8298-C61F3F73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198C0-8056-486E-8E66-B17E2062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8961413-DAB8-4426-9E22-20EDF43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861C265-0ED9-4493-96EF-EE2705F4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55D496D-2CCF-4DCC-9D9E-89F671A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98484EE-0723-4360-918C-A7C39282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9C79A7D-6AE9-4562-BB90-86C231E2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7A91A049-5FF6-44D5-945F-7113C93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7A71919-B013-4948-9355-0A80761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60D8D47-583F-4FD5-B601-E70B4346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3FBF648-C2B4-4B5B-8B5F-1D02C6F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1B449AA-C58E-4D87-8BFC-27E6E1D8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5093C-BE03-4F6B-B2BE-7034CD76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E0C0A02-9B75-4A10-9D27-DF6B3E6C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4793380-9B9D-4FF7-9DCF-472CEE94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9D766240-DD6F-4E09-BAEB-1357BF1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113F823-26AA-4D62-8437-0630B683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949B6BC8-F44F-40B2-B678-8444D9E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230515D-9D62-4410-BC1A-E19CC1B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40F7C53-156E-4532-B4CB-BE2742FF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A21CEDE-2CAC-4357-8A06-4782C41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7219A0F-DFF5-4512-8DA6-CC58DB4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A9EFAA7-4B5F-4990-93E7-92C73C1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8B200-01D7-4E0D-9994-1B671D58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6381844-3002-4384-AECF-219C812F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2FC3390-0FA6-498C-A3CB-A8FFFC2F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90C55C42-23E9-4440-BF67-317A92B0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F67FA5E-208A-44B1-87A0-9618B781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49EB4A0-D0D9-4361-9765-0B2CD7A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B00D0C3-7B7B-4C67-B591-4709BE66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C5F452D-D9DC-47FB-86EC-4149799B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FF5B5CD-4ADB-44C6-A961-670951E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600F1F2D-CC67-4937-ABCC-C3A9F2E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2ACC536-FE6F-485D-BFA0-1C9C788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0E7-273E-4B42-B10A-17BC848E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86D94-CC03-4B32-BA01-9EC44682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22B0443A-8B75-4DA3-AB65-D0258EC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CB03321-2C42-4182-B124-D01E2A95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2A272A0-DCCB-4753-BC35-9A5C824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6F3C25C-A90E-4A5A-9105-A5F3DA04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874D2D7-5822-4827-85AB-A8AAE7BD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DF7CFC5-5819-4D3B-BCD7-7633A11D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F61BA2CF-4891-498C-9986-E1E380DF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368ADFC-09E1-48BF-ADE7-E3C1380B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08908E0-EF06-45E9-9572-459F44F8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B2095176-62C5-4720-9F2D-51BA7338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D6589-9BE7-4143-B007-6B8B0890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0866B2F-5E08-49C4-9708-942DBD6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195915C-E7E1-4D05-A792-5A4124E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296BDB5-2F04-4191-8914-9432BBC9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E883D6E-1A5D-4678-9F29-24B631B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4AE823D-032A-435E-8D57-BCFE9593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8023A6B-9CC7-4E4A-96AE-1FFCABFE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76BE1D3A-A100-465A-ABAF-4FAD99A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E856E-652A-411E-8DE9-C5589B2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84CC6-4884-497C-A8CD-047EBA17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D35F5-E9DC-407B-8002-332994C1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F3228-35D2-40B3-BD45-B642590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7F8B4-00D0-438B-97D1-7E9E4C72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8457E-DC07-49BE-981C-88084E85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9C3CF-0071-4AE2-82ED-BBD553EA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AF259-C68E-4A46-9472-FCEDB3FD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699-0575-42FC-971D-4A8F84CC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0A64D-B190-450F-88A4-D4F77BF2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4DAB0F-4BE2-46C2-ADA1-11A2DD92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10F95E-9964-4C40-A75E-39999BD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4771C7-66F1-4993-A3F4-C3A2741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549EB0-F79B-452B-B001-4C2F8708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3D42E8-77B9-4EB6-ADA1-7F4D6FAE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031B06-2A4E-4DE5-ADB1-0523D7E6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712344-BAAF-4790-A999-D202DF97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442EDD-2F15-47F9-A54D-A8FCE8F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7449B9-B396-49A1-86B3-D9AD8A0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2C4791-A64B-491D-B51A-CED93C7C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34DD1F-7205-4479-A57D-D086B4FC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696E5B-2361-4B73-B8C7-B39890EE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5E9AE-D6C8-4533-9500-0884D22C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8607B-4882-4B33-98D6-743AC7B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9DB10-286A-4D8C-BB48-12E1AE43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E2875-3008-4FB7-B28C-EB2C996D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75C3D-D96B-44CA-963D-D43E343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7FA26-7E73-438A-AC33-BABFA80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40301-D9C5-470F-8071-8D37659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69346-9E84-43DE-9984-C7F9CAE5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C894E-C0D2-457D-965D-E54EEF62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2BD5A-27E3-49CF-B56B-2F736BE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68203-96AD-4893-A3DC-8F63BC8F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B41E3-0B8B-4EAF-99FE-ED79A376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8A4D2D-DCBD-4F3D-A13D-F547B878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A9FB66-2D2E-47E4-9E32-4D4FABDB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D82129-4271-4825-967C-8FDC71FC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04FA72-C153-45DB-AF52-6BF9D88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93E04B-8C7C-4122-ACDC-93C6BDC7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DDE81B-10AC-495B-9E07-21A896A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82AD2B-C6B8-4D0D-8DFA-7757663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611613-F24E-4F4E-A131-F6BB71C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F44913-B69E-4C18-8856-69CEE19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7C8EF1-593C-4415-9FCF-5A16F87C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015FC5-5434-4408-BEA8-DA0D0A13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361A7C-6450-46DB-BA8F-E4D93DE0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648D81-F8E9-42AE-9E2F-16858B98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D095F9-C7C4-4FC9-8BF9-AAD2C75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6B09AF-6D62-4A37-8A5F-A43BEFD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E234F7-CAE0-407A-9E17-6899587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221F3D-5327-46F7-A42A-D7DA3FB8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3061C4-9D29-408B-9E91-E472ACA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DF788E-6306-40FC-A403-748A06DB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27AE2F-23F3-45BB-8E31-C2C0543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31D884-B74A-45F6-B426-F039752B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AEA669-702C-48DB-A813-56419A22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A4C9D4-1BE8-42F5-B5A1-811F5BCC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2F83F1-568E-4CD4-BBB3-CA7F0C72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AE6EEB-B75D-4E4A-A69B-FE964D1D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8FCE01-CAA6-4394-9286-BDF4229A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D23F56-FA81-4BA1-8FEB-A04B7A06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715CE0-71F3-42ED-9D2A-98F99BBF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C4A93E-B77F-4F46-9BCE-D6644485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220B93-0679-437E-AE6B-BF7825D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73BE56-919D-4BF4-85BB-75AC78B9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C69BA9-F334-489A-BF74-B3B43EA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5AC7CA-673D-4661-AE69-939FCE7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984C2B-9BDD-4B7C-82AD-BDB7A94D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19A453-1725-4795-B482-80E7A53A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0D3F0F-0934-4FBE-8BD9-6C414205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F7347A-9C04-4938-BBE2-D8FCB9C5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94AD16-63AF-4CEE-AFDB-702BB4C7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D2B5B2-1228-446B-B145-15A3C87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1E4A1D-E6DC-4A18-9BFF-4715406E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9C519B-8DD7-4BFA-AF86-EEE8FB79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56D0FB-0DBF-429A-BC69-75FCB98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9E4928-AEEC-45BD-8B37-736178C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F7263D-94DB-4C57-BA5F-FF08DC7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6BC52A-F935-4242-9B7D-EF35DAA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D930C1-1DEF-4161-9CB3-DDA2A83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A32570-F8CD-4FC2-AA00-A5242928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26A0BB-5BAA-46A7-A5CB-EE9B2319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F52F85-9EE0-442A-8D28-E70F43F4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7AF77B-EE2D-418C-A94D-118D0FF1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1CD564-9FDB-496F-9F8F-8F504899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5D6A8C-88EB-4A66-A753-A5A4CFC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28B46E-1EC4-4FE9-82C9-5C7AF2A5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C204C8-18EA-46D3-93AB-BA7F0A1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489B1F-E4EF-4279-961D-850432E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386-5AF4-4D03-B503-EBCD749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B558D1-C124-4659-9B4B-0A1FCDBD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778B2A-D2B0-4E91-8399-26F58A8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7A1A60-3D7A-47F8-89F3-5799E3E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C7FD9C-4CCC-4041-AF4D-26DD287B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66BC5C-70C3-4EA5-A763-C8FB6522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9524F4-527A-4341-A4EB-1825CF0A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6EB756-37BB-487D-BB00-4018DDC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5A371A-FC1D-4467-B89E-955DFD45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5C806C-2CA3-46EC-98B5-8C9532A0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18E5DE-5D97-4655-97C5-ED1FAE33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603A8D-E8F1-4EEF-A1A9-1B6B0F2A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C04C3E-A411-4386-B5A2-ABA2128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FF857A-CF7C-495D-BC8B-950E9C6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7C412D-C648-45B3-BE6F-729D417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4279CB-B6B2-4CE1-9F05-07D3C924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9B5E3F-2DEA-48F2-B20C-3D16686E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217250-2D30-4C87-8500-BE52B412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40C590-DAA5-42C6-9BD5-3B19A04B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AF2F91-6971-4214-8FE7-A5BCD14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9D221F-DF54-4656-9D2E-1191A49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36D194-B458-48BF-B416-9F7B872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9B8966-438F-4C92-A0FF-47DD5EE5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AE3907-3CF3-4F28-A791-4A29DB60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123BE6A-BC1A-4DA5-8925-D1431FE2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69F78E-D80C-4BAB-BBE2-09BBAE5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400AC58-63DC-4098-837C-78E57311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FB44A2-5123-4E17-A79C-E4546FB9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E66EBD-6678-41A3-98B6-30F7501E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0F3499-94FB-4A07-9D5F-EB9689E8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5F74B1-EE47-4D41-8664-4BA0499F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6099DF-13DF-4529-82F6-BDBA7A0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06B0A8-78A6-4ADC-9124-E4A777CF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F75EAA-D75F-431C-AA8A-D42E8FD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175905-77C1-4A01-B681-3F91925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110D37-DE55-40BF-BF43-E009D19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A3397F-89BC-423D-849B-9A0D065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B948F9-012A-4820-BDCD-FA420CC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7D3AB2-8064-4998-96F2-09355C4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C90252-0D9D-4150-A36E-E60AB3BA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E9F264-EC5B-4EDD-B393-EFBC5E57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E37B1C-017E-4AE1-A9CE-E6130C93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9846E4-5586-4D3B-A2A7-E58D430F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98EE0A-FBE1-4B9D-BFEE-18386862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2449E4F-C046-4584-91FA-1839843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9DB3337-7C55-430D-868A-73112040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E0BF89-BA64-413F-90FD-18337C05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16B798-420D-4EF6-9415-701DC04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7D3C21-8376-4F77-9F6F-0C57838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8CA856-B4F7-4225-988A-216C053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611020-027A-416A-A801-17F96CD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93860-DD00-4997-8927-3BC887E5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4C5351-314B-45B1-980E-8EFE142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BF3634-836E-4CC6-B1C0-A31B4D08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699BB0-E9EA-48A5-BE97-5D1B7D70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4CA5156-4776-40E8-B8B3-949DE64C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B560AD-D64E-4AA6-A6B4-5F1EED0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54CA27-DAA0-4407-A8AC-ABB2D15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DC4F6C-B2CB-4AD6-8B6F-DA49060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E4CC73-A7CB-4FF0-B9D6-7CC1461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44054E-5AB8-4032-91F3-4818EA25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08DD23B-A9F5-41CF-92BD-4E88770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82FF8-63BC-46E2-A3D1-DB8E106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E2ECCB-58A2-4850-AB71-1CE4EB7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8144C6-8825-47AE-A94C-911D0367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8ED9BBE-01D2-4710-A26E-55C3327F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AFA8F6-1E49-466D-91A7-015DCF92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8D080B-C9D0-46FF-8F6C-B31EA96B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E20353-2933-47EE-9E22-75D0E8B9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87A9A5-6246-49C7-AEFA-98F268B2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44CCA9-A1BE-43B1-8347-0F02ACAB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E6DEBC-216E-474A-9C87-69C8787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BC17A4-71A3-48DB-9C58-ADF69E3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67FBD-C1A4-4513-8314-6835FC64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BE1200-4DE1-4959-941E-F7F0CC40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F307ED9-1C1C-4786-8E66-CF71BDE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732B6B-796B-49D6-858F-CB9A73E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A2DA2C-786C-40B2-BDF2-34827CC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7B0D544-4B26-437C-B139-64AB6667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347D8C-45B2-40A8-A2F5-CE47D699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0D3A81-9979-494A-847B-42C43886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6B73B-A3FD-409E-98E3-CBBE7B1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59811-2932-42EE-9771-B7B78F4A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718-81C7-4F15-B072-ABA2653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848C6-1C50-48B7-842C-2BEBD837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66A7A1-23DA-4A6C-97F4-1D5D9807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1E67B0-19FE-4AAD-AECE-64D05E8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BC7AF2E-E1C8-4544-A4AD-B9A03A14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2AF097-6D43-41FB-BDE1-8E4B1062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6DAC23-A8AC-4234-8804-F246F795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444CD25-765E-4CD1-83BB-7C06FF5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4D4EBB-DAF5-41A1-848B-3131D574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ECA447-AA63-42C1-A89D-0A28914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77346EF-45AC-4B72-A548-B148C71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A0D8F-114B-4ECB-BF8A-B4FDB78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272D73-30F6-4B1F-B812-6B861ADE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33C598-30B8-4EE6-BA4E-B8FDFAAA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880FF6-D190-486F-9B1F-0A4316D4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E953B4F-11E0-4707-954F-8F691813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A5D135C-D5B5-4FD6-82D7-121314E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F9F9527-0993-4A31-9C38-93EF1EF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21981EC-8786-4BC2-916C-F417A2E6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C1231C-B000-4A6F-8D2C-5B1EDFD5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2DF8C49-6DA3-462E-81BA-74D932CB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23D3555-F2AD-458E-B642-97EDE09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B54C6-DACB-4532-9BB8-26A529C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A6D942-6570-4F88-8195-8BE81359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B63A9BA-9FB2-46D7-A53C-1ABB1A2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64C67D-C28A-427A-8AAB-39314DF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4C3E5B3-4589-4006-8693-21E5873F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522490-8E88-44B7-A335-DD705182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FDB56A-D88B-4A97-8C44-75282254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0BE87C9-CE5A-46B4-A632-F421E81E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0A829D-1883-4EC9-A083-B1EA46C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5FE609-7168-4FF1-9BDD-20C4D6E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6FAB13-D277-419D-A6F9-CF2C886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4C6C9-CAC2-4C05-9AEF-7AB3EC7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BEC7408-B03F-476A-BA58-C21F31C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5B3686-B5D2-4DDC-8ADF-613E107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A0F9BAB-29ED-4A4A-B01B-54D2443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5B1BD1A-9024-4178-B265-2CD393B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D2A771-0706-4BED-A925-C988D24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C4E0900-7E3F-4001-B134-DA78B3FF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EC054BB-9EC8-43BD-B250-D8E0C4E9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45E7EF-EEFE-4E60-BF5C-5E130124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6E2A13-41A9-4C64-936C-27C440ED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6229CF-6669-4D59-9D94-778FE86E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2E4E8-5B11-4468-BE6A-2295041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727E94-A828-44FE-8557-BD06555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028D21D-334C-4816-9D35-EB396A2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3357E43-EFBE-4C7C-B69B-B6493E7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0BD1A3A-0DBF-4744-AE85-DCFD31D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7846150-B3DB-4D57-85A8-6E558CA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2381634-36DB-4C41-A830-A517C8DF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5B8C35-35A8-4319-AB56-479B8766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9C6BD29-4C01-4D34-A930-48128D1B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0350D3D-0C0A-498E-8B02-5EF18FEA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F030242-A928-46B2-BE2A-6A68B5DA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F32AA-0F77-4D35-85ED-301DAFBE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618CC95-3640-44A7-8FBF-37DC6E6E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577698-4FF2-4D04-B180-64A37AD3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9BAD29-60D1-4158-8CFA-4608B19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C16CFB-4382-48E4-9A5E-9A716BB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6BB7435-E74F-48A1-852B-340DE5D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5134A5D-2FB0-4DA0-9523-BDDDAE4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DF7CA8-18E0-4A26-8307-C0FB62A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D9EE832-22D6-4C26-92F8-201A7CB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AF5DDE-038E-45CF-B06D-5D7A3A6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F2937F3-2F4E-48D7-BE47-E38CDC3C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8A69B-1D59-4C9F-B59B-4A6D50AB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F1DB8F-B12F-48D9-83D1-C8FBD74E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6AE1CF1-3184-4000-8AB5-30EC55B3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B78D175-1CAC-445C-AF0F-E270EC5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3C25156-FB47-4BB0-AB4C-817B16E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49F55F7-414F-4A56-99D0-A2BD873F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CE7CEDA-B2C2-4D79-AAFE-3D247EC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52DC10C-C0CA-40DC-AE25-EF3B7235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6549871-4E41-4C24-908F-360DCB0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B0E6410-5945-4D8E-8BFA-723A114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3A9E002-1C55-449C-9EDC-6C9351A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642433D-B434-4AA1-B8B8-C93720BC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DE687A9-3E58-40DD-BDCA-E8FF5C28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DC52CF0-E745-463B-A0EB-C3B736B6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320C3D2-2B1B-4720-8512-48599855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E32D21E-B809-4A18-A351-B07BDCF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9877572-C78D-4AFA-A43A-4CD65D19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B6027DD-C8DE-4673-BA74-236FEE0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D70FAD-CC8A-46B2-AB77-22E3D04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B39BC5A-0C37-46B7-97A8-B68443E5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EEC686D-2F35-432D-BF92-15524DD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E9FF546-D568-40EC-9095-9DEE3DC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C14AE2-5F21-4E05-80DB-D9232C4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771EB3A-CA89-45C9-A0DC-98FB6BE3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083309-2B8C-4A5A-983E-327D8294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3CF19CF-8094-4FDD-B68C-8A576635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FCB677E-2909-4D47-A022-954B3493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B3C9A09-3D73-450E-9024-8012BA85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8EC9A2C-EEFA-44C6-BF38-BEE8224A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EB58427-D66E-4AC8-B001-42DEB18E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845D8AB-6A83-43F8-A20F-F41B58CF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DBCB8BD-F96B-4746-BB23-2371CD3D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DF7EB05-F982-4884-A35F-18CB853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2A68D73-4025-40E9-A857-65A0A2B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45C65AA-FDE6-4B13-97CC-830A64D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068BCB0-2F9F-4F5A-9513-18276B49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F23A426-F280-44F2-931B-51212085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B210D48-4BE7-464C-AA20-6E543431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F62F00A-26DC-4D72-946A-222937DE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02299E1-3033-4D31-B7B0-EC7BEF6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F6DFBA9-59E9-4576-93EB-A6A9472D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187-4CC8-4A7E-BB03-A93FCE0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AFC325C-96BC-475F-81DD-F99965B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F38B85-4DF7-4FC0-98FC-BAEA1153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F098651-BEFD-43D8-9F12-715FB9A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B9C5D6-7CDC-4E90-9A3B-30B1F7F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CD9453B-DA65-4502-8B0C-D3C86A4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8321CEE-58AA-43DA-B5BF-6F5EE4A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9F52C0D-4D55-4A34-BC48-CC382674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B9C8885-DB9B-413A-A9C0-DF7B5917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FE1C2A0-B877-4C88-B2EA-3EE11B4D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AEAA077-D756-4CED-B304-2442071E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B2D2633-5CD3-4DE0-A257-9CBE375C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7625308-4ED0-425C-90C9-F5653EB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479508D-533F-40F8-8D5B-9E2EAD6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A1CEA5B-013C-4296-A322-3A25952A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459F148-88B1-409C-AC33-B2EF32E5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F9DAEF7-A035-478D-A068-324CFDF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D9034A7-F59F-451B-9C5B-60B154C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6D34832-1AA6-45A9-8904-959215E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DFC85EE-6310-45AA-8F80-03D1144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FC03B66-3106-4C5D-8BE1-A57C8DE7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42F9FB1-A51E-42DF-82AC-7037626C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62B83CD-6EB7-40F6-8879-1641C197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6205130-5362-4442-8362-7692FAB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BE3FEEC-97BB-4CCC-B8BB-C79E727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B37A4BA-3E2C-4A82-A504-AEC6C01D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26C605C-6B1B-4E29-AA31-79D9D44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1AF176D-6ED3-4EA9-88A6-E3BB4A0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27F4CBB-CA18-4161-A0CE-C5A2A8BC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2F351B0-6216-4189-B27B-380DEF5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53008F0-9961-4F17-BAA7-F864E50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260D900-184B-4D7B-A01D-5F1D2AB8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B416ABB-3B03-427B-9877-0A3B0C8E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15F1387-39B3-4BD2-92CC-27411024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62220CF-3C0B-43BC-B634-9C7E8A2C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3E11130-02BE-4D00-865F-8A2D786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F9BBAAB-B6C9-472B-9775-DC7D843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D793764-448B-442A-90C5-A688AD4B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2F2F0A7-F620-4874-82DE-516409F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B62D206-240A-4DF7-B3CB-9351BFB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A9E588F-8BF3-4CC7-A0B9-00F6FEE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6E4678E-D4A7-42B1-8FD5-315D2E9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FD0A389-4C9A-4A39-8469-0EA3105D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BAFDAB-8360-4A42-B4C7-39DEAD89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F0B132E-2850-47E1-B18D-F3BAAA1D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EC10E53-C8B7-4848-A4A6-840AAFD3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FAD5393-DE02-49CB-918C-9D64D804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A3D4533-A50F-4E1C-99DB-284C89E3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71FD8CF-3DBF-46BB-AE6B-66360433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CDF00C0-8718-4E9B-BB0A-CDA38FC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847C120-C346-40A5-AA51-DEF4DD1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DCDD851-E442-4843-8E75-CC34892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C9B8E4E-57BF-4363-B26E-2BC268D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981FBB3-0BBA-4A0A-8B69-5C4DC02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9CB9D5-3009-494A-9CB3-C548E12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0F2E01F-D1A0-4DAD-8504-0835939E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F282331-5FB5-4DFA-A1C2-E65BFA0F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366C35C-073D-4672-B0C0-5907FEB7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44F0E7C-6B17-4D92-9B68-EE79E175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9FB0AC9-BE69-41C1-B6B9-6704E06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01E88EE-6175-4DAE-8CAE-C12AEF0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7F167C0-1AAE-4C96-9CB3-3FB0134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121F0A1-8E54-4A3F-89DC-5638617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6D0D173-206C-4356-9CB0-67C4CDD0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A5FF093-B6B4-4959-AD01-09C0165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397F6D2-8B24-4A1A-871F-261E88A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C4B9E30-DFA8-4ED7-BC8C-16C48A3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9E10B65-265C-4810-B602-C7ABFD9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0958E7D-7E00-457E-8EF0-1F62344B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D1A6353-D173-4452-850E-9BCB9094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BADB202-63EE-4CBB-B8F9-24730942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DB65E35-7BE5-4B45-9B13-62F4E3DF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C2F8CB-1E6A-4A0F-A6C2-95BD525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39EEF19-31DD-46B1-ACAE-FEB8CE25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97B43F6-D16D-4FFD-AC30-C46C54D8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09BED05-5D8A-4038-8D6E-2A0702AA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35EE28C-56E2-4F82-BCAC-1CA74B1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8CE3181-2C31-4DB5-8710-6A6DB21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B9B6561-7D8C-4EC3-B8E6-48D1EA1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DC29BBB-34D5-4B57-9E44-4804486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7EA30D3-EB48-4F3A-AE6B-C5491E28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918B7C-6085-4E55-BA8F-02C3C3FA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03AC7-E42F-4CB0-9377-AECC6C0B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D60-D158-4C01-9E45-6910CB99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3A583-F839-44BF-AC90-1CA3AA08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4F93E-6270-4EB0-BEDA-5C53549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C25EC1-A373-4BF6-83E1-C5BDCAA0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F45B1-72C7-4E92-A344-B41CC71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DFB9F9-282B-45C2-9964-4739FE77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10878A-2B82-4525-AE35-B620CF2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87F74-AAEA-4D4D-A453-8CBA596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FCCE43-D46F-42EE-838F-52E782D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D6FB9-DD3D-4C0A-9978-6FE48622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BAD3EA-B43E-4803-82FE-FB691F8C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A94-B07D-4AF5-B5FC-7B28D0D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B9B934-3D00-4BEE-86DC-6433CA04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1A0F45-4675-4B97-A989-5EFE6672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82AFF-B1E3-4F83-83D1-0DE4074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7B997-54F7-4773-9A21-6F4695AA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DFAE656-BF26-4EC1-B74C-FAB2DDB6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A42C24E-E1CA-4B94-9A15-1CCD590E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6EB7A55-2BC1-4241-8733-AA3466A4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929BE-5168-43EB-AE42-3302462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5354D3A-9191-4494-ACA0-C915195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926FB1D-52A6-4463-9DA2-1FB7FD81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0EF655A-D16F-4007-AFA0-D63B9A96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3514890-24FF-4772-B554-3A5F334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730B8A7-FFA1-4748-9CA1-B89EDA5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50442C6-74BC-4379-902E-04F49A73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A761860-6C37-47EA-9CD8-710C000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52C874B-C3D8-4098-A842-93091E79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68A921D-6CBC-45B4-8EEF-5F98C690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D1F2EBC-08A9-4F64-BF3A-0FF23D71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61234-1442-4812-849B-91591DC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ADDB2C0-E969-451D-81B9-D6A61CF4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04D090-3B73-4EF4-A57D-D5766EA2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7942D08-D02D-4C29-A68B-A0A9BCFC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D12F2DE-C2AD-4298-BF09-B223D79F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EAB2B34-CA8C-4412-9E36-B7C3EE23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6177D0D-86F2-4590-9FC3-9CBC102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688B236-C26E-414C-8E80-BBAF2F77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F9CC16E-3778-4224-A57F-A31835F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22DD839-16EE-4BE6-BA55-40107483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7F549D6-8A2D-4201-98D8-DC57B295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41AD9-023E-43D8-AA7D-C6F88A7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90BD4C4-87D3-4C71-8F6F-76D4E8BC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CCFCC8-C0B9-4606-9F61-C4D9FA6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3B47DB-6126-4CA9-8F2E-C0E4E0BA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D3E070-D064-4968-9690-142C3B3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F5A-1232-4035-8CDB-FCFFC62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7A56C-19F5-4849-BF7B-D857E3D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AA8FBC-9621-481C-A7D7-324E58A1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AFC1A-DE55-4793-9ED3-35E65920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EE638-76B7-470D-B31E-B4A18F01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384BC-00CF-4123-A8B6-695F607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259F6-59E1-42FA-93E5-896819F2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D00FA6-8459-48C8-9BB8-62B0E194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5450094-C466-4487-B414-8EDD0DA9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9C73F6-55C4-4D65-8E18-15E1EBC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EB71E2F-A823-480C-B7D4-A682C52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8A97E20-A7B5-48A0-A605-492F0877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F7EDC9C-5516-437C-890F-E5009B50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C5126EB-241E-4A34-A762-EE92536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216F221-8A41-4534-98A9-900872A9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60D82B4-8E5F-47E9-B384-C68C9DE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598A3A7-B288-426D-9898-956AE1E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A1305C2-7F54-41E0-8DFE-77A5FE5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E9B1E87-F91B-4860-A9B9-500CFDA8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292DCAC-C28F-4CC3-9994-46FED5B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A4590E-3C82-465D-B1CF-B1D935F9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D0A0233-A3C9-4B92-819D-6E46001B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774033-4406-4506-BB47-1CB2FA8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7F0-6CF6-40B2-96A9-4669D8E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3FC7C-4525-4E72-8353-642432E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68D35-102E-41ED-88C0-47652D8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D8F77-3D05-4B6D-9E62-E1B49656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CC429-DEF3-4C88-AC44-24624CFD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F7203-7C4F-495F-AA11-C8208EF7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170EE5-ECFA-439B-9D49-7950B1E5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EB5E5-6DE1-4293-AC65-776A45A2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39945B-3E64-4D64-AF56-4E499513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FA7B2B-D916-41A9-BEB4-5BBB70E2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EA582C-D549-4A92-912A-4419A96F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439-F569-4436-B1A3-D446392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DC0F1-DBFB-41D4-B6C6-704C271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1546A5-D130-4E97-B108-09B72B73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D6CA31-37AB-4B71-AAA1-9B05EEBB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5546B4-E6F4-4DD0-964D-937754F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51608-333E-4533-82BD-BB4EB0BA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D612B0B-3B64-43F2-A3CF-0BCBBE52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A65DC-1213-47DC-AB73-41E215F0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433739D-7119-482C-80C9-A8B09FC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A9D75B5-5781-4D29-A81B-0DA6A583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9F515A4-1A7A-4109-9974-19C3368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F4D9D66-F96F-403D-8FFB-1359FAA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CD5DEDC-A8C2-44E1-AB36-CD00E038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B474204-B52C-4B16-8863-BA2E8AC2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15978BD-96F0-4753-892E-2FC057A9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D116630-0831-40BE-983B-FBD73DA1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3389A2A-04B4-4FCD-B5C6-06FAD9BF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FA00BFF-C0D5-408C-A718-5170AA93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A0337-0239-498F-9EF4-D3B0ED51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ADC74253-CDE8-4467-B552-2307A053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781C8A1-21DF-470B-B1B7-2B45CCE7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A1CF900-7550-4C2F-8510-41A33FA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40FC732-3681-4AC3-AB9D-4B5D1259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E410204-6856-4CA1-9DCD-1817110F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2D23F70-1923-4839-A0A4-438B5916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D52DD70-0008-44FA-84EA-9185648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DA520E8-B2FC-406C-9D16-E5BCE71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772215D-3D6A-4727-9A60-8D21A8A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BD695C3-109F-4D7A-AD5A-21382DD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F959B-8BAE-4AC1-9436-A306BBB7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3EBE436-EF21-4790-B6EA-AF3877D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51A2817-EEAC-4194-BD39-547A7DA7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7CBFE7C-51E9-444D-B959-B9623FD6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EF1ABF2-B792-4468-8B50-CC68921F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8E9AF6D-D639-4396-A32B-61F0358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36E8FDA-8516-4EEB-9C44-1351DFA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F0ECA0A-45EB-441C-BDAF-24F9E46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D3F3EF9-2C3A-474D-B202-E34BA4A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FFBBCF6-97BA-44AB-8125-2B4B396D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218EC14-AF0D-4094-9C2A-8B4314D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BE321-068D-4CDF-ABD2-F5FDFACE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B6D4EF8D-AF2C-47A5-8019-79FB6E0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4346A6F-DEEB-4D9C-9790-E8B68AB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E659367-0278-4B03-BF44-06B30E8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66BEABB-7D22-48FD-93F7-295CED18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9547C01-52D5-426D-82FF-9C974A27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C07B698-39E5-4C29-9814-C42E5EA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EFAA2B9-59A6-4D01-870B-C4D5F0CC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F6FD97B-1864-43D7-B8F3-70AE542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81D4E38-3F9B-4355-8FBB-64941D51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46533DE-591F-45CA-8F5B-D9DD45F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003BE-83B6-42A0-9C23-3242FF76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CF1EAE2-C88F-4206-898F-546E6594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B666CA7-E62A-429E-8066-018570A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6529309-CC8D-432F-9996-AC82D1D2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5D9CD8F-66C1-4DB8-81ED-1F31ACD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9B2C1C2-33B6-460E-A3F1-34CD6A3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9E7AD43-3E5C-4EB7-8294-39FC5D5B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A095661-128B-45DB-89E9-FC9E7890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E3706C13-2CBE-4A91-A0F1-9D81B00E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E5872BFF-030E-4A2E-BBB1-2423E559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67AA434-E140-4016-936C-21E23CD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812B-1262-41E2-9B0B-27DD5B0A39A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BC46-8F81-4431-BF44-D247AD238B0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3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4238-9DA4-43BF-B0EB-472B98ACF41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7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FA13-129F-4002-B570-1E81434F868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2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E555-FE4D-4662-99F4-1C0363C25C6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6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F7C5-4661-475A-8C9E-DAFD203F3A3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0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3EF-AD2E-44AD-84C6-55CDA4B130A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5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CAD7-61E5-4BB7-8475-066DCF76A10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9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EA6-72F1-4828-A1D4-4C99FAD6098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4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AA41-2689-49B1-A2DE-E7152C64AFC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502-4410-4B69-9C2F-09CABE59889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2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7F08-9A29-459B-B862-5FCA226E402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7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900-8DB8-4E78-BF57-711C439DE292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1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FED-5274-4D43-A9B6-F8597E0D7241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6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4B6-BCE6-4D8A-B136-ABB4081DC73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07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7D0-25F7-4D21-BF18-41397970D25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2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C7C6-3E75-4222-9807-2A957BF6779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6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7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360F-0A3A-40E6-A970-B77240C4FB5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1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7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0A95-6481-4098-8287-2814A11E018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01F-5598-47B7-A1FF-0498CAF899B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5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0093-5C57-4B63-86F4-86B79C8E41B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9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8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9F63-5C6E-4227-A759-FA035DB393C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4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8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C06A-6EFB-4835-8096-6D624697352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8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9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3C4-4DD2-49F6-91ED-E5B73382F56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3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639-989A-4133-A9D4-BFE7D272722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7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E03B-65CB-4BD3-89B9-BE410E8AA22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1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D4B-1EF1-4A60-A501-58C31C2C5273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6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1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C99-AD53-46E2-A0D8-3791B201BA3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0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E2F2-5B4A-449E-B1FF-3237B50D857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5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1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B29D-A371-420B-9FEA-157420D0FE1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A2B5-E55D-4403-839E-F52E09F09C7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ftr" idx="1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165A-4815-43C6-A9A7-7DC5F928B0C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34B7-48D5-4B15-90E8-7FB73B47134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29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 type="sldNum" idx="142"/>
          </p:nvPr>
        </p:nvSpPr>
        <p:spPr>
          <a:xfrm>
            <a:off x="8305920" y="648648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A0C-F532-4CD0-A49B-D7C96EE90D4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1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F180-4DB3-45C6-B164-C797197B5224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 type="ftr" idx="1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dt" idx="1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 type="ftr" idx="1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 type="sldNum" idx="16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7837-C5EE-45C1-B50C-39079C172F88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 type="dt" idx="1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 type="ftr" idx="1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 type="dt" idx="1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 type="ftr" idx="1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5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19A0-B78F-4A3D-AD83-C66A11BB415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 type="dt" idx="1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 type="ftr" idx="1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1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1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 type="dt" idx="1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 type="ftr" idx="1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 type="dt" idx="1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 type="ftr" idx="1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 type="dt" idx="1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 type="ftr" idx="1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 type="dt" idx="1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 type="ftr" idx="1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0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73C5-B4EA-4B23-9C76-1835AA74342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0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 type="dt" idx="1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 type="ftr" idx="1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5"/>
          <p:cNvSpPr>
            <a:spLocks noGrp="1"/>
          </p:cNvSpPr>
          <p:nvPr>
            <p:ph type="sldNum" idx="1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28D-97B9-4544-ACCE-A3EC87D3A32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4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 type="dt" idx="1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 type="ftr" idx="1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 type="sldNum" idx="1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AAD9-D0F7-4DB5-ABEA-DD9A812342B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9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2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E28E-2113-411B-837A-D187A2B6C01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3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 type="dt" idx="2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4"/>
          <p:cNvSpPr>
            <a:spLocks noGrp="1"/>
          </p:cNvSpPr>
          <p:nvPr>
            <p:ph type="ftr" idx="2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5"/>
          <p:cNvSpPr>
            <a:spLocks noGrp="1"/>
          </p:cNvSpPr>
          <p:nvPr>
            <p:ph type="sldNum" idx="2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6A7-33E4-47FB-8531-ED23B35EE42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8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 type="dt" idx="2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 type="ftr" idx="2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 type="sldNum" idx="2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E63-0671-46A8-80A7-799D01181658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2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B03A-B360-48D4-AC18-D72FBCDB709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6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 type="dt" idx="2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4"/>
          <p:cNvSpPr>
            <a:spLocks noGrp="1"/>
          </p:cNvSpPr>
          <p:nvPr>
            <p:ph type="ftr" idx="2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5"/>
          <p:cNvSpPr>
            <a:spLocks noGrp="1"/>
          </p:cNvSpPr>
          <p:nvPr>
            <p:ph type="sldNum" idx="2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111-81F1-4CBD-BF97-EC10EB9689E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1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 type="dt" idx="2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 type="ftr" idx="2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 type="sldNum" idx="21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286E-7E7E-4C62-A773-60165D6652F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5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 type="dt" idx="2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 type="ftr" idx="2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5"/>
          <p:cNvSpPr>
            <a:spLocks noGrp="1"/>
          </p:cNvSpPr>
          <p:nvPr>
            <p:ph type="sldNum" idx="21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923-2D80-4BC7-BE18-CC8425BFFE1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 type="dt" idx="2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 type="ftr" idx="2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 type="sldNum" idx="22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E0D6-5746-4FD6-A4D5-BBDE22B74F2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D3C1-79C3-460A-A992-6C86109C963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4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 type="dt" idx="2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4"/>
          <p:cNvSpPr>
            <a:spLocks noGrp="1"/>
          </p:cNvSpPr>
          <p:nvPr>
            <p:ph type="ftr" idx="2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5"/>
          <p:cNvSpPr>
            <a:spLocks noGrp="1"/>
          </p:cNvSpPr>
          <p:nvPr>
            <p:ph type="sldNum" idx="22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6ED8-695A-4DB2-B7A1-65C71A0464B6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8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 type="dt" idx="2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 type="ftr" idx="2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 type="sldNum" idx="22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4103-BCFA-4FE3-9E92-A842F4E5300B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3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 type="dt" idx="2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 type="ftr" idx="2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5"/>
          <p:cNvSpPr>
            <a:spLocks noGrp="1"/>
          </p:cNvSpPr>
          <p:nvPr>
            <p:ph type="sldNum" idx="23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BA46-8798-429B-9A90-9C8CAD34460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7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 type="dt" idx="2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4"/>
          <p:cNvSpPr>
            <a:spLocks noGrp="1"/>
          </p:cNvSpPr>
          <p:nvPr>
            <p:ph type="ftr" idx="2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5"/>
          <p:cNvSpPr>
            <a:spLocks noGrp="1"/>
          </p:cNvSpPr>
          <p:nvPr>
            <p:ph type="sldNum" idx="23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BB73-D830-412C-BA9E-A6F583ADBF3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45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6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551C-1507-4505-A9A9-4A61C7F3405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슬라이드 번호 개체 틀 2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5C5-A777-4282-B263-207D770C6035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8" name="Picture 64" descr="표지변경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65" descr="별2"/>
          <p:cNvPicPr/>
          <p:nvPr/>
        </p:nvPicPr>
        <p:blipFill>
          <a:blip r:embed="rId2"/>
          <a:srcRect l="90810" t="0" r="0" b="-6977"/>
          <a:stretch/>
        </p:blipFill>
        <p:spPr>
          <a:xfrm>
            <a:off x="8118360" y="333360"/>
            <a:ext cx="358920" cy="58104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6" descr="별2"/>
          <p:cNvPicPr/>
          <p:nvPr/>
        </p:nvPicPr>
        <p:blipFill>
          <a:blip r:embed="rId3"/>
          <a:srcRect l="90810" t="0" r="0" b="-6977"/>
          <a:stretch/>
        </p:blipFill>
        <p:spPr>
          <a:xfrm>
            <a:off x="6300720" y="189000"/>
            <a:ext cx="32724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31" name="Rectangle 69"/>
          <p:cNvGrpSpPr/>
          <p:nvPr/>
        </p:nvGrpSpPr>
        <p:grpSpPr>
          <a:xfrm>
            <a:off x="-6480" y="2090880"/>
            <a:ext cx="9156960" cy="2496240"/>
            <a:chOff x="-6480" y="2090880"/>
            <a:chExt cx="9156960" cy="2496240"/>
          </a:xfrm>
        </p:grpSpPr>
        <p:pic>
          <p:nvPicPr>
            <p:cNvPr id="3932" name="Rectangle 69" descr=""/>
            <p:cNvPicPr/>
            <p:nvPr/>
          </p:nvPicPr>
          <p:blipFill>
            <a:blip r:embed="rId4"/>
            <a:stretch/>
          </p:blipFill>
          <p:spPr>
            <a:xfrm>
              <a:off x="-6480" y="2090880"/>
              <a:ext cx="9156960" cy="24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3" name="Text Box 10"/>
            <p:cNvSpPr/>
            <p:nvPr/>
          </p:nvSpPr>
          <p:spPr>
            <a:xfrm>
              <a:off x="0" y="2106720"/>
              <a:ext cx="9144000" cy="24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JCT-VC D221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Loop Filter with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Directional Similarity Mapping</a:t>
              </a:r>
              <a:br>
                <a:rPr sz="4400"/>
              </a:b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i="1" lang="en-US" sz="28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JCT-VC Meeting, Jan. 2011</a:t>
              </a:r>
              <a:br>
                <a:rPr sz="2800"/>
              </a:b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oLin Lai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elix C. Fernandes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amsung Electronics Co., Ltd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7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850" autoRev="1" fill="hold"/>
                                        <p:tgtEl>
                                          <p:spTgt spid="39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700"/>
                                        <p:tgtEl>
                                          <p:spTgt spid="39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850" autoRev="1" fill="hold"/>
                                        <p:tgtEl>
                                          <p:spTgt spid="39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 Similarity mapping in directional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1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6807-6E26-4959-81C0-ED3B4D9D08D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 txBox="1"/>
          <p:nvPr/>
        </p:nvSpPr>
        <p:spPr>
          <a:xfrm>
            <a:off x="469800" y="1130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combined filte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patial fil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as filter toward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neighb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fil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as filter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along 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ot across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mapping with hard-threshol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edges by not using pixels too different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be filtered, map its neighboring pixe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i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≤ σ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&gt; σ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 after mapp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d to calculate filter coefficie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while, valu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d to calculate filter coefficie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ulation result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again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MuC 0.9 with ALF = 0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1D9-8E31-42BB-91B1-7F974FE4085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5" name=""/>
          <p:cNvGraphicFramePr/>
          <p:nvPr/>
        </p:nvGraphicFramePr>
        <p:xfrm>
          <a:off x="431640" y="817560"/>
          <a:ext cx="5247000" cy="5983200"/>
        </p:xfrm>
        <a:graphic>
          <a:graphicData uri="http://schemas.openxmlformats.org/drawingml/2006/table">
            <a:tbl>
              <a:tblPr/>
              <a:tblGrid>
                <a:gridCol w="793800"/>
                <a:gridCol w="1338480"/>
                <a:gridCol w="585720"/>
                <a:gridCol w="642960"/>
                <a:gridCol w="498240"/>
                <a:gridCol w="185760"/>
                <a:gridCol w="327240"/>
                <a:gridCol w="601560"/>
                <a:gridCol w="273240"/>
              </a:tblGrid>
              <a:tr h="18288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H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 H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M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M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ffic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opleOnStree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mo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kScen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tu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ketballDriv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QTerrac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ketballDrill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QMall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yScen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Horse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ketballPas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QSquar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wingBubble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Horse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oding tim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%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%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%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%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6" name="TextBox 7"/>
          <p:cNvSpPr/>
          <p:nvPr/>
        </p:nvSpPr>
        <p:spPr>
          <a:xfrm>
            <a:off x="5676840" y="5227560"/>
            <a:ext cx="33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c8c93"/>
                </a:solidFill>
                <a:latin typeface="Arial"/>
              </a:rPr>
              <a:t>No control map </a:t>
            </a:r>
            <a:br>
              <a:rPr sz="2400"/>
            </a:br>
            <a:r>
              <a:rPr b="1" i="1" lang="en-US" sz="2400" spc="-1" strike="noStrike">
                <a:solidFill>
                  <a:srgbClr val="3c8c93"/>
                </a:solidFill>
                <a:latin typeface="Arial"/>
              </a:rPr>
              <a:t>used ye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ual quality improvements 1: Intr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7B5-14DD-48C0-A8B9-E04E01B50BA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9" name="Picture 2" descr=""/>
          <p:cNvPicPr/>
          <p:nvPr/>
        </p:nvPicPr>
        <p:blipFill>
          <a:blip r:embed="rId1"/>
          <a:stretch/>
        </p:blipFill>
        <p:spPr>
          <a:xfrm>
            <a:off x="68400" y="1828800"/>
            <a:ext cx="8953200" cy="4113360"/>
          </a:xfrm>
          <a:prstGeom prst="rect">
            <a:avLst/>
          </a:prstGeom>
          <a:ln w="0">
            <a:noFill/>
          </a:ln>
        </p:spPr>
      </p:pic>
      <p:sp>
        <p:nvSpPr>
          <p:cNvPr id="4000" name="TextBox 6"/>
          <p:cNvSpPr/>
          <p:nvPr/>
        </p:nvSpPr>
        <p:spPr>
          <a:xfrm>
            <a:off x="2048040" y="873000"/>
            <a:ext cx="51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ketballdrill, QP 3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TextBox 5"/>
          <p:cNvSpPr/>
          <p:nvPr/>
        </p:nvSpPr>
        <p:spPr>
          <a:xfrm>
            <a:off x="876960" y="5732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TextBox 6"/>
          <p:cNvSpPr/>
          <p:nvPr/>
        </p:nvSpPr>
        <p:spPr>
          <a:xfrm>
            <a:off x="702360" y="1571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TextBox 7"/>
          <p:cNvSpPr/>
          <p:nvPr/>
        </p:nvSpPr>
        <p:spPr>
          <a:xfrm>
            <a:off x="5221800" y="5559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TextBox 8"/>
          <p:cNvSpPr/>
          <p:nvPr/>
        </p:nvSpPr>
        <p:spPr>
          <a:xfrm>
            <a:off x="2520360" y="1587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S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TextBox 9"/>
          <p:cNvSpPr/>
          <p:nvPr/>
        </p:nvSpPr>
        <p:spPr>
          <a:xfrm>
            <a:off x="2372760" y="5724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S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TextBox 10"/>
          <p:cNvSpPr/>
          <p:nvPr/>
        </p:nvSpPr>
        <p:spPr>
          <a:xfrm>
            <a:off x="7490160" y="5575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S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ual quality improvements 2: R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8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4AB3-283C-4F54-B67D-41F902BC892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TextBox 6"/>
          <p:cNvSpPr/>
          <p:nvPr/>
        </p:nvSpPr>
        <p:spPr>
          <a:xfrm>
            <a:off x="409680" y="873000"/>
            <a:ext cx="83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                                         ALF QP 32                       DSM QP 32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0" name="Picture 5" descr=""/>
          <p:cNvPicPr/>
          <p:nvPr/>
        </p:nvPicPr>
        <p:blipFill>
          <a:blip r:embed="rId1"/>
          <a:srcRect l="0" t="0" r="5570" b="38582"/>
          <a:stretch/>
        </p:blipFill>
        <p:spPr>
          <a:xfrm>
            <a:off x="333360" y="1590840"/>
            <a:ext cx="8427960" cy="3132000"/>
          </a:xfrm>
          <a:prstGeom prst="rect">
            <a:avLst/>
          </a:prstGeom>
          <a:ln w="0">
            <a:noFill/>
          </a:ln>
        </p:spPr>
      </p:pic>
      <p:sp>
        <p:nvSpPr>
          <p:cNvPr id="4011" name="Oval 5"/>
          <p:cNvSpPr/>
          <p:nvPr/>
        </p:nvSpPr>
        <p:spPr>
          <a:xfrm>
            <a:off x="4505400" y="3532320"/>
            <a:ext cx="487440" cy="97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Oval 6"/>
          <p:cNvSpPr/>
          <p:nvPr/>
        </p:nvSpPr>
        <p:spPr>
          <a:xfrm>
            <a:off x="7115040" y="3548160"/>
            <a:ext cx="487440" cy="97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Oval 7"/>
          <p:cNvSpPr/>
          <p:nvPr/>
        </p:nvSpPr>
        <p:spPr>
          <a:xfrm>
            <a:off x="5095800" y="3341520"/>
            <a:ext cx="63684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Oval 8"/>
          <p:cNvSpPr/>
          <p:nvPr/>
        </p:nvSpPr>
        <p:spPr>
          <a:xfrm>
            <a:off x="7704000" y="3357720"/>
            <a:ext cx="63684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Oval 9"/>
          <p:cNvSpPr/>
          <p:nvPr/>
        </p:nvSpPr>
        <p:spPr>
          <a:xfrm>
            <a:off x="4681440" y="2087640"/>
            <a:ext cx="43668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Oval 10"/>
          <p:cNvSpPr/>
          <p:nvPr/>
        </p:nvSpPr>
        <p:spPr>
          <a:xfrm>
            <a:off x="7289640" y="2103480"/>
            <a:ext cx="43668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7" name="Picture 12" descr=""/>
          <p:cNvPicPr/>
          <p:nvPr/>
        </p:nvPicPr>
        <p:blipFill>
          <a:blip r:embed="rId1"/>
          <a:stretch/>
        </p:blipFill>
        <p:spPr>
          <a:xfrm>
            <a:off x="27000" y="1585800"/>
            <a:ext cx="9083520" cy="4256280"/>
          </a:xfrm>
          <a:prstGeom prst="rect">
            <a:avLst/>
          </a:prstGeom>
          <a:ln w="0">
            <a:noFill/>
          </a:ln>
        </p:spPr>
      </p:pic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ual quality improvements 2: R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7AD-40AF-4AC9-90C5-940CB426F0B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TextBox 6"/>
          <p:cNvSpPr/>
          <p:nvPr/>
        </p:nvSpPr>
        <p:spPr>
          <a:xfrm>
            <a:off x="409680" y="873000"/>
            <a:ext cx="83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                                         ALF QP 32                       DSM QP 32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Oval 5"/>
          <p:cNvSpPr/>
          <p:nvPr/>
        </p:nvSpPr>
        <p:spPr>
          <a:xfrm>
            <a:off x="4954680" y="4025880"/>
            <a:ext cx="94140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Oval 6"/>
          <p:cNvSpPr/>
          <p:nvPr/>
        </p:nvSpPr>
        <p:spPr>
          <a:xfrm>
            <a:off x="7877160" y="4041720"/>
            <a:ext cx="94140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Oval 7"/>
          <p:cNvSpPr/>
          <p:nvPr/>
        </p:nvSpPr>
        <p:spPr>
          <a:xfrm>
            <a:off x="4708440" y="1585800"/>
            <a:ext cx="614520" cy="1252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Oval 8"/>
          <p:cNvSpPr/>
          <p:nvPr/>
        </p:nvSpPr>
        <p:spPr>
          <a:xfrm>
            <a:off x="7604280" y="1601640"/>
            <a:ext cx="614160" cy="1252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Oval 9"/>
          <p:cNvSpPr/>
          <p:nvPr/>
        </p:nvSpPr>
        <p:spPr>
          <a:xfrm>
            <a:off x="4343400" y="4121280"/>
            <a:ext cx="614520" cy="944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Oval 10"/>
          <p:cNvSpPr/>
          <p:nvPr/>
        </p:nvSpPr>
        <p:spPr>
          <a:xfrm>
            <a:off x="7238880" y="4137120"/>
            <a:ext cx="614520" cy="944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8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14F-7ED0-4248-93B1-9E8B199D5DC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 txBox="1"/>
          <p:nvPr/>
        </p:nvSpPr>
        <p:spPr>
          <a:xfrm>
            <a:off x="469800" y="1130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mputational complexity &amp; memory bandwid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Use only 4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Worst case 7x7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visual quality around edg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597a0"/>
                </a:solidFill>
                <a:latin typeface="Arial"/>
              </a:rPr>
              <a:t>Exploit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edge dire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adaptation based on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direction of local gra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linear spatial filter and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direc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ilarity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to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avoid filter across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C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filter with D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efficients from 7x7d to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5x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with CU synchronous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control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lter design 5x5 diamo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1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848-08DB-4825-BA28-967710BF50C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6"/>
          <p:cNvSpPr/>
          <p:nvPr/>
        </p:nvSpPr>
        <p:spPr>
          <a:xfrm>
            <a:off x="7246800" y="2894040"/>
            <a:ext cx="532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TextBox 7"/>
          <p:cNvSpPr/>
          <p:nvPr/>
        </p:nvSpPr>
        <p:spPr>
          <a:xfrm>
            <a:off x="341280" y="2592360"/>
            <a:ext cx="8597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 coeff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4" name="Picture 4" descr=""/>
          <p:cNvPicPr/>
          <p:nvPr/>
        </p:nvPicPr>
        <p:blipFill>
          <a:blip r:embed="rId1"/>
          <a:stretch/>
        </p:blipFill>
        <p:spPr>
          <a:xfrm>
            <a:off x="326880" y="1122480"/>
            <a:ext cx="3835440" cy="1338120"/>
          </a:xfrm>
          <a:prstGeom prst="rect">
            <a:avLst/>
          </a:prstGeom>
          <a:ln w="0">
            <a:noFill/>
          </a:ln>
        </p:spPr>
      </p:pic>
      <p:pic>
        <p:nvPicPr>
          <p:cNvPr id="4035" name="Picture 5" descr=""/>
          <p:cNvPicPr/>
          <p:nvPr/>
        </p:nvPicPr>
        <p:blipFill>
          <a:blip r:embed="rId2"/>
          <a:stretch/>
        </p:blipFill>
        <p:spPr>
          <a:xfrm>
            <a:off x="5254560" y="923760"/>
            <a:ext cx="3419640" cy="1641600"/>
          </a:xfrm>
          <a:prstGeom prst="rect">
            <a:avLst/>
          </a:prstGeom>
          <a:ln w="0">
            <a:noFill/>
          </a:ln>
        </p:spPr>
      </p:pic>
      <p:pic>
        <p:nvPicPr>
          <p:cNvPr id="4036" name="Picture 6" descr=""/>
          <p:cNvPicPr/>
          <p:nvPr/>
        </p:nvPicPr>
        <p:blipFill>
          <a:blip r:embed="rId3"/>
          <a:stretch/>
        </p:blipFill>
        <p:spPr>
          <a:xfrm>
            <a:off x="380880" y="3884760"/>
            <a:ext cx="3645000" cy="1409400"/>
          </a:xfrm>
          <a:prstGeom prst="rect">
            <a:avLst/>
          </a:prstGeom>
          <a:ln w="0">
            <a:noFill/>
          </a:ln>
        </p:spPr>
      </p:pic>
      <p:pic>
        <p:nvPicPr>
          <p:cNvPr id="4037" name="Picture 7" descr=""/>
          <p:cNvPicPr/>
          <p:nvPr/>
        </p:nvPicPr>
        <p:blipFill>
          <a:blip r:embed="rId4"/>
          <a:stretch/>
        </p:blipFill>
        <p:spPr>
          <a:xfrm>
            <a:off x="5227560" y="3946680"/>
            <a:ext cx="3726000" cy="1328760"/>
          </a:xfrm>
          <a:prstGeom prst="rect">
            <a:avLst/>
          </a:prstGeom>
          <a:ln w="0">
            <a:noFill/>
          </a:ln>
        </p:spPr>
      </p:pic>
      <p:sp>
        <p:nvSpPr>
          <p:cNvPr id="4038" name="TextBox 16"/>
          <p:cNvSpPr/>
          <p:nvPr/>
        </p:nvSpPr>
        <p:spPr>
          <a:xfrm>
            <a:off x="343080" y="5407200"/>
            <a:ext cx="8597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3 coeff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3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F742-5A19-46D2-B387-5F3B356B85F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 txBox="1"/>
          <p:nvPr/>
        </p:nvSpPr>
        <p:spPr>
          <a:xfrm>
            <a:off x="46980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ALF in TMuC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ilter with directional similarity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F in TMuC 0.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8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82E6-C188-4E1F-857C-DF4CA970DEF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 txBox="1"/>
          <p:nvPr/>
        </p:nvSpPr>
        <p:spPr>
          <a:xfrm>
            <a:off x="46980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s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U synchronous on/off control map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filter coefficients for the selecte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encoding passes: C082, C113, C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case 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ters, 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9x9 diamo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issues in 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edge preser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ringing arti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ketballDr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P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0" name="Picture 2" descr=""/>
          <p:cNvPicPr/>
          <p:nvPr/>
        </p:nvPicPr>
        <p:blipFill>
          <a:blip r:embed="rId1"/>
          <a:srcRect l="0" t="0" r="78970" b="54550"/>
          <a:stretch/>
        </p:blipFill>
        <p:spPr>
          <a:xfrm>
            <a:off x="4572000" y="4913280"/>
            <a:ext cx="1882800" cy="1870200"/>
          </a:xfrm>
          <a:prstGeom prst="rect">
            <a:avLst/>
          </a:prstGeom>
          <a:ln w="0">
            <a:noFill/>
          </a:ln>
        </p:spPr>
      </p:pic>
      <p:pic>
        <p:nvPicPr>
          <p:cNvPr id="3941" name="Picture 2" descr=""/>
          <p:cNvPicPr/>
          <p:nvPr/>
        </p:nvPicPr>
        <p:blipFill>
          <a:blip r:embed="rId2"/>
          <a:srcRect l="53199" t="7633" r="26072" b="13566"/>
          <a:stretch/>
        </p:blipFill>
        <p:spPr>
          <a:xfrm>
            <a:off x="6578640" y="3259080"/>
            <a:ext cx="197784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lter design with directional similarity ma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3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3AE-A6BB-46DB-9F5B-FC05B8B1597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 txBox="1"/>
          <p:nvPr/>
        </p:nvSpPr>
        <p:spPr>
          <a:xfrm>
            <a:off x="469800" y="1130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mputational complexity &amp; memory bandwid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Use only 4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Worst case 7x7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visual quality around edg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597a0"/>
                </a:solidFill>
                <a:latin typeface="Arial"/>
              </a:rPr>
              <a:t>Exploit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edge dire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patial filter, hor / ver symmetric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with </a:t>
            </a:r>
            <a:r>
              <a:rPr b="0" lang="en-US" sz="2000" spc="-1" strike="noStrike">
                <a:solidFill>
                  <a:srgbClr val="4597a0"/>
                </a:solidFill>
                <a:latin typeface="Arial"/>
              </a:rPr>
              <a:t>simplified similarity mapping, direction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nd enhanced version 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Liu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M17171, ICME 20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adaptation based on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dir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cal gra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design considering directional feature and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y mapping using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simple hard-threshol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sor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Pixel adap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3E45-8327-45F1-897B-5CDAE2FD8BC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 txBox="1"/>
          <p:nvPr/>
        </p:nvSpPr>
        <p:spPr>
          <a:xfrm>
            <a:off x="469800" y="1130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ix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 directions: hor, ver,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wn,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pixel to Directional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_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in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rad_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grad_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grad_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grad_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}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_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_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_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_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_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_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_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_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9" name="Object 1"/>
          <p:cNvGraphicFramePr/>
          <p:nvPr/>
        </p:nvGraphicFramePr>
        <p:xfrm>
          <a:off x="1214280" y="1609560"/>
          <a:ext cx="640404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09560"/>
                    <a:ext cx="640404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Pixel adaptation -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B39E-31DD-4E8F-9142-036DAA5D5C7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 txBox="1"/>
          <p:nvPr/>
        </p:nvSpPr>
        <p:spPr>
          <a:xfrm>
            <a:off x="469800" y="869760"/>
            <a:ext cx="82296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Arial"/>
              </a:rPr>
              <a:t>Dominant edge / featur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wingbub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5" name="Object 1"/>
          <p:cNvGraphicFramePr/>
          <p:nvPr/>
        </p:nvGraphicFramePr>
        <p:xfrm>
          <a:off x="777960" y="2033640"/>
          <a:ext cx="738180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033640"/>
                    <a:ext cx="738180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Filter design: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_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,b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_v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,b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5297-7497-4210-849B-6D1CCC0BC6C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 txBox="1"/>
          <p:nvPr/>
        </p:nvSpPr>
        <p:spPr>
          <a:xfrm>
            <a:off x="469800" y="85680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spatial and directional parts (7x7d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0" name="Picture 2" descr=""/>
          <p:cNvPicPr/>
          <p:nvPr/>
        </p:nvPicPr>
        <p:blipFill>
          <a:blip r:embed="rId1"/>
          <a:stretch/>
        </p:blipFill>
        <p:spPr>
          <a:xfrm>
            <a:off x="723960" y="1324080"/>
            <a:ext cx="7300800" cy="2469960"/>
          </a:xfrm>
          <a:prstGeom prst="rect">
            <a:avLst/>
          </a:prstGeom>
          <a:ln w="0">
            <a:noFill/>
          </a:ln>
        </p:spPr>
      </p:pic>
      <p:pic>
        <p:nvPicPr>
          <p:cNvPr id="3961" name="Picture 3" descr=""/>
          <p:cNvPicPr/>
          <p:nvPr/>
        </p:nvPicPr>
        <p:blipFill>
          <a:blip r:embed="rId2"/>
          <a:stretch/>
        </p:blipFill>
        <p:spPr>
          <a:xfrm>
            <a:off x="723960" y="3949560"/>
            <a:ext cx="7288200" cy="2854440"/>
          </a:xfrm>
          <a:prstGeom prst="rect">
            <a:avLst/>
          </a:prstGeom>
          <a:ln w="0">
            <a:noFill/>
          </a:ln>
        </p:spPr>
      </p:pic>
      <p:sp>
        <p:nvSpPr>
          <p:cNvPr id="3962" name="Rectangle 6"/>
          <p:cNvSpPr/>
          <p:nvPr/>
        </p:nvSpPr>
        <p:spPr>
          <a:xfrm>
            <a:off x="7246800" y="2894040"/>
            <a:ext cx="532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Box 7"/>
          <p:cNvSpPr/>
          <p:nvPr/>
        </p:nvSpPr>
        <p:spPr>
          <a:xfrm>
            <a:off x="258840" y="3384720"/>
            <a:ext cx="88851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linear 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rectional filter       25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TextBox 9"/>
          <p:cNvSpPr/>
          <p:nvPr/>
        </p:nvSpPr>
        <p:spPr>
          <a:xfrm>
            <a:off x="262080" y="6416640"/>
            <a:ext cx="8883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linear 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rectional filter       25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Filter design: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_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,b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_u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,b</a:t>
            </a:r>
            <a:r>
              <a:rPr b="1" i="1" lang="en-US" sz="3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6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D37F-6BCA-4169-A624-E396EC4BD03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 txBox="1"/>
          <p:nvPr/>
        </p:nvSpPr>
        <p:spPr>
          <a:xfrm>
            <a:off x="469800" y="85680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spatial and directional parts (7x7d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8" name="Picture 2" descr=""/>
          <p:cNvPicPr/>
          <p:nvPr/>
        </p:nvPicPr>
        <p:blipFill>
          <a:blip r:embed="rId1"/>
          <a:stretch/>
        </p:blipFill>
        <p:spPr>
          <a:xfrm>
            <a:off x="668160" y="1351080"/>
            <a:ext cx="7345440" cy="2511360"/>
          </a:xfrm>
          <a:prstGeom prst="rect">
            <a:avLst/>
          </a:prstGeom>
          <a:ln w="0">
            <a:noFill/>
          </a:ln>
        </p:spPr>
      </p:pic>
      <p:pic>
        <p:nvPicPr>
          <p:cNvPr id="3969" name="Picture 3" descr=""/>
          <p:cNvPicPr/>
          <p:nvPr/>
        </p:nvPicPr>
        <p:blipFill>
          <a:blip r:embed="rId2"/>
          <a:stretch/>
        </p:blipFill>
        <p:spPr>
          <a:xfrm>
            <a:off x="695160" y="4148280"/>
            <a:ext cx="7297920" cy="2546280"/>
          </a:xfrm>
          <a:prstGeom prst="rect">
            <a:avLst/>
          </a:prstGeom>
          <a:ln w="0">
            <a:noFill/>
          </a:ln>
        </p:spPr>
      </p:pic>
      <p:sp>
        <p:nvSpPr>
          <p:cNvPr id="3970" name="TextBox 8"/>
          <p:cNvSpPr/>
          <p:nvPr/>
        </p:nvSpPr>
        <p:spPr>
          <a:xfrm>
            <a:off x="258840" y="3438360"/>
            <a:ext cx="88851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linear 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rectional filter       23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Box 9"/>
          <p:cNvSpPr/>
          <p:nvPr/>
        </p:nvSpPr>
        <p:spPr>
          <a:xfrm>
            <a:off x="262080" y="6307200"/>
            <a:ext cx="8883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_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linear 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rectional filter       23 coeff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 Similarity mapping in directional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F836-4817-4497-A2EC-2AE42A35891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 txBox="1"/>
          <p:nvPr/>
        </p:nvSpPr>
        <p:spPr>
          <a:xfrm>
            <a:off x="469800" y="1130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combined filte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patial fil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as filter toward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neighb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fil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as filter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along 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ot across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mapping with hard-threshol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edges by not using pixels too different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be filtered, map its neighboring pixe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i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≤ σ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&gt; σ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5" name="Straight Arrow Connector 5"/>
          <p:cNvCxnSpPr/>
          <p:nvPr/>
        </p:nvCxnSpPr>
        <p:spPr>
          <a:xfrm>
            <a:off x="3766680" y="6291360"/>
            <a:ext cx="2320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6" name="Straight Arrow Connector 7"/>
          <p:cNvCxnSpPr/>
          <p:nvPr/>
        </p:nvCxnSpPr>
        <p:spPr>
          <a:xfrm flipH="1" flipV="1">
            <a:off x="3766320" y="4734720"/>
            <a:ext cx="1080" cy="1570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77" name="Straight Connector 12"/>
          <p:cNvSpPr/>
          <p:nvPr/>
        </p:nvSpPr>
        <p:spPr>
          <a:xfrm flipV="1">
            <a:off x="4475880" y="5076360"/>
            <a:ext cx="490680" cy="5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Straight Connector 19"/>
          <p:cNvSpPr/>
          <p:nvPr/>
        </p:nvSpPr>
        <p:spPr>
          <a:xfrm>
            <a:off x="4749120" y="5322960"/>
            <a:ext cx="12600" cy="9824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TextBox 28"/>
          <p:cNvSpPr/>
          <p:nvPr/>
        </p:nvSpPr>
        <p:spPr>
          <a:xfrm>
            <a:off x="6127920" y="6168960"/>
            <a:ext cx="61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TextBox 29"/>
          <p:cNvSpPr/>
          <p:nvPr/>
        </p:nvSpPr>
        <p:spPr>
          <a:xfrm>
            <a:off x="3236760" y="4641840"/>
            <a:ext cx="61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TextBox 30"/>
          <p:cNvSpPr/>
          <p:nvPr/>
        </p:nvSpPr>
        <p:spPr>
          <a:xfrm>
            <a:off x="4451400" y="6253200"/>
            <a:ext cx="9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TextBox 31"/>
          <p:cNvSpPr/>
          <p:nvPr/>
        </p:nvSpPr>
        <p:spPr>
          <a:xfrm>
            <a:off x="3225960" y="5164200"/>
            <a:ext cx="91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Straight Connector 32"/>
          <p:cNvSpPr/>
          <p:nvPr/>
        </p:nvSpPr>
        <p:spPr>
          <a:xfrm flipV="1">
            <a:off x="4997520" y="5335200"/>
            <a:ext cx="830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Straight Connector 44"/>
          <p:cNvSpPr/>
          <p:nvPr/>
        </p:nvSpPr>
        <p:spPr>
          <a:xfrm flipV="1">
            <a:off x="3768120" y="5581800"/>
            <a:ext cx="693720" cy="6984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Straight Connector 51"/>
          <p:cNvSpPr/>
          <p:nvPr/>
        </p:nvSpPr>
        <p:spPr>
          <a:xfrm flipV="1">
            <a:off x="3784680" y="5335200"/>
            <a:ext cx="66492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TextBox 53"/>
          <p:cNvSpPr/>
          <p:nvPr/>
        </p:nvSpPr>
        <p:spPr>
          <a:xfrm>
            <a:off x="4808520" y="6500880"/>
            <a:ext cx="11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σ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TextBox 54"/>
          <p:cNvSpPr/>
          <p:nvPr/>
        </p:nvSpPr>
        <p:spPr>
          <a:xfrm>
            <a:off x="3664080" y="6489720"/>
            <a:ext cx="11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σ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Straight Connector 55"/>
          <p:cNvSpPr/>
          <p:nvPr/>
        </p:nvSpPr>
        <p:spPr>
          <a:xfrm>
            <a:off x="4997520" y="5311800"/>
            <a:ext cx="25200" cy="13208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Straight Connector 58"/>
          <p:cNvSpPr/>
          <p:nvPr/>
        </p:nvSpPr>
        <p:spPr>
          <a:xfrm>
            <a:off x="4481640" y="5300640"/>
            <a:ext cx="23760" cy="13208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02:16:24Z</dcterms:created>
  <dc:creator>WSL</dc:creator>
  <dc:description/>
  <dc:language>en-US</dc:language>
  <cp:lastModifiedBy>wlai</cp:lastModifiedBy>
  <dcterms:modified xsi:type="dcterms:W3CDTF">2011-01-25T03:53:53Z</dcterms:modified>
  <cp:revision>5531</cp:revision>
  <dc:subject>RF/Modem Workshop</dc:subject>
  <dc:title>WSL Introduction - Status</dc:title>
</cp:coreProperties>
</file>