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8440" indent="0">
              <a:spcBef>
                <a:spcPts val="326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8440" indent="0">
              <a:spcBef>
                <a:spcPts val="326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8440" indent="0">
              <a:spcBef>
                <a:spcPts val="326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8440" indent="0">
              <a:spcBef>
                <a:spcPts val="326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01720" y="6480000"/>
            <a:ext cx="463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BC MM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0">
              <a:spcBef>
                <a:spcPts val="675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00160" indent="0" algn="ctr">
              <a:spcBef>
                <a:spcPts val="425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396720" algn="ctr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596880" indent="-200160" algn="ctr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797040" indent="-400320" algn="ctr">
              <a:spcBef>
                <a:spcPts val="42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797040" indent="-4003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797040" indent="-40032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1720" y="6480000"/>
            <a:ext cx="463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BC MM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JCTVC-D219: Unified scan for high efficiency coefficient co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3887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720" indent="0">
              <a:spcBef>
                <a:spcPts val="675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omas Dav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ied scan + ACS performanc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28720" y="1630440"/>
          <a:ext cx="7705440" cy="2880360"/>
        </p:xfrm>
        <a:graphic>
          <a:graphicData uri="http://schemas.openxmlformats.org/drawingml/2006/table">
            <a:tbl>
              <a:tblPr/>
              <a:tblGrid>
                <a:gridCol w="1995120"/>
                <a:gridCol w="951480"/>
                <a:gridCol w="951840"/>
                <a:gridCol w="952200"/>
                <a:gridCol w="951480"/>
                <a:gridCol w="951840"/>
                <a:gridCol w="951480"/>
              </a:tblGrid>
              <a:tr h="574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CS + Unified sc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E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E 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E 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ied scan + Optimized ACS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55640" y="1630440"/>
          <a:ext cx="7773480" cy="2807640"/>
        </p:xfrm>
        <a:graphic>
          <a:graphicData uri="http://schemas.openxmlformats.org/drawingml/2006/table">
            <a:tbl>
              <a:tblPr/>
              <a:tblGrid>
                <a:gridCol w="2012760"/>
                <a:gridCol w="959760"/>
                <a:gridCol w="960480"/>
                <a:gridCol w="960480"/>
                <a:gridCol w="959760"/>
                <a:gridCol w="960480"/>
                <a:gridCol w="959760"/>
              </a:tblGrid>
              <a:tr h="559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ptimized 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ptimized ACS + Unified sc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D-R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E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E 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E 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HHI_TRANSFORM_CODING and Parallel Context Processing methods for coefficient coding have several scanning too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Adaptive Coefficient Scanning (ACS) has been proposed and provides good gai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 of this contribution is to review the various scanning tools and propose a unified core scan which gives a good trade-off between performance and complexity. This removes the separate sub-block level/sign scan and the adaptive diagonal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fied scan provides reduced complexity with an average BD-R loss of 0.2-0.5% for intra, 0.0-0.2% for RA and 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 of this loss comes from losing adaptive diagonal scan, 1/3 from losing separate sub-block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0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ing features of current HHI_TRANSFORM_CODING and PCP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ce and last flags are forward-scanned across the whole block using a diagonally-based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sig/last scan is adapted per diagonal based on upper/lower counts of significant coefficien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nd sign are separately scanned, using a different sub-block-based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evel/s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s a reverse scan within each sub-block to improve context adaptiv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vel/sig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-block decoding is split into 2 passes to allow for Parallel Context Process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ing features of current HHI_TRANSFORM_CODING and PCP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ce and last flags are forward-scanned across the whole block using a diagonally-based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agonal sig/last scan is adapted per diagonal based on upper/lower counts of significant coefficien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and sign are separately scanned, using a different sub-block-based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vel/sign scan is a reverse scan within each sub-block to improve context adaptiv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2708c"/>
              </a:buClr>
              <a:buFont typeface="Arial"/>
              <a:buAutoNum type="arabicPeriod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evel/sign sub-block decoding is split into 2 passes to allow for Parallel Context Process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ity issues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 into a TU is ineffici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asses over the whole T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deterministic data access with adaptive diagonal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can patterns imply different optimum data order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o work on the most local set of data possible at any one tim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take data re-ordering outside of the inner coding loo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ied scan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order of performance, the scanning tools are (gains are for intra)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erse-scanning level data by sub-unit (~0.5%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ive diagonal scan (~0.3-0.4%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sub-blocks for level data, instead of zig-zag (~0.1-0.2% for Intra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P (no effect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fied scan design is chunk-based. It takes the first and last feature but drops the other two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basic (e.g. zig-zag) scan, divided into chunks of size &lt;= 16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ward scan each chunk for significant/last coefficients, determine significant chunks on the f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erse-scan each significant chunk for level/sign using PC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ied chunk-based scan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2720" y="1557360"/>
            <a:ext cx="3281400" cy="3311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356000" y="2278080"/>
            <a:ext cx="424836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performance of unified chunk scan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1295280"/>
          <a:ext cx="7774200" cy="3791160"/>
        </p:xfrm>
        <a:graphic>
          <a:graphicData uri="http://schemas.openxmlformats.org/drawingml/2006/table">
            <a:tbl>
              <a:tblPr/>
              <a:tblGrid>
                <a:gridCol w="1943280"/>
                <a:gridCol w="1944720"/>
                <a:gridCol w="1942920"/>
                <a:gridCol w="194328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: 98%,       Dec Time 10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: 101%,     Dec Time 10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: 99%,     Dec Time: 10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Coefficient Scan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 ACS has been proposed (JCTVC-D360), with 3 basic scan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5096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ig-zag, replacing adaptive diagonal (although this can be enabled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5096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5096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features of HHI_TRANSFORM_CODING and PCP scanning are preserved (1, 3-5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S is available in 2 mode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5096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gnall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ll scanning modes are evaluated, and mode is always signall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5096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scanning modes are pre-determined for intra 4x4 and 8x8 bloc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ins of ACS are 1.2%, 0.5%, 0.6% respectively, for Intra, RA and 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ins of Optimized ACS are 1.0%, 0.6%, 0.6% for Intra, RA, and 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thomasd</cp:lastModifiedBy>
  <dcterms:modified xsi:type="dcterms:W3CDTF">2011-01-21T11:19:26Z</dcterms:modified>
  <cp:revision>51</cp:revision>
  <dc:subject/>
  <dc:title>Presentation title</dc:title>
</cp:coreProperties>
</file>