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D70D-32D9-4A63-8EB3-B22E3EA0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8229-1CF3-4443-9BAA-3A7E3FE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9235-16B7-4EE7-938B-927D4265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BDD7-0045-41E7-8384-7D099E8E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A1DD3-C6BB-4E66-99FB-355AD080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FAC0D-2AF2-4E61-8B29-982A6B95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6E571-8AF5-4742-891A-C293645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6F2CF-B529-4CB5-9182-3EE0ECFD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F4550-D47A-4564-87AD-99209873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6160" y="57240"/>
            <a:ext cx="884232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D7F02-6B33-45E0-9AF5-BFD64FB4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7A5BA-CDC9-42D3-BE50-F3C8371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81BE-A6A3-4E43-BFCE-ED1F59D3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D48BD-1027-4A49-83E6-4124287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4B57-D68F-4367-8278-CF9802A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E2D6C-FE6A-40C2-8868-AD0486F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CD88E-1702-4531-8C39-384E73B2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94F64-C914-44D3-A31D-EEFCA3D7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3AD2-F0FA-4D62-8E7C-77ABFAD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5484-9F3D-48C9-8E63-FC7AC180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271D-3E51-41C1-B514-92D9BDC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6160" y="57240"/>
            <a:ext cx="884232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29C2-135D-4DD2-821E-A109D4B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5AA7-65B4-403D-BDAB-B789263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0566-F6BA-4000-AB43-661E178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04FD-3E3E-4823-BE53-688EC189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764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31120" y="6375600"/>
            <a:ext cx="609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lide </a:t>
            </a:r>
            <a:fld id="{DBECE8AC-6276-4615-9910-30E9C93D30A1}" type="slidenum"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80000" y="6478920"/>
            <a:ext cx="9507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5DB2-8966-479D-A959-80AD105BA189}" type="datetime5">
              <a: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026年7月29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380000" y="6735600"/>
            <a:ext cx="1560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708360" y="6545160"/>
            <a:ext cx="2374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JCTVC-D217_r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331120" y="6375600"/>
            <a:ext cx="609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lide </a:t>
            </a:r>
            <a:fld id="{A87D635F-291E-42F6-9AD9-6702873DA404}" type="slidenum">
              <a:rPr b="0" lang="en-US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5"/>
          </p:nvPr>
        </p:nvSpPr>
        <p:spPr>
          <a:xfrm>
            <a:off x="7380000" y="6478920"/>
            <a:ext cx="9507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1C1F-F9E5-4824-8E74-6DD7471E4548}" type="datetime5">
              <a:rPr b="0" lang="ja-JP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026年7月29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6"/>
          </p:nvPr>
        </p:nvSpPr>
        <p:spPr>
          <a:xfrm>
            <a:off x="7380000" y="6735600"/>
            <a:ext cx="1560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6545160"/>
            <a:ext cx="2374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JCTVC-D217_r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evc.kw.bbc.co.uk/trac/browser/branches/0.8-panasoni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05000"/>
            <a:ext cx="883944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E 8: Results for adaptive loop filter using prediction and residual (3-Input-ALF)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426888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emih Esenlik, Matthias Narroschke, Thomas Wed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E9E95-78FA-4E1D-8A39-17E2C2D599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F49E8FBB-D0FA-4F01-B9F0-BB74FE418C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5800" y="68544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Introduction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ive loop filter using the prediction and residu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oftware integration, experimental results, and complex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EA1F-76F8-4439-B86C-4D478ECD20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D78FB0-1209-4D79-81CF-668F0158E8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rst presented as part of the proposal JCTVC-A114 in Dresd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ult: Adoption into the TMu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bsequently, evaluation within TE12 in Guangzhou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Gains for HE of 1.4% (I-Only), 1.3% (RA) , 0.8% (LD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subjective viewing 1 out of 4 sequences was considered to be “slightly better”, 3 were considered to be “similar” compared to ALF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JCTVC-C320: TE12:Summary of results of evaluation of TMuC tools in TE12 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urrently evaluated within the CE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History of 3-Input-ALF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191A-5198-4946-AD57-BBF9C950BE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179546-AD43-4C69-B9B7-524EBCEDE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daptive loop filter using the prediction and residu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75360" y="1009800"/>
            <a:ext cx="936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71640" y="765000"/>
            <a:ext cx="5446440" cy="4113000"/>
            <a:chOff x="971640" y="765000"/>
            <a:chExt cx="5446440" cy="4113000"/>
          </a:xfrm>
        </p:grpSpPr>
        <p:sp>
          <p:nvSpPr>
            <p:cNvPr id="100" name=""/>
            <p:cNvSpPr/>
            <p:nvPr/>
          </p:nvSpPr>
          <p:spPr>
            <a:xfrm>
              <a:off x="2354400" y="789840"/>
              <a:ext cx="690840" cy="4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DC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59560" y="789840"/>
              <a:ext cx="690840" cy="4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Qua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1640" y="1040400"/>
              <a:ext cx="31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5920" y="914760"/>
              <a:ext cx="251640" cy="25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37560" y="1040400"/>
              <a:ext cx="8168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5600" y="1040400"/>
              <a:ext cx="8164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50400" y="1040400"/>
              <a:ext cx="8168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67600" y="789840"/>
              <a:ext cx="690480" cy="4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Entropy</a:t>
              </a:r>
              <a:br>
                <a:rPr sz="1400"/>
              </a:b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codin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26960" y="1033560"/>
              <a:ext cx="0" cy="42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81000" y="1456200"/>
              <a:ext cx="690480" cy="4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IDC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6960" y="1895040"/>
              <a:ext cx="0" cy="376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0960" y="2271600"/>
              <a:ext cx="252000" cy="25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10480" y="2397960"/>
              <a:ext cx="33904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410480" y="1165320"/>
              <a:ext cx="0" cy="3494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82400" y="2360160"/>
              <a:ext cx="62280" cy="62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05000" y="1010160"/>
              <a:ext cx="61920" cy="619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26960" y="2522520"/>
              <a:ext cx="0" cy="376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5840" y="2899080"/>
              <a:ext cx="1060560" cy="4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Deblockin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26960" y="3338280"/>
              <a:ext cx="0" cy="376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280" y="3714840"/>
              <a:ext cx="2512440" cy="438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3-Input-AL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77560" y="2397960"/>
              <a:ext cx="0" cy="1316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45520" y="2368800"/>
              <a:ext cx="62280" cy="619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8080" y="2083680"/>
              <a:ext cx="0" cy="1634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926960" y="2083680"/>
              <a:ext cx="11311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3480" y="2055600"/>
              <a:ext cx="62280" cy="62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926960" y="4154040"/>
              <a:ext cx="0" cy="505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18160" y="4659480"/>
              <a:ext cx="20088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57600" y="4439160"/>
              <a:ext cx="1060560" cy="4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Predic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410120" y="4659480"/>
              <a:ext cx="4467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8680" y="1166400"/>
              <a:ext cx="245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971640" y="765000"/>
                  <a:ext cx="200520" cy="24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5009040" y="3392280"/>
                  <a:ext cx="29196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3941280" y="3402000"/>
                  <a:ext cx="20052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150960" y="3395160"/>
                  <a:ext cx="26712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036400" y="2523960"/>
                  <a:ext cx="2682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90680" y="4223520"/>
                  <a:ext cx="33768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76720" y="4941720"/>
                <a:ext cx="46767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rot="16200000">
            <a:off x="4675680" y="5202360"/>
            <a:ext cx="289080" cy="1656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6784200" y="5005800"/>
            <a:ext cx="289080" cy="2049480"/>
          </a:xfrm>
          <a:custGeom>
            <a:avLst/>
            <a:gdLst>
              <a:gd name="textAreaLeft" fmla="*/ 184680 w 289080"/>
              <a:gd name="textAreaRight" fmla="*/ 289080 w 289080"/>
              <a:gd name="textAreaTop" fmla="*/ 53280 h 2049480"/>
              <a:gd name="textAreaBottom" fmla="*/ 1996200 h 20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6480" y="6173640"/>
            <a:ext cx="1430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7200" y="6173640"/>
            <a:ext cx="1430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Propos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718080"/>
            <a:ext cx="2184480" cy="1223640"/>
          </a:xfrm>
          <a:prstGeom prst="wedgeRoundRectCallout">
            <a:avLst>
              <a:gd name="adj1" fmla="val -48763"/>
              <a:gd name="adj2" fmla="val 71143"/>
              <a:gd name="adj3" fmla="val 16667"/>
            </a:avLst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  <a:ea typeface="Arial"/>
              </a:rPr>
              <a:t>×1 filters for prediction and resid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AA2C-724C-47DD-9169-A82793078C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E8B529-A6C1-499E-998D-C7E124C3FA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oftware integr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240" y="68580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Current implementation is based on our former publicly available software  imple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  <a:ea typeface="SimSun"/>
                <a:hlinkClick r:id="rId1"/>
              </a:rPr>
              <a:t>http://hevc.kw.bbc.co.uk/trac/browser/branches/0.8-panason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3-Input-ALF implemented on top of QC_ALF in 0.9 HM software. It extends QC_ALF to accomodate 3 inpu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Implementation and encoder control of the reference QC_ALF is kept exactly the same. Therefore obtained results show the performance of the proposed tool clear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6CB9-50E8-43E2-BE14-294DE6D865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8839109-1760-4ED5-BE51-5267E441FF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Experimental resul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Comparison to the re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9080" y="1125360"/>
            <a:ext cx="4930560" cy="527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81160" y="1927080"/>
            <a:ext cx="29635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Improved implem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54560" y="2454120"/>
            <a:ext cx="3724200" cy="314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54560" y="4248000"/>
            <a:ext cx="370512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254560" y="6067440"/>
            <a:ext cx="3724200" cy="31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1D14-A4EA-4826-83AB-8580A061C6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93BAD4-A0E9-44CE-AC1D-80BDA40725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mplexit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inor increase of computational complexity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ncoder: 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Estimation of 2 additional filter coefficien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ecoder: 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2 additional multiplications and additions required in filtering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emory access in encoder (Encoder issu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eferenc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Deblocked sig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Original sig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Output sig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Correlation matri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Pixel-wise classific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Proposal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2 additional signals: Prediction, Quantized prediction err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emory access in decoder (Implementation dependen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mall additional buffers may be required for intermediate storage of parts of the prediction and quantized prediction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C1D8-E701-4E34-9C61-61F4324C18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F78B1C-1301-4F4B-98EC-6F11C799E7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240" y="68580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Proposed to use the prediction and the quantized prediction in the adaptive loop filter process (1x1 filter for each of these signal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Overall average BD-bit rate reductions achieved by the </a:t>
            </a:r>
            <a:br>
              <a:rPr sz="2400"/>
            </a:b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3-Input-Filte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High efficiency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0.9% for IO, 0.8% for RA and  0.4% for L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Low complexity: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4.6% for IO, 5.9% for RA and  5.5% for L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Minor increase in complexity at the deco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he proposed technique has been evaluated several times and seems to have value for the standard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Proposal: Adopt into the H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mih Esenl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381C-C82B-4573-9FB1-9352B03862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C8D588-3CCE-4492-BA69-94E835D587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9:08:38Z</dcterms:created>
  <dc:creator>Semih Esenlik, Matthias Narroschke, Thomas Wedi</dc:creator>
  <dc:description/>
  <dc:language>en-US</dc:language>
  <cp:lastModifiedBy>semih esenlik</cp:lastModifiedBy>
  <dcterms:modified xsi:type="dcterms:W3CDTF">2011-01-22T08:25:46Z</dcterms:modified>
  <cp:revision>175</cp:revision>
  <dc:subject/>
  <dc:title>CE 8: Results for adaptive loop filter using prediction and residual (3-Input-ALF)</dc:title>
</cp:coreProperties>
</file>