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2E6F-2288-4F62-BB30-6D812F57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CD95-EC4B-4333-9A22-EAC51CB3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A7B3-A1E5-4C4E-9205-0ADB4501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D2BC-5E2A-4A08-BFF3-78BF5D4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654FE-A1AD-46A6-8B81-4486DD97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EF16B-5BB2-4169-9D64-522CC9F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8829F-95C4-41C4-9B51-E9EB622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0F788-5F09-468A-8E15-3E5B66A9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D783E-5CDE-42EA-9786-F19584A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7240" y="57240"/>
            <a:ext cx="88441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569EF-2E75-43A7-8CFD-3B0A78F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65158-22C4-4B45-A20C-750A770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5072-33B7-4333-ABAB-B9DCCBFE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704D-354A-4A9E-9466-02EC28E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F98F8-88AF-4023-A496-E8112E1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7E0D7-2332-4AEB-BC5E-2BDEC667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4C77-3E21-4C84-83F8-06784CE1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85B30-3604-48AC-A176-1EF1A53C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F067-6EFE-44FE-8920-03F85650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CF7-58A4-4048-830D-9CEECE0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EF7C-8C09-4978-AC29-1B49343D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7240" y="57240"/>
            <a:ext cx="88441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E926-F806-4CE6-9049-65D24C9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19DE-29A4-406C-81A2-54C8F3C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EA39-939B-4F0B-9DC3-58837A8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E58F-463A-468D-A314-CBB74EE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764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31120" y="6400080"/>
            <a:ext cx="609840" cy="2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lide </a:t>
            </a:r>
            <a:fld id="{5F1AFFC3-6F93-4C04-A194-A963F3EBD4B9}" type="slidenum"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380360" y="6521400"/>
            <a:ext cx="1079280" cy="122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7380000" y="670392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564000" y="6585120"/>
            <a:ext cx="3317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JCTVC-D21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8331120" y="6400080"/>
            <a:ext cx="609840" cy="2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lide </a:t>
            </a:r>
            <a:fld id="{7EFB80FE-DBA5-4D6D-94BA-46CF99EFB351}" type="slidenum"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5"/>
          </p:nvPr>
        </p:nvSpPr>
        <p:spPr>
          <a:xfrm>
            <a:off x="7380000" y="6521400"/>
            <a:ext cx="1368360" cy="122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6"/>
          </p:nvPr>
        </p:nvSpPr>
        <p:spPr>
          <a:xfrm>
            <a:off x="7380000" y="670392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64000" y="6585120"/>
            <a:ext cx="3317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JCTVC-D21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5700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eduction of operations in the critical path of the deblocking filter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3789000"/>
            <a:ext cx="8839440" cy="23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atthias Narroschke, Hisao Sasai, Thomas Wed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JCT-VC Meeting, Daegu, January 201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F4F9-1ECE-4ECA-AF07-AE82D4CE85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6316560" y="429912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16560" y="46702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324480" y="52387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19600" y="320508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8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6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9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255600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49720" y="395928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433680" y="38926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8" name=""/>
          <p:cNvSpPr/>
          <p:nvPr/>
        </p:nvSpPr>
        <p:spPr>
          <a:xfrm>
            <a:off x="2556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49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422520" y="42480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1" name=""/>
          <p:cNvSpPr/>
          <p:nvPr/>
        </p:nvSpPr>
        <p:spPr>
          <a:xfrm>
            <a:off x="2556000" y="47973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49720" y="46641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433680" y="45975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>
            <a:off x="2556000" y="5172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49720" y="5038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422520" y="49719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>
            <a:off x="2563920" y="57913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257640" y="56577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3441600" y="5600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0" name=""/>
          <p:cNvSpPr/>
          <p:nvPr/>
        </p:nvSpPr>
        <p:spPr>
          <a:xfrm>
            <a:off x="4087800" y="444816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78800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4992840" y="424800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 flipH="1">
            <a:off x="4050000" y="44528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046760" y="32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7" name=""/>
          <p:cNvSpPr/>
          <p:nvPr/>
        </p:nvSpPr>
        <p:spPr>
          <a:xfrm>
            <a:off x="1854360" y="2760840"/>
            <a:ext cx="1914480" cy="514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616720" y="443700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15920" y="6308640"/>
            <a:ext cx="355608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5513760" y="443700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011840" y="5155920"/>
            <a:ext cx="112032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091120" y="4797000"/>
            <a:ext cx="460440" cy="11494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6442200" y="423216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6431040" y="46036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5" name=""/>
          <p:cNvSpPr/>
          <p:nvPr/>
        </p:nvSpPr>
        <p:spPr>
          <a:xfrm>
            <a:off x="6138720" y="48085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6146640" y="4447800"/>
            <a:ext cx="0" cy="360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6438960" y="51688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8" name=""/>
          <p:cNvSpPr/>
          <p:nvPr/>
        </p:nvSpPr>
        <p:spPr>
          <a:xfrm>
            <a:off x="6146640" y="53769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146640" y="4797360"/>
            <a:ext cx="0" cy="54792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6637320" y="494172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635280" y="533700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817720" y="2760840"/>
            <a:ext cx="951120" cy="1634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13120" y="2798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1773360" y="1638360"/>
            <a:ext cx="1084320" cy="1130040"/>
            <a:chOff x="1773360" y="1638360"/>
            <a:chExt cx="1084320" cy="1130040"/>
          </a:xfrm>
        </p:grpSpPr>
        <p:sp>
          <p:nvSpPr>
            <p:cNvPr id="1515" name=""/>
            <p:cNvSpPr/>
            <p:nvPr/>
          </p:nvSpPr>
          <p:spPr>
            <a:xfrm rot="5400000">
              <a:off x="1279440" y="213336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5400000">
              <a:off x="14130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5400000">
              <a:off x="154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5400000">
              <a:off x="1684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5400000">
              <a:off x="181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5400000">
              <a:off x="1957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5400000">
              <a:off x="2092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5400000">
              <a:off x="2229120" y="213192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6907320" y="315288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346720" y="29559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907320" y="2727360"/>
                <a:ext cx="4870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6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32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0820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94140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0778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114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732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08200" y="1274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94140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7784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2114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732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08200" y="141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4140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7784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2114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732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08200" y="1546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94140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7784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114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08200" y="168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94140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7784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114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732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08200" y="1816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94140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7784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114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34784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48284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160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347840" y="127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482840" y="127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16040" y="127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47840" y="14130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482840" y="14130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616040" y="14130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347840" y="154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482840" y="154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616040" y="154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347840" y="16826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482840" y="16826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616040" y="16826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18176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482840" y="18176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16040" y="18176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732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808200" y="1951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94140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07784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2114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732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08200" y="2084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94140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07784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2114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347840" y="1951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482840" y="1951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16040" y="1951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347840" y="20858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482840" y="20858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616040" y="20858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D6D5-C5FD-4B9B-AE8B-8E8E2C22E7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7848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848720" y="46702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856640" y="5254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19600" y="320508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3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4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6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8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2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6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9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1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2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255600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249720" y="395928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3433680" y="38926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8" name=""/>
          <p:cNvSpPr/>
          <p:nvPr/>
        </p:nvSpPr>
        <p:spPr>
          <a:xfrm>
            <a:off x="2556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249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3422520" y="42480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2556000" y="47973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249720" y="46641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433680" y="45975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4" name=""/>
          <p:cNvSpPr/>
          <p:nvPr/>
        </p:nvSpPr>
        <p:spPr>
          <a:xfrm>
            <a:off x="2556000" y="5172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249720" y="5038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422520" y="49719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2563920" y="57913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57640" y="56577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3441600" y="5600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0" name=""/>
          <p:cNvSpPr/>
          <p:nvPr/>
        </p:nvSpPr>
        <p:spPr>
          <a:xfrm>
            <a:off x="4087800" y="444816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8800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4992840" y="424800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3" name=""/>
          <p:cNvSpPr/>
          <p:nvPr/>
        </p:nvSpPr>
        <p:spPr>
          <a:xfrm flipH="1">
            <a:off x="4050000" y="44528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4046760" y="32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7" name=""/>
          <p:cNvSpPr/>
          <p:nvPr/>
        </p:nvSpPr>
        <p:spPr>
          <a:xfrm>
            <a:off x="1854360" y="2760840"/>
            <a:ext cx="1914480" cy="514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616720" y="443700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015920" y="6308640"/>
            <a:ext cx="355608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513760" y="443700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4011840" y="5155920"/>
            <a:ext cx="112032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5091120" y="4797000"/>
            <a:ext cx="460440" cy="11494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316560" y="429912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6442200" y="423216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6316560" y="46702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6431040" y="46036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6138720" y="48085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6146640" y="4447800"/>
            <a:ext cx="0" cy="360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324480" y="52387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6438960" y="51688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6146640" y="53769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6146640" y="4797360"/>
            <a:ext cx="0" cy="54792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6637320" y="494172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4" name=""/>
          <p:cNvSpPr/>
          <p:nvPr/>
        </p:nvSpPr>
        <p:spPr>
          <a:xfrm>
            <a:off x="7155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8032680" y="4248000"/>
                <a:ext cx="420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6" name=""/>
          <p:cNvSpPr/>
          <p:nvPr/>
        </p:nvSpPr>
        <p:spPr>
          <a:xfrm>
            <a:off x="7155000" y="48038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8021520" y="460368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8" name=""/>
          <p:cNvSpPr/>
          <p:nvPr/>
        </p:nvSpPr>
        <p:spPr>
          <a:xfrm>
            <a:off x="7162920" y="5388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8029440" y="51894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3635280" y="533700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8223120" y="494172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2" name=""/>
          <p:cNvSpPr/>
          <p:nvPr/>
        </p:nvSpPr>
        <p:spPr>
          <a:xfrm>
            <a:off x="2817720" y="2760840"/>
            <a:ext cx="951120" cy="1634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813120" y="2798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1773360" y="1638360"/>
            <a:ext cx="1084320" cy="1130040"/>
            <a:chOff x="1773360" y="1638360"/>
            <a:chExt cx="1084320" cy="1130040"/>
          </a:xfrm>
        </p:grpSpPr>
        <p:sp>
          <p:nvSpPr>
            <p:cNvPr id="1865" name=""/>
            <p:cNvSpPr/>
            <p:nvPr/>
          </p:nvSpPr>
          <p:spPr>
            <a:xfrm rot="5400000">
              <a:off x="1279440" y="213336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5400000">
              <a:off x="14130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5400000">
              <a:off x="154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5400000">
              <a:off x="1684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5400000">
              <a:off x="181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5400000">
              <a:off x="1957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5400000">
              <a:off x="2092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5400000">
              <a:off x="2229120" y="213192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929280" y="3152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5346720" y="29559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6927840" y="2727360"/>
                <a:ext cx="444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732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820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94140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0778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2114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32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808200" y="1274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94140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07784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2114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32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808200" y="141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94140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07784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2114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32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08200" y="1546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94140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7784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2114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32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08200" y="168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94140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07784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2114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32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08200" y="1816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94140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07784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2114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34784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48284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6160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347840" y="127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482840" y="127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616040" y="127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347840" y="14130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482840" y="14130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616040" y="14130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347840" y="154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482840" y="154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16040" y="154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347840" y="16826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82840" y="16826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616040" y="16826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347840" y="18176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82840" y="18176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616040" y="18176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732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808200" y="1951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94140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07784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2114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732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08200" y="2084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94140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7784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114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347840" y="1951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482840" y="1951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616040" y="1951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347840" y="20858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482840" y="20858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616040" y="20858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7B61-DFF3-4FFA-B589-DCDA6E2A07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7848720" y="4314960"/>
            <a:ext cx="83808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848720" y="4670280"/>
            <a:ext cx="83808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7856640" y="5254560"/>
            <a:ext cx="83808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8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0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6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0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6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8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9" name=""/>
          <p:cNvSpPr/>
          <p:nvPr/>
        </p:nvSpPr>
        <p:spPr>
          <a:xfrm>
            <a:off x="255600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249720" y="395928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3433680" y="38926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2" name=""/>
          <p:cNvSpPr/>
          <p:nvPr/>
        </p:nvSpPr>
        <p:spPr>
          <a:xfrm>
            <a:off x="2556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249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4" name=""/>
              <p:cNvSpPr txBox="1"/>
              <p:nvPr/>
            </p:nvSpPr>
            <p:spPr>
              <a:xfrm>
                <a:off x="3422520" y="42480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5" name=""/>
          <p:cNvSpPr/>
          <p:nvPr/>
        </p:nvSpPr>
        <p:spPr>
          <a:xfrm>
            <a:off x="2556000" y="47973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249720" y="46641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3433680" y="45975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8" name=""/>
          <p:cNvSpPr/>
          <p:nvPr/>
        </p:nvSpPr>
        <p:spPr>
          <a:xfrm>
            <a:off x="2556000" y="5172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49720" y="5038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3422520" y="49719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1" name=""/>
          <p:cNvSpPr/>
          <p:nvPr/>
        </p:nvSpPr>
        <p:spPr>
          <a:xfrm>
            <a:off x="2563920" y="57913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57640" y="56577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3441600" y="5600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4" name=""/>
          <p:cNvSpPr/>
          <p:nvPr/>
        </p:nvSpPr>
        <p:spPr>
          <a:xfrm>
            <a:off x="4087800" y="444816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78800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4992840" y="424800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 flipH="1">
            <a:off x="4050000" y="44528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 flipV="1">
            <a:off x="4046760" y="32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0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1" name=""/>
          <p:cNvSpPr/>
          <p:nvPr/>
        </p:nvSpPr>
        <p:spPr>
          <a:xfrm>
            <a:off x="5616720" y="443700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015920" y="6308640"/>
            <a:ext cx="355608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5513760" y="443700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4011840" y="5155920"/>
            <a:ext cx="112032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5091120" y="4797000"/>
            <a:ext cx="460440" cy="11494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316560" y="429912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7" name=""/>
              <p:cNvSpPr txBox="1"/>
              <p:nvPr/>
            </p:nvSpPr>
            <p:spPr>
              <a:xfrm>
                <a:off x="6442200" y="423216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8" name=""/>
          <p:cNvSpPr/>
          <p:nvPr/>
        </p:nvSpPr>
        <p:spPr>
          <a:xfrm>
            <a:off x="6316560" y="46702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9" name=""/>
              <p:cNvSpPr txBox="1"/>
              <p:nvPr/>
            </p:nvSpPr>
            <p:spPr>
              <a:xfrm>
                <a:off x="6431040" y="46036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0" name=""/>
          <p:cNvSpPr/>
          <p:nvPr/>
        </p:nvSpPr>
        <p:spPr>
          <a:xfrm>
            <a:off x="6138720" y="48085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6146640" y="4447800"/>
            <a:ext cx="0" cy="360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324480" y="52387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3" name=""/>
              <p:cNvSpPr txBox="1"/>
              <p:nvPr/>
            </p:nvSpPr>
            <p:spPr>
              <a:xfrm>
                <a:off x="6438960" y="516888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4" name=""/>
          <p:cNvSpPr/>
          <p:nvPr/>
        </p:nvSpPr>
        <p:spPr>
          <a:xfrm>
            <a:off x="6146640" y="53769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6146640" y="4797360"/>
            <a:ext cx="0" cy="54792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6" name=""/>
              <p:cNvSpPr txBox="1"/>
              <p:nvPr/>
            </p:nvSpPr>
            <p:spPr>
              <a:xfrm>
                <a:off x="6637320" y="494172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7" name=""/>
          <p:cNvSpPr/>
          <p:nvPr/>
        </p:nvSpPr>
        <p:spPr>
          <a:xfrm>
            <a:off x="7155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8" name=""/>
              <p:cNvSpPr txBox="1"/>
              <p:nvPr/>
            </p:nvSpPr>
            <p:spPr>
              <a:xfrm>
                <a:off x="8032680" y="4248000"/>
                <a:ext cx="420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9" name=""/>
          <p:cNvSpPr/>
          <p:nvPr/>
        </p:nvSpPr>
        <p:spPr>
          <a:xfrm>
            <a:off x="7155000" y="48038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0" name=""/>
              <p:cNvSpPr txBox="1"/>
              <p:nvPr/>
            </p:nvSpPr>
            <p:spPr>
              <a:xfrm>
                <a:off x="8021520" y="460368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1" name=""/>
          <p:cNvSpPr/>
          <p:nvPr/>
        </p:nvSpPr>
        <p:spPr>
          <a:xfrm>
            <a:off x="7162920" y="5388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8029440" y="51894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3635280" y="533700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8223120" y="494172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5" name=""/>
          <p:cNvSpPr/>
          <p:nvPr/>
        </p:nvSpPr>
        <p:spPr>
          <a:xfrm flipV="1" rot="16200000">
            <a:off x="4286520" y="-1237320"/>
            <a:ext cx="371520" cy="8427960"/>
          </a:xfrm>
          <a:custGeom>
            <a:avLst/>
            <a:gdLst>
              <a:gd name="textAreaLeft" fmla="*/ 0 w 371520"/>
              <a:gd name="textAreaRight" fmla="*/ 134280 w 371520"/>
              <a:gd name="textAreaTop" fmla="*/ 219600 h 8427960"/>
              <a:gd name="textAreaBottom" fmla="*/ 8208360 h 842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16200" y="10795"/>
                  <a:pt x="21600" y="10795"/>
                </a:cubicBezTo>
                <a:cubicBezTo>
                  <a:pt x="162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979640" y="2421000"/>
            <a:ext cx="561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ritical path: 44 sequential opera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7944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90332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48768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99896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51672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8028000" y="342900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F8A1-C144-4FD4-95EB-38397B209A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Deblocking filter of HM 0.9: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ecision and filtering steps for vertical and horizontal edges are performed dependent on each 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ependencies limit the capabilities for parallel processing and thus lead to a large amount of operations in the critical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proach: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Increase of parallel processing capabilities to reduce the number of sequential operations in the critical path by performing decisions based on the unfiltered signal of the current C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5C67-B254-476F-AC36-A59B43E373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/>
          <p:nvPr/>
        </p:nvSpPr>
        <p:spPr>
          <a:xfrm>
            <a:off x="179280" y="3355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9280" y="37227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11280" y="69228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32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0820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94140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778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2114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732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08200" y="8794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94140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07784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2114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732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808200" y="1015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94140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07784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2114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732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808200" y="1150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94140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07784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2114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732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808200" y="128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4140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07784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2114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32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08200" y="1420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94140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07784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2114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34784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8284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6160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347840" y="88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482840" y="88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616040" y="88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347840" y="1017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482840" y="1017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616040" y="1017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47840" y="115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482840" y="115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616040" y="115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347840" y="12873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482840" y="12873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616040" y="12873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1347840" y="14223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482840" y="14223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616040" y="14223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732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08200" y="1555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94140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07784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2114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2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8200" y="16891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94140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07784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2114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347840" y="155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482840" y="155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616040" y="155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347840" y="16905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482840" y="16905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616040" y="16905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11280" y="182412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732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0820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94140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0778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2114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732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08200" y="20113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4140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07784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2114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32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80820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94140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07784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2114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32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808200" y="2282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4140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07784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2114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732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80820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94140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07784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2114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732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0820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94140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07784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2114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34784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48284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6160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347840" y="2013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482840" y="2013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616040" y="2013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347840" y="2149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482840" y="2149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16040" y="2149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34784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48284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61604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34784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48284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61604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34784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48284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61604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32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80820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94140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07784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2114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732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0820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94140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07784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2114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34784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48284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61604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34784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48284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161604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744560" y="69696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8064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94148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07504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2114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3446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8064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41480" y="8841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07504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21148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3446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8064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941480" y="102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07504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21148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3446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8064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41480" y="1155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07504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1148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3446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8064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941480" y="129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07504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21148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3446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8064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941480" y="142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07504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21148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3446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48112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61612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7496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481120" y="8859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616120" y="8859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749680" y="8859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481120" y="1022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616120" y="1022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749680" y="1022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481120" y="115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616120" y="115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749680" y="115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481120" y="12924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616120" y="12924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749680" y="12924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481120" y="142704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616120" y="142704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749680" y="14270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064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941480" y="1560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07504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21148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3446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8064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1941480" y="16938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07504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21148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3446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481120" y="1560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616120" y="1560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749680" y="1560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481120" y="1695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616120" y="1695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49680" y="1695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12920" y="252396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338040" y="3295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316080" y="36561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22" name=""/>
          <p:cNvSpPr/>
          <p:nvPr/>
        </p:nvSpPr>
        <p:spPr>
          <a:xfrm flipV="1">
            <a:off x="2182680" y="1892160"/>
            <a:ext cx="2318040" cy="230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312920" y="2116080"/>
            <a:ext cx="866880" cy="1285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4500720" y="1687680"/>
                <a:ext cx="398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25" name=""/>
          <p:cNvSpPr/>
          <p:nvPr/>
        </p:nvSpPr>
        <p:spPr>
          <a:xfrm flipV="1">
            <a:off x="2182680" y="2322360"/>
            <a:ext cx="2318040" cy="230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500720" y="210816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 rot="16200000">
            <a:off x="2085120" y="1754280"/>
            <a:ext cx="86652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2568600" y="117756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4859280" y="9525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0" name=""/>
          <p:cNvSpPr/>
          <p:nvPr/>
        </p:nvSpPr>
        <p:spPr>
          <a:xfrm>
            <a:off x="179280" y="493380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1" name=""/>
              <p:cNvSpPr txBox="1"/>
              <p:nvPr/>
            </p:nvSpPr>
            <p:spPr>
              <a:xfrm>
                <a:off x="372960" y="48690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2" name=""/>
          <p:cNvSpPr/>
          <p:nvPr/>
        </p:nvSpPr>
        <p:spPr>
          <a:xfrm>
            <a:off x="179280" y="52894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3" name=""/>
              <p:cNvSpPr txBox="1"/>
              <p:nvPr/>
            </p:nvSpPr>
            <p:spPr>
              <a:xfrm>
                <a:off x="372960" y="522612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4" name=""/>
          <p:cNvSpPr/>
          <p:nvPr/>
        </p:nvSpPr>
        <p:spPr>
          <a:xfrm rot="16200000">
            <a:off x="1674000" y="1757520"/>
            <a:ext cx="86652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2147760" y="812520"/>
            <a:ext cx="2640240" cy="5763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4871880" y="6922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12FA-F99C-4E49-AD09-73F4D0E05F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179280" y="3355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79280" y="37227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338040" y="3295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316080" y="36561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08" name=""/>
          <p:cNvSpPr/>
          <p:nvPr/>
        </p:nvSpPr>
        <p:spPr>
          <a:xfrm>
            <a:off x="1717560" y="33512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1854360" y="32846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0" name=""/>
          <p:cNvSpPr/>
          <p:nvPr/>
        </p:nvSpPr>
        <p:spPr>
          <a:xfrm>
            <a:off x="101772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H="1">
            <a:off x="979920" y="35002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717560" y="3808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1832040" y="373536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4" name=""/>
          <p:cNvSpPr/>
          <p:nvPr/>
        </p:nvSpPr>
        <p:spPr>
          <a:xfrm>
            <a:off x="1539720" y="3946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1547640" y="3946320"/>
            <a:ext cx="0" cy="3222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17560" y="4132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1843200" y="406548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8" name=""/>
          <p:cNvSpPr/>
          <p:nvPr/>
        </p:nvSpPr>
        <p:spPr>
          <a:xfrm>
            <a:off x="1539720" y="42703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725480" y="457344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1851120" y="451944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1" name=""/>
          <p:cNvSpPr/>
          <p:nvPr/>
        </p:nvSpPr>
        <p:spPr>
          <a:xfrm>
            <a:off x="1547640" y="4711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1547640" y="417672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2038320" y="364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4" name=""/>
          <p:cNvSpPr/>
          <p:nvPr/>
        </p:nvSpPr>
        <p:spPr>
          <a:xfrm>
            <a:off x="179280" y="493380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372960" y="48690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6" name=""/>
          <p:cNvSpPr/>
          <p:nvPr/>
        </p:nvSpPr>
        <p:spPr>
          <a:xfrm>
            <a:off x="179280" y="52894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372960" y="522612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8" name=""/>
          <p:cNvSpPr/>
          <p:nvPr/>
        </p:nvSpPr>
        <p:spPr>
          <a:xfrm flipV="1">
            <a:off x="1547640" y="349200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2038320" y="440676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0" name=""/>
          <p:cNvSpPr/>
          <p:nvPr/>
        </p:nvSpPr>
        <p:spPr>
          <a:xfrm>
            <a:off x="1719360" y="49356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1844640" y="486900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2" name=""/>
          <p:cNvSpPr/>
          <p:nvPr/>
        </p:nvSpPr>
        <p:spPr>
          <a:xfrm>
            <a:off x="1019160" y="50846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981360" y="50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719360" y="53928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1833480" y="53402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6" name=""/>
          <p:cNvSpPr/>
          <p:nvPr/>
        </p:nvSpPr>
        <p:spPr>
          <a:xfrm>
            <a:off x="1541520" y="5530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1549440" y="5530680"/>
            <a:ext cx="0" cy="3225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1719360" y="57164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1833480" y="56498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0" name=""/>
          <p:cNvSpPr/>
          <p:nvPr/>
        </p:nvSpPr>
        <p:spPr>
          <a:xfrm>
            <a:off x="1541520" y="5854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727280" y="615780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1841400" y="61038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3" name=""/>
          <p:cNvSpPr/>
          <p:nvPr/>
        </p:nvSpPr>
        <p:spPr>
          <a:xfrm>
            <a:off x="1549440" y="629604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1549440" y="576108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039760" y="5226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6" name=""/>
          <p:cNvSpPr/>
          <p:nvPr/>
        </p:nvSpPr>
        <p:spPr>
          <a:xfrm flipV="1">
            <a:off x="1549440" y="507636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7" name=""/>
              <p:cNvSpPr txBox="1"/>
              <p:nvPr/>
            </p:nvSpPr>
            <p:spPr>
              <a:xfrm>
                <a:off x="2039760" y="5991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8" name=""/>
          <p:cNvGrpSpPr/>
          <p:nvPr/>
        </p:nvGrpSpPr>
        <p:grpSpPr>
          <a:xfrm>
            <a:off x="1773360" y="1268280"/>
            <a:ext cx="1084320" cy="1130040"/>
            <a:chOff x="1773360" y="1268280"/>
            <a:chExt cx="1084320" cy="1130040"/>
          </a:xfrm>
        </p:grpSpPr>
        <p:sp>
          <p:nvSpPr>
            <p:cNvPr id="2549" name=""/>
            <p:cNvSpPr/>
            <p:nvPr/>
          </p:nvSpPr>
          <p:spPr>
            <a:xfrm rot="5400000">
              <a:off x="1279440" y="17632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rot="5400000">
              <a:off x="14130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rot="5400000">
              <a:off x="1549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rot="5400000">
              <a:off x="1684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rot="5400000">
              <a:off x="1819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rot="5400000">
              <a:off x="195768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rot="5400000">
              <a:off x="209268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rot="5400000">
              <a:off x="2229120" y="1761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1167120" y="1847880"/>
            <a:ext cx="1130040" cy="1084320"/>
            <a:chOff x="1167120" y="1847880"/>
            <a:chExt cx="1130040" cy="1084320"/>
          </a:xfrm>
        </p:grpSpPr>
        <p:sp>
          <p:nvSpPr>
            <p:cNvPr id="2558" name=""/>
            <p:cNvSpPr/>
            <p:nvPr/>
          </p:nvSpPr>
          <p:spPr>
            <a:xfrm rot="10800000">
              <a:off x="1173240" y="18478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rot="10800000">
              <a:off x="1167120" y="19814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rot="10800000">
              <a:off x="1167120" y="211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rot="10800000">
              <a:off x="1167120" y="2252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rot="10800000">
              <a:off x="1167120" y="238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10800000">
              <a:off x="1167120" y="2525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10800000">
              <a:off x="1167120" y="2660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10800000">
              <a:off x="1175040" y="279720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66" name=""/>
          <p:cNvSpPr/>
          <p:nvPr/>
        </p:nvSpPr>
        <p:spPr>
          <a:xfrm flipV="1">
            <a:off x="2297160" y="234900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2313000" y="817560"/>
            <a:ext cx="247824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8" name=""/>
              <p:cNvSpPr txBox="1"/>
              <p:nvPr/>
            </p:nvSpPr>
            <p:spPr>
              <a:xfrm>
                <a:off x="4822920" y="606600"/>
                <a:ext cx="1128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9" name=""/>
              <p:cNvSpPr txBox="1"/>
              <p:nvPr/>
            </p:nvSpPr>
            <p:spPr>
              <a:xfrm>
                <a:off x="4622760" y="2149560"/>
                <a:ext cx="1106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70" name=""/>
          <p:cNvSpPr/>
          <p:nvPr/>
        </p:nvSpPr>
        <p:spPr>
          <a:xfrm>
            <a:off x="611280" y="69228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732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0820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94140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0778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114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732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08200" y="8794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94140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07784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2114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732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08200" y="1015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94140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07784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2114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732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808200" y="1150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94140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07784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2114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732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808200" y="128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94140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7784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2114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732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808200" y="1420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94140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07784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2114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34784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48284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6160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347840" y="88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482840" y="88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1616040" y="88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347840" y="1017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482840" y="1017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616040" y="1017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47840" y="115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482840" y="115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616040" y="115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47840" y="12873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482840" y="12873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616040" y="12873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47840" y="14223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1482840" y="14223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616040" y="14223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732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808200" y="1555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94140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07784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12114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732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808200" y="16891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94140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07784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12114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347840" y="155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482840" y="155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616040" y="155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347840" y="16905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482840" y="16905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616040" y="16905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11280" y="182412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732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0820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94140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0778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2114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732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808200" y="20113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94140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07784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2114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732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80820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94140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07784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2114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732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808200" y="2282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94140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07784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2114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732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0820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4140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07784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2114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732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0820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94140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07784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2114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34784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8284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6160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347840" y="2013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482840" y="2013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616040" y="2013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347840" y="2149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482840" y="2149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616040" y="2149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34784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48284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61604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134784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48284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61604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34784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48284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161604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732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80820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94140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107784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2114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732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0820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94140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107784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2114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34784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48284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61604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34784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48284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61604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44560" y="69696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8064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94148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07504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2114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3446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8064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41480" y="8841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07504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21148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3446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8064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941480" y="102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07504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21148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23446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8064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1941480" y="1155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07504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21148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3446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8064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941480" y="129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207504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221148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23446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18064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1941480" y="142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07504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221148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3446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48112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61612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7496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2481120" y="8859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616120" y="8859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2749680" y="8859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481120" y="1022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616120" y="1022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749680" y="1022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2481120" y="115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616120" y="115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749680" y="115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481120" y="12924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616120" y="12924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749680" y="12924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481120" y="142704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616120" y="142704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749680" y="14270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8064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941480" y="1560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207504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21148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23446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8064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941480" y="16938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207504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21148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3446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481120" y="1560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616120" y="1560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749680" y="1560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481120" y="1695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616120" y="1695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749680" y="1695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C18E-9CB8-4764-BFF1-8A8443A866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"/>
          <p:cNvSpPr/>
          <p:nvPr/>
        </p:nvSpPr>
        <p:spPr>
          <a:xfrm>
            <a:off x="179280" y="3355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179280" y="37227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338040" y="3295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316080" y="36561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36" name=""/>
          <p:cNvSpPr/>
          <p:nvPr/>
        </p:nvSpPr>
        <p:spPr>
          <a:xfrm>
            <a:off x="1717560" y="33512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1854360" y="32846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38" name=""/>
          <p:cNvSpPr/>
          <p:nvPr/>
        </p:nvSpPr>
        <p:spPr>
          <a:xfrm>
            <a:off x="101772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979920" y="35002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717560" y="3808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832040" y="373536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2" name=""/>
          <p:cNvSpPr/>
          <p:nvPr/>
        </p:nvSpPr>
        <p:spPr>
          <a:xfrm>
            <a:off x="1539720" y="3946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1547640" y="3946320"/>
            <a:ext cx="0" cy="3222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717560" y="4132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1843200" y="406548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6" name=""/>
          <p:cNvSpPr/>
          <p:nvPr/>
        </p:nvSpPr>
        <p:spPr>
          <a:xfrm>
            <a:off x="1539720" y="42703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725480" y="457344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1851120" y="451944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9" name=""/>
          <p:cNvSpPr/>
          <p:nvPr/>
        </p:nvSpPr>
        <p:spPr>
          <a:xfrm>
            <a:off x="1547640" y="4711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1547640" y="417672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2038320" y="364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>
            <a:off x="255600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249720" y="33670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3433680" y="33004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5" name=""/>
          <p:cNvSpPr/>
          <p:nvPr/>
        </p:nvSpPr>
        <p:spPr>
          <a:xfrm>
            <a:off x="2556000" y="39416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249720" y="38084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3422520" y="37353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8" name=""/>
          <p:cNvSpPr/>
          <p:nvPr/>
        </p:nvSpPr>
        <p:spPr>
          <a:xfrm>
            <a:off x="2556000" y="42688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49720" y="413532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3422520" y="406872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1" name=""/>
          <p:cNvSpPr/>
          <p:nvPr/>
        </p:nvSpPr>
        <p:spPr>
          <a:xfrm>
            <a:off x="2563920" y="47228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257640" y="45896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3441600" y="45324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4" name=""/>
          <p:cNvSpPr/>
          <p:nvPr/>
        </p:nvSpPr>
        <p:spPr>
          <a:xfrm>
            <a:off x="179280" y="493380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72960" y="48690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6" name=""/>
          <p:cNvSpPr/>
          <p:nvPr/>
        </p:nvSpPr>
        <p:spPr>
          <a:xfrm>
            <a:off x="179280" y="52894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372960" y="522612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8" name=""/>
          <p:cNvSpPr/>
          <p:nvPr/>
        </p:nvSpPr>
        <p:spPr>
          <a:xfrm flipV="1">
            <a:off x="1547640" y="349200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632040" y="363204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2038320" y="440676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3632040" y="439740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2" name=""/>
          <p:cNvSpPr/>
          <p:nvPr/>
        </p:nvSpPr>
        <p:spPr>
          <a:xfrm>
            <a:off x="1719360" y="49356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1844640" y="486900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74" name=""/>
          <p:cNvSpPr/>
          <p:nvPr/>
        </p:nvSpPr>
        <p:spPr>
          <a:xfrm>
            <a:off x="1019160" y="50846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H="1">
            <a:off x="981360" y="50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1719360" y="53928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1833480" y="53402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78" name=""/>
          <p:cNvSpPr/>
          <p:nvPr/>
        </p:nvSpPr>
        <p:spPr>
          <a:xfrm>
            <a:off x="1541520" y="5530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1549440" y="5530680"/>
            <a:ext cx="0" cy="3225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719360" y="57164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1833480" y="56498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2" name=""/>
          <p:cNvSpPr/>
          <p:nvPr/>
        </p:nvSpPr>
        <p:spPr>
          <a:xfrm>
            <a:off x="1541520" y="5854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727280" y="615780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1841400" y="61038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5" name=""/>
          <p:cNvSpPr/>
          <p:nvPr/>
        </p:nvSpPr>
        <p:spPr>
          <a:xfrm>
            <a:off x="1549440" y="629604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1549440" y="576108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7" name=""/>
              <p:cNvSpPr txBox="1"/>
              <p:nvPr/>
            </p:nvSpPr>
            <p:spPr>
              <a:xfrm>
                <a:off x="2039760" y="5226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8" name=""/>
          <p:cNvSpPr/>
          <p:nvPr/>
        </p:nvSpPr>
        <p:spPr>
          <a:xfrm>
            <a:off x="2557440" y="58532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51160" y="57196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3424320" y="565308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1" name=""/>
          <p:cNvSpPr/>
          <p:nvPr/>
        </p:nvSpPr>
        <p:spPr>
          <a:xfrm>
            <a:off x="2565360" y="630720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259080" y="61736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3" name=""/>
              <p:cNvSpPr txBox="1"/>
              <p:nvPr/>
            </p:nvSpPr>
            <p:spPr>
              <a:xfrm>
                <a:off x="3432240" y="61167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4" name=""/>
          <p:cNvSpPr/>
          <p:nvPr/>
        </p:nvSpPr>
        <p:spPr>
          <a:xfrm flipV="1">
            <a:off x="1549440" y="507636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5" name=""/>
              <p:cNvSpPr txBox="1"/>
              <p:nvPr/>
            </p:nvSpPr>
            <p:spPr>
              <a:xfrm>
                <a:off x="2039760" y="5991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6" name=""/>
              <p:cNvSpPr txBox="1"/>
              <p:nvPr/>
            </p:nvSpPr>
            <p:spPr>
              <a:xfrm>
                <a:off x="3633840" y="598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7" name=""/>
          <p:cNvSpPr/>
          <p:nvPr/>
        </p:nvSpPr>
        <p:spPr>
          <a:xfrm rot="5400000">
            <a:off x="1818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 rot="5400000">
            <a:off x="1957320" y="17701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rot="5400000">
            <a:off x="209160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rot="5400000">
            <a:off x="2228400" y="1761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1167120" y="1847880"/>
            <a:ext cx="1130040" cy="1084320"/>
            <a:chOff x="1167120" y="1847880"/>
            <a:chExt cx="1130040" cy="1084320"/>
          </a:xfrm>
        </p:grpSpPr>
        <p:sp>
          <p:nvSpPr>
            <p:cNvPr id="2902" name=""/>
            <p:cNvSpPr/>
            <p:nvPr/>
          </p:nvSpPr>
          <p:spPr>
            <a:xfrm rot="10800000">
              <a:off x="1173240" y="18478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0800000">
              <a:off x="1167120" y="19814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rot="10800000">
              <a:off x="1167120" y="211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rot="10800000">
              <a:off x="1167120" y="2252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0800000">
              <a:off x="1167120" y="238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0800000">
              <a:off x="1167120" y="2525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rot="10800000">
              <a:off x="1167120" y="2660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rot="10800000">
              <a:off x="1175040" y="279720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10" name=""/>
          <p:cNvSpPr/>
          <p:nvPr/>
        </p:nvSpPr>
        <p:spPr>
          <a:xfrm flipV="1">
            <a:off x="2297160" y="234900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2684520" y="817560"/>
            <a:ext cx="210672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4856040" y="606600"/>
                <a:ext cx="1062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4667400" y="2149560"/>
                <a:ext cx="1017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4" name=""/>
          <p:cNvSpPr/>
          <p:nvPr/>
        </p:nvSpPr>
        <p:spPr>
          <a:xfrm>
            <a:off x="611280" y="69228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6732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80820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94140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0778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2114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732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808200" y="8794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94140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07784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2114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6732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808200" y="1015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94140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07784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12114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6732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808200" y="1150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94140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07784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2114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732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808200" y="128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94140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107784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2114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6732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8200" y="1420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94140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07784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2114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34784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48284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6160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1347840" y="88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482840" y="88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616040" y="88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1347840" y="1017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482840" y="1017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616040" y="1017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347840" y="115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482840" y="115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616040" y="115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1347840" y="12873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482840" y="12873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1616040" y="12873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347840" y="14223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1482840" y="14223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616040" y="14223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732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808200" y="1555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94140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07784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2114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732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808200" y="16891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94140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07784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2114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347840" y="155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82840" y="155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1616040" y="155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347840" y="16905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1482840" y="16905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616040" y="16905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11280" y="182412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6732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80820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94140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0778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12114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6732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08200" y="20113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94140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07784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2114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6732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80820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94140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107784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2114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6732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08200" y="2282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94140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07784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2114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732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80820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94140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07784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2114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732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80820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94140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107784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12114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134784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148284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16160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347840" y="2013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82840" y="2013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1616040" y="2013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347840" y="2149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1482840" y="2149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1616040" y="2149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134784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148284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61604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134784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48284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61604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34784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48284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61604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6732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80820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94140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07784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2114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732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80820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94140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07784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2114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34784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48284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61604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34784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48284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61604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744560" y="69696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8064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94148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07504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2114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23446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8064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941480" y="8841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07504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21148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23446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8064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941480" y="102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07504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21148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3446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8064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941480" y="1155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07504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221148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3446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18064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941480" y="129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07504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21148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3446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8064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941480" y="142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7504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221148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23446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48112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61612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7496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481120" y="8859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2616120" y="8859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749680" y="8859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481120" y="1022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2616120" y="1022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749680" y="1022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481120" y="115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616120" y="115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749680" y="115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481120" y="12924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616120" y="12924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749680" y="12924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481120" y="142704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616120" y="142704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2749680" y="14270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18064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41480" y="1560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207504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221148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23446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8064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1941480" y="16938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207504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21148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23446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2481120" y="1560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616120" y="1560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2749680" y="1560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2481120" y="1695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616120" y="1695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2749680" y="1695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9975-1FDC-4A6A-90AE-F5CA6FB40E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"/>
          <p:cNvSpPr/>
          <p:nvPr/>
        </p:nvSpPr>
        <p:spPr>
          <a:xfrm>
            <a:off x="179280" y="3355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179280" y="37227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8" name=""/>
              <p:cNvSpPr txBox="1"/>
              <p:nvPr/>
            </p:nvSpPr>
            <p:spPr>
              <a:xfrm>
                <a:off x="338040" y="3295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9" name=""/>
              <p:cNvSpPr txBox="1"/>
              <p:nvPr/>
            </p:nvSpPr>
            <p:spPr>
              <a:xfrm>
                <a:off x="316080" y="36561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0" name=""/>
          <p:cNvSpPr/>
          <p:nvPr/>
        </p:nvSpPr>
        <p:spPr>
          <a:xfrm>
            <a:off x="1717560" y="33512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1" name=""/>
              <p:cNvSpPr txBox="1"/>
              <p:nvPr/>
            </p:nvSpPr>
            <p:spPr>
              <a:xfrm>
                <a:off x="1854360" y="32846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2" name=""/>
          <p:cNvSpPr/>
          <p:nvPr/>
        </p:nvSpPr>
        <p:spPr>
          <a:xfrm>
            <a:off x="101772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979920" y="35002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717560" y="3808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5" name=""/>
              <p:cNvSpPr txBox="1"/>
              <p:nvPr/>
            </p:nvSpPr>
            <p:spPr>
              <a:xfrm>
                <a:off x="1832040" y="373536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6" name=""/>
          <p:cNvSpPr/>
          <p:nvPr/>
        </p:nvSpPr>
        <p:spPr>
          <a:xfrm>
            <a:off x="1539720" y="3946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1547640" y="3946320"/>
            <a:ext cx="0" cy="3222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717560" y="4132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1843200" y="406548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0" name=""/>
          <p:cNvSpPr/>
          <p:nvPr/>
        </p:nvSpPr>
        <p:spPr>
          <a:xfrm>
            <a:off x="1539720" y="42703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1725480" y="457344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1851120" y="451944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3" name=""/>
          <p:cNvSpPr/>
          <p:nvPr/>
        </p:nvSpPr>
        <p:spPr>
          <a:xfrm>
            <a:off x="1547640" y="4711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V="1">
            <a:off x="1547640" y="417672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2038320" y="364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6" name=""/>
          <p:cNvSpPr/>
          <p:nvPr/>
        </p:nvSpPr>
        <p:spPr>
          <a:xfrm>
            <a:off x="255600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249720" y="33670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3433680" y="33004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9" name=""/>
          <p:cNvSpPr/>
          <p:nvPr/>
        </p:nvSpPr>
        <p:spPr>
          <a:xfrm>
            <a:off x="2556000" y="39416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3249720" y="38084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1" name=""/>
              <p:cNvSpPr txBox="1"/>
              <p:nvPr/>
            </p:nvSpPr>
            <p:spPr>
              <a:xfrm>
                <a:off x="3422520" y="37353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2" name=""/>
          <p:cNvSpPr/>
          <p:nvPr/>
        </p:nvSpPr>
        <p:spPr>
          <a:xfrm>
            <a:off x="2556000" y="42688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249720" y="413532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4" name=""/>
              <p:cNvSpPr txBox="1"/>
              <p:nvPr/>
            </p:nvSpPr>
            <p:spPr>
              <a:xfrm>
                <a:off x="3422520" y="406872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5" name=""/>
          <p:cNvSpPr/>
          <p:nvPr/>
        </p:nvSpPr>
        <p:spPr>
          <a:xfrm>
            <a:off x="2563920" y="47228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3257640" y="45896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7" name=""/>
              <p:cNvSpPr txBox="1"/>
              <p:nvPr/>
            </p:nvSpPr>
            <p:spPr>
              <a:xfrm>
                <a:off x="3441600" y="45324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8" name=""/>
          <p:cNvSpPr/>
          <p:nvPr/>
        </p:nvSpPr>
        <p:spPr>
          <a:xfrm>
            <a:off x="4611600" y="3855960"/>
            <a:ext cx="260280" cy="8064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79280" y="493380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72960" y="48690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11" name=""/>
          <p:cNvSpPr/>
          <p:nvPr/>
        </p:nvSpPr>
        <p:spPr>
          <a:xfrm>
            <a:off x="179280" y="52894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372960" y="522612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13" name=""/>
          <p:cNvSpPr/>
          <p:nvPr/>
        </p:nvSpPr>
        <p:spPr>
          <a:xfrm flipH="1" flipV="1">
            <a:off x="4826160" y="386100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537000" y="350208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1547640" y="349200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632040" y="363204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2038320" y="440676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3632040" y="439740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9" name=""/>
          <p:cNvSpPr/>
          <p:nvPr/>
        </p:nvSpPr>
        <p:spPr>
          <a:xfrm>
            <a:off x="1719360" y="49356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844640" y="486900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1" name=""/>
          <p:cNvSpPr/>
          <p:nvPr/>
        </p:nvSpPr>
        <p:spPr>
          <a:xfrm>
            <a:off x="1019160" y="50846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981360" y="50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19360" y="53928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1833480" y="53402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5" name=""/>
          <p:cNvSpPr/>
          <p:nvPr/>
        </p:nvSpPr>
        <p:spPr>
          <a:xfrm>
            <a:off x="1541520" y="5530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1549440" y="5530680"/>
            <a:ext cx="0" cy="3225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719360" y="57164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1833480" y="56498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9" name=""/>
          <p:cNvSpPr/>
          <p:nvPr/>
        </p:nvSpPr>
        <p:spPr>
          <a:xfrm>
            <a:off x="1541520" y="5854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727280" y="615780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1841400" y="61038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2" name=""/>
          <p:cNvSpPr/>
          <p:nvPr/>
        </p:nvSpPr>
        <p:spPr>
          <a:xfrm>
            <a:off x="1549440" y="629604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1549440" y="576108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039760" y="5226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2557440" y="5084640"/>
            <a:ext cx="3263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821200" y="494496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7" name=""/>
              <p:cNvSpPr txBox="1"/>
              <p:nvPr/>
            </p:nvSpPr>
            <p:spPr>
              <a:xfrm>
                <a:off x="6012000" y="487836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8" name=""/>
          <p:cNvSpPr/>
          <p:nvPr/>
        </p:nvSpPr>
        <p:spPr>
          <a:xfrm>
            <a:off x="2557440" y="5526000"/>
            <a:ext cx="3263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821200" y="53863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0" name=""/>
              <p:cNvSpPr txBox="1"/>
              <p:nvPr/>
            </p:nvSpPr>
            <p:spPr>
              <a:xfrm>
                <a:off x="6000840" y="531324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1" name=""/>
          <p:cNvSpPr/>
          <p:nvPr/>
        </p:nvSpPr>
        <p:spPr>
          <a:xfrm>
            <a:off x="2557440" y="58532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251160" y="57196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3" name=""/>
              <p:cNvSpPr txBox="1"/>
              <p:nvPr/>
            </p:nvSpPr>
            <p:spPr>
              <a:xfrm>
                <a:off x="3424320" y="565308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4" name=""/>
          <p:cNvSpPr/>
          <p:nvPr/>
        </p:nvSpPr>
        <p:spPr>
          <a:xfrm>
            <a:off x="2565360" y="630720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259080" y="61736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6" name=""/>
              <p:cNvSpPr txBox="1"/>
              <p:nvPr/>
            </p:nvSpPr>
            <p:spPr>
              <a:xfrm>
                <a:off x="3432240" y="61167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7" name=""/>
          <p:cNvSpPr/>
          <p:nvPr/>
        </p:nvSpPr>
        <p:spPr>
          <a:xfrm flipV="1">
            <a:off x="1549440" y="507636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6203880" y="521028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2039760" y="5991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3633840" y="598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1" name=""/>
          <p:cNvSpPr/>
          <p:nvPr/>
        </p:nvSpPr>
        <p:spPr>
          <a:xfrm>
            <a:off x="3398400" y="3941640"/>
            <a:ext cx="1397160" cy="10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13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1369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280040" y="3630600"/>
                <a:ext cx="7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3" name=""/>
          <p:cNvSpPr/>
          <p:nvPr/>
        </p:nvSpPr>
        <p:spPr>
          <a:xfrm>
            <a:off x="5370480" y="5013360"/>
            <a:ext cx="4507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372280" y="5445000"/>
            <a:ext cx="4507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5388120" y="5013000"/>
            <a:ext cx="0" cy="42372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 rot="5400000">
            <a:off x="1279440" y="1763640"/>
            <a:ext cx="112212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 rot="5400000">
            <a:off x="141228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 rot="5400000">
            <a:off x="1548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5400000">
            <a:off x="1683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2313000" y="817560"/>
            <a:ext cx="247824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4867200" y="606600"/>
                <a:ext cx="1040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2" name=""/>
          <p:cNvSpPr/>
          <p:nvPr/>
        </p:nvSpPr>
        <p:spPr>
          <a:xfrm>
            <a:off x="611280" y="69228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6732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80820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94140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10778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121140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732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808200" y="8794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94140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1077840" y="879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1211400" y="879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732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808200" y="1015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94140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077840" y="1015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211400" y="1015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732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808200" y="1150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94140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077840" y="1150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211400" y="1150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732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08200" y="128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94140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077840" y="128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211400" y="128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6732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808200" y="1420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94140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077840" y="1420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211400" y="1420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347840" y="7462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482840" y="746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616040" y="7462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1347840" y="88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1482840" y="88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1616040" y="88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347840" y="1017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482840" y="1017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1616040" y="1017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1347840" y="1150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482840" y="1150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616040" y="1150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1347840" y="12873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1482840" y="12873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1616040" y="12873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1347840" y="14223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1482840" y="14223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1616040" y="14223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6732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808200" y="15559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94140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1077840" y="15559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211400" y="15559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732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808200" y="16891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94140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077840" y="16891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211400" y="16891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1347840" y="15559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1482840" y="15559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1616040" y="15559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347840" y="16905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482840" y="16905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1616040" y="16905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611280" y="182412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6732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80820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94140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0778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121140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732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08200" y="20113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94140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077840" y="20113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211400" y="20113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732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0820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94140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07784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1140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6732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808200" y="2282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94140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1077840" y="2282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1211400" y="2282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6732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80820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94140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07784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121140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6732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80820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94140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107784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121140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1347840" y="1878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1482840" y="1878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1616040" y="1878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347840" y="2013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1482840" y="2013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1616040" y="2013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1347840" y="2149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1482840" y="2149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1616040" y="2149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34784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48284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161604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34784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148284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61604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134784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148284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161604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732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80820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94140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107784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121140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6732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80820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94140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07784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21140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134784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148284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61604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4784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148284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161604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1744560" y="69696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8064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94148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07504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2114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234468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8064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41480" y="8841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07504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211480" y="8841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2344680" y="8841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8064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1941480" y="102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207504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2211480" y="102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2344680" y="102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18064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941480" y="1155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07504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2211480" y="1155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344680" y="1155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064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941480" y="1290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07504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211480" y="1290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344680" y="1290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18064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941480" y="142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07504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211480" y="142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344680" y="142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481120" y="7509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616120" y="7509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749680" y="7509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481120" y="8859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16120" y="8859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749680" y="8859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481120" y="1022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2616120" y="1022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749680" y="1022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481120" y="1155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616120" y="1155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749680" y="1155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481120" y="12924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616120" y="12924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749680" y="12924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481120" y="142704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616120" y="142704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749680" y="14270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18064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1941480" y="15606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07504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211480" y="15606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344680" y="1560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18064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41480" y="16938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07504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211480" y="16938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2344680" y="16938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2481120" y="1560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2616120" y="1560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2749680" y="1560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481120" y="16956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2616120" y="16956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2749680" y="16956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1DA2-7740-44F5-A27B-922BA461D7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 rot="16200000">
            <a:off x="3302640" y="-800640"/>
            <a:ext cx="371520" cy="6618240"/>
          </a:xfrm>
          <a:custGeom>
            <a:avLst/>
            <a:gdLst>
              <a:gd name="textAreaLeft" fmla="*/ 0 w 371520"/>
              <a:gd name="textAreaRight" fmla="*/ 134280 w 371520"/>
              <a:gd name="textAreaTop" fmla="*/ 172440 h 6618240"/>
              <a:gd name="textAreaBottom" fmla="*/ 6445800 h 661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16200" y="10795"/>
                  <a:pt x="21600" y="10795"/>
                </a:cubicBezTo>
                <a:cubicBezTo>
                  <a:pt x="162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108000" y="185904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Critical path: Reduction from 44 to only 32 sequential operations (30%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379440" y="28670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1903320" y="28670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3487680" y="28670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006960" y="28670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179280" y="3355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179280" y="37227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7" name=""/>
              <p:cNvSpPr txBox="1"/>
              <p:nvPr/>
            </p:nvSpPr>
            <p:spPr>
              <a:xfrm>
                <a:off x="338040" y="3295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8" name=""/>
              <p:cNvSpPr txBox="1"/>
              <p:nvPr/>
            </p:nvSpPr>
            <p:spPr>
              <a:xfrm>
                <a:off x="316080" y="36561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9" name=""/>
          <p:cNvSpPr/>
          <p:nvPr/>
        </p:nvSpPr>
        <p:spPr>
          <a:xfrm>
            <a:off x="1717560" y="33512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0" name=""/>
              <p:cNvSpPr txBox="1"/>
              <p:nvPr/>
            </p:nvSpPr>
            <p:spPr>
              <a:xfrm>
                <a:off x="1854360" y="32846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1" name=""/>
          <p:cNvSpPr/>
          <p:nvPr/>
        </p:nvSpPr>
        <p:spPr>
          <a:xfrm>
            <a:off x="101772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979920" y="35002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1717560" y="3808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4" name=""/>
              <p:cNvSpPr txBox="1"/>
              <p:nvPr/>
            </p:nvSpPr>
            <p:spPr>
              <a:xfrm>
                <a:off x="1832040" y="373536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5" name=""/>
          <p:cNvSpPr/>
          <p:nvPr/>
        </p:nvSpPr>
        <p:spPr>
          <a:xfrm>
            <a:off x="1539720" y="3946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 flipV="1">
            <a:off x="1547640" y="3946320"/>
            <a:ext cx="0" cy="3222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1717560" y="4132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8" name=""/>
              <p:cNvSpPr txBox="1"/>
              <p:nvPr/>
            </p:nvSpPr>
            <p:spPr>
              <a:xfrm>
                <a:off x="1843200" y="406548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9" name=""/>
          <p:cNvSpPr/>
          <p:nvPr/>
        </p:nvSpPr>
        <p:spPr>
          <a:xfrm>
            <a:off x="1539720" y="427032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1725480" y="457344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1851120" y="451944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2" name=""/>
          <p:cNvSpPr/>
          <p:nvPr/>
        </p:nvSpPr>
        <p:spPr>
          <a:xfrm>
            <a:off x="1547640" y="471168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1547640" y="417672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2038320" y="364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5" name=""/>
          <p:cNvSpPr/>
          <p:nvPr/>
        </p:nvSpPr>
        <p:spPr>
          <a:xfrm>
            <a:off x="2556000" y="35002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3249720" y="33670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7" name=""/>
              <p:cNvSpPr txBox="1"/>
              <p:nvPr/>
            </p:nvSpPr>
            <p:spPr>
              <a:xfrm>
                <a:off x="3433680" y="33004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8" name=""/>
          <p:cNvSpPr/>
          <p:nvPr/>
        </p:nvSpPr>
        <p:spPr>
          <a:xfrm>
            <a:off x="2556000" y="39416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3249720" y="38084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0" name=""/>
              <p:cNvSpPr txBox="1"/>
              <p:nvPr/>
            </p:nvSpPr>
            <p:spPr>
              <a:xfrm>
                <a:off x="3422520" y="37353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1" name=""/>
          <p:cNvSpPr/>
          <p:nvPr/>
        </p:nvSpPr>
        <p:spPr>
          <a:xfrm>
            <a:off x="2556000" y="42688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3249720" y="413532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3422520" y="406872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4" name=""/>
          <p:cNvSpPr/>
          <p:nvPr/>
        </p:nvSpPr>
        <p:spPr>
          <a:xfrm>
            <a:off x="2563920" y="472284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57640" y="458964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6" name=""/>
              <p:cNvSpPr txBox="1"/>
              <p:nvPr/>
            </p:nvSpPr>
            <p:spPr>
              <a:xfrm>
                <a:off x="3441600" y="45324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7" name=""/>
          <p:cNvSpPr/>
          <p:nvPr/>
        </p:nvSpPr>
        <p:spPr>
          <a:xfrm>
            <a:off x="4611600" y="3855960"/>
            <a:ext cx="260280" cy="8064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179280" y="493380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9" name=""/>
              <p:cNvSpPr txBox="1"/>
              <p:nvPr/>
            </p:nvSpPr>
            <p:spPr>
              <a:xfrm>
                <a:off x="372960" y="486900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00" name=""/>
          <p:cNvSpPr/>
          <p:nvPr/>
        </p:nvSpPr>
        <p:spPr>
          <a:xfrm>
            <a:off x="179280" y="528948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1" name=""/>
              <p:cNvSpPr txBox="1"/>
              <p:nvPr/>
            </p:nvSpPr>
            <p:spPr>
              <a:xfrm>
                <a:off x="372960" y="522612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02" name=""/>
          <p:cNvSpPr/>
          <p:nvPr/>
        </p:nvSpPr>
        <p:spPr>
          <a:xfrm flipH="1" flipV="1">
            <a:off x="4826160" y="386100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537000" y="350208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1547640" y="349200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5" name=""/>
              <p:cNvSpPr txBox="1"/>
              <p:nvPr/>
            </p:nvSpPr>
            <p:spPr>
              <a:xfrm>
                <a:off x="3632040" y="363204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6" name=""/>
              <p:cNvSpPr txBox="1"/>
              <p:nvPr/>
            </p:nvSpPr>
            <p:spPr>
              <a:xfrm>
                <a:off x="2038320" y="4406760"/>
                <a:ext cx="763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7" name=""/>
              <p:cNvSpPr txBox="1"/>
              <p:nvPr/>
            </p:nvSpPr>
            <p:spPr>
              <a:xfrm>
                <a:off x="3632040" y="439740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8" name=""/>
          <p:cNvSpPr/>
          <p:nvPr/>
        </p:nvSpPr>
        <p:spPr>
          <a:xfrm>
            <a:off x="1719360" y="49356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9" name=""/>
              <p:cNvSpPr txBox="1"/>
              <p:nvPr/>
            </p:nvSpPr>
            <p:spPr>
              <a:xfrm>
                <a:off x="1844640" y="486900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0" name=""/>
          <p:cNvSpPr/>
          <p:nvPr/>
        </p:nvSpPr>
        <p:spPr>
          <a:xfrm>
            <a:off x="1019160" y="50846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>
            <a:off x="981360" y="50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1719360" y="539280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3" name=""/>
              <p:cNvSpPr txBox="1"/>
              <p:nvPr/>
            </p:nvSpPr>
            <p:spPr>
              <a:xfrm>
                <a:off x="1833480" y="53402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4" name=""/>
          <p:cNvSpPr/>
          <p:nvPr/>
        </p:nvSpPr>
        <p:spPr>
          <a:xfrm>
            <a:off x="1541520" y="5530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1549440" y="5530680"/>
            <a:ext cx="0" cy="3225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719360" y="57164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7" name=""/>
              <p:cNvSpPr txBox="1"/>
              <p:nvPr/>
            </p:nvSpPr>
            <p:spPr>
              <a:xfrm>
                <a:off x="1833480" y="564984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8" name=""/>
          <p:cNvSpPr/>
          <p:nvPr/>
        </p:nvSpPr>
        <p:spPr>
          <a:xfrm>
            <a:off x="1541520" y="585468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1727280" y="615780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0" name=""/>
              <p:cNvSpPr txBox="1"/>
              <p:nvPr/>
            </p:nvSpPr>
            <p:spPr>
              <a:xfrm>
                <a:off x="1841400" y="61038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1" name=""/>
          <p:cNvSpPr/>
          <p:nvPr/>
        </p:nvSpPr>
        <p:spPr>
          <a:xfrm>
            <a:off x="1549440" y="6296040"/>
            <a:ext cx="1760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549440" y="5761080"/>
            <a:ext cx="0" cy="536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3" name=""/>
              <p:cNvSpPr txBox="1"/>
              <p:nvPr/>
            </p:nvSpPr>
            <p:spPr>
              <a:xfrm>
                <a:off x="2039760" y="5226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4" name=""/>
          <p:cNvSpPr/>
          <p:nvPr/>
        </p:nvSpPr>
        <p:spPr>
          <a:xfrm>
            <a:off x="2557440" y="5084640"/>
            <a:ext cx="3263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21200" y="494496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6" name=""/>
              <p:cNvSpPr txBox="1"/>
              <p:nvPr/>
            </p:nvSpPr>
            <p:spPr>
              <a:xfrm>
                <a:off x="6012000" y="487836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7" name=""/>
          <p:cNvSpPr/>
          <p:nvPr/>
        </p:nvSpPr>
        <p:spPr>
          <a:xfrm>
            <a:off x="2557440" y="5526000"/>
            <a:ext cx="3263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5821200" y="53863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9" name=""/>
              <p:cNvSpPr txBox="1"/>
              <p:nvPr/>
            </p:nvSpPr>
            <p:spPr>
              <a:xfrm>
                <a:off x="6000840" y="531324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0" name=""/>
          <p:cNvSpPr/>
          <p:nvPr/>
        </p:nvSpPr>
        <p:spPr>
          <a:xfrm>
            <a:off x="2557440" y="585324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3251160" y="571968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2" name=""/>
              <p:cNvSpPr txBox="1"/>
              <p:nvPr/>
            </p:nvSpPr>
            <p:spPr>
              <a:xfrm>
                <a:off x="3424320" y="565308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3" name=""/>
          <p:cNvSpPr/>
          <p:nvPr/>
        </p:nvSpPr>
        <p:spPr>
          <a:xfrm>
            <a:off x="2565360" y="630720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259080" y="617364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3432240" y="61167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6" name=""/>
          <p:cNvSpPr/>
          <p:nvPr/>
        </p:nvSpPr>
        <p:spPr>
          <a:xfrm flipV="1">
            <a:off x="1549440" y="5076360"/>
            <a:ext cx="0" cy="53676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6203880" y="521028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2039760" y="599112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3633840" y="5981760"/>
                <a:ext cx="76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0" name=""/>
          <p:cNvSpPr/>
          <p:nvPr/>
        </p:nvSpPr>
        <p:spPr>
          <a:xfrm>
            <a:off x="3398400" y="3941640"/>
            <a:ext cx="1397160" cy="10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13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1369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4280040" y="3630600"/>
                <a:ext cx="7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2" name=""/>
          <p:cNvSpPr/>
          <p:nvPr/>
        </p:nvSpPr>
        <p:spPr>
          <a:xfrm>
            <a:off x="5370480" y="5013360"/>
            <a:ext cx="4507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5372280" y="5445000"/>
            <a:ext cx="4507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5388120" y="5013000"/>
            <a:ext cx="0" cy="42372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05E9-D81B-4547-AA1A-C3A04DFDB5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Experimen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Implemented into HM 0.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imulated with common condi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mputers of the same configuration are used for all 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run time measur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B354-59D1-4EE2-8730-032433C0EB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eduction of operations in the critical pa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f the deblocking fil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D961-5025-41FF-AAC7-04A710627E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Bit rate reductions and run time ratio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147240" y="549000"/>
            <a:ext cx="8844120" cy="61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bit rate increase nor reduction for the luminance sign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mall bit rate reduction (up to 0.5%) for the two chrominance signa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pproximately same run time since the implementation does not exploit the benefit of increased parallel process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49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103640" cy="43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356F-0ACD-482A-9838-411AFAE0E9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mparison of subjective qualit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xample: Kimono, Random Access, High Efficiency, QP37, Frame 14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3276720" y="5950080"/>
            <a:ext cx="324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HM 0.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53" name="" descr=""/>
          <p:cNvPicPr/>
          <p:nvPr/>
        </p:nvPicPr>
        <p:blipFill>
          <a:blip r:embed="rId1"/>
          <a:stretch/>
        </p:blipFill>
        <p:spPr>
          <a:xfrm>
            <a:off x="760320" y="1204920"/>
            <a:ext cx="7621560" cy="44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5AF1-F72A-410C-B3F6-2B9C739854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mparison of subjective qualit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xample: Kimono, Random Access, High Efficiency, QP37, Frame 14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2482920" y="5950080"/>
            <a:ext cx="482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HM 0.9 + Parallel decis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57" name="" descr=""/>
          <p:cNvPicPr/>
          <p:nvPr/>
        </p:nvPicPr>
        <p:blipFill>
          <a:blip r:embed="rId1"/>
          <a:stretch/>
        </p:blipFill>
        <p:spPr>
          <a:xfrm>
            <a:off x="760320" y="1204920"/>
            <a:ext cx="7621560" cy="44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C072-0710-4D9C-AA5F-C4964A786D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mparison of subjective qualit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xample: Kimono, Random Access, High Efficiency, QP37, Frame 14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0" y="59500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arginal differences in luminance due to parallel decis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6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48440" cy="4287960"/>
          </a:xfrm>
          <a:prstGeom prst="rect">
            <a:avLst/>
          </a:prstGeom>
          <a:ln w="0">
            <a:noFill/>
          </a:ln>
        </p:spPr>
      </p:pic>
      <p:sp>
        <p:nvSpPr>
          <p:cNvPr id="3562" name=""/>
          <p:cNvSpPr/>
          <p:nvPr/>
        </p:nvSpPr>
        <p:spPr>
          <a:xfrm>
            <a:off x="324000" y="1197000"/>
            <a:ext cx="64764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539640" y="5334120"/>
            <a:ext cx="8020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D633-1649-48A4-95B0-BC3D3C7075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Increase of parallel processing capabilities of the deblocking filter by decisions performed based on the unfiltered signal of the current C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duction of sequential operations required in the critical path 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f the decision/filtering steps of the deblocking filter by 3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ntroduced degree of freedom is helpful for all implementation desig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D bit rat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No change for the luminance sig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mall reduction (up to 0.5%) for the two chrominance sign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ubjective quality is unchang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Proposal: Inclusion into the 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2FBA-EDDC-4B0F-9A0D-66ECD326DE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Processing order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7480" y="1427040"/>
            <a:ext cx="130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08080" y="1701720"/>
            <a:ext cx="366840" cy="7239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7240" y="2421000"/>
            <a:ext cx="4561200" cy="2760120"/>
            <a:chOff x="147240" y="2421000"/>
            <a:chExt cx="4561200" cy="2760120"/>
          </a:xfrm>
        </p:grpSpPr>
        <p:sp>
          <p:nvSpPr>
            <p:cNvPr id="99" name=""/>
            <p:cNvSpPr/>
            <p:nvPr/>
          </p:nvSpPr>
          <p:spPr>
            <a:xfrm flipH="1" flipV="1">
              <a:off x="146520" y="242100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059480" y="242496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971000" y="242496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883240" y="242496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796200" y="242496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46520" y="334116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059480" y="334512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971000" y="334512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883240" y="334512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796200" y="334512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6520" y="426132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059480" y="426528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971000" y="426528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83240" y="4265280"/>
              <a:ext cx="91188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96200" y="4265280"/>
              <a:ext cx="912240" cy="915840"/>
            </a:xfrm>
            <a:prstGeom prst="rect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2884320" y="5181120"/>
            <a:ext cx="625680" cy="4827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44600" y="5664240"/>
            <a:ext cx="7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LC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084000" y="2417760"/>
            <a:ext cx="1435320" cy="14414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17760"/>
            <a:ext cx="7174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3135240"/>
            <a:ext cx="717480" cy="7239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42200" y="3135240"/>
            <a:ext cx="717480" cy="7239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7524720" y="2417760"/>
            <a:ext cx="1434960" cy="14414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02560" y="3859200"/>
            <a:ext cx="3585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1120" y="3859200"/>
            <a:ext cx="358920" cy="3603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2560" y="4219560"/>
            <a:ext cx="3585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1120" y="4219560"/>
            <a:ext cx="358920" cy="3603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579920"/>
            <a:ext cx="35892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4579920"/>
            <a:ext cx="35892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4940280"/>
            <a:ext cx="35892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4940280"/>
            <a:ext cx="35892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84000" y="3859200"/>
            <a:ext cx="1435320" cy="14414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45440" y="2414520"/>
            <a:ext cx="717480" cy="7239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7528680" y="3854520"/>
            <a:ext cx="1435320" cy="14414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3859200"/>
            <a:ext cx="717840" cy="7239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5440" y="4572000"/>
            <a:ext cx="717840" cy="72396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1427040"/>
            <a:ext cx="7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LC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76440" y="1700280"/>
            <a:ext cx="366840" cy="7239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94640" y="5302080"/>
            <a:ext cx="366480" cy="7239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16640" y="6026040"/>
            <a:ext cx="7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BDD1-037F-4045-AAEC-0F337E1ACC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HM 0.9 Deblocking steps for each CU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ecisons to filter th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ecision to filter th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9440" y="3198960"/>
            <a:ext cx="287280" cy="1457280"/>
          </a:xfrm>
          <a:custGeom>
            <a:avLst/>
            <a:gdLst>
              <a:gd name="textAreaLeft" fmla="*/ 0 w 287280"/>
              <a:gd name="textAreaRight" fmla="*/ 103680 w 28728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8040" y="362736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27280" y="5278320"/>
                <a:ext cx="331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84560" y="3654360"/>
                <a:ext cx="306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67280" y="5284800"/>
                <a:ext cx="331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H="1" flipV="1">
            <a:off x="2959200" y="3198960"/>
            <a:ext cx="1434960" cy="1441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393440" y="3198960"/>
            <a:ext cx="1435320" cy="1441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59200" y="4640400"/>
            <a:ext cx="1434960" cy="1441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90200" y="4637160"/>
            <a:ext cx="1435320" cy="1441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4979160" y="2253600"/>
            <a:ext cx="287280" cy="1457280"/>
          </a:xfrm>
          <a:custGeom>
            <a:avLst/>
            <a:gdLst>
              <a:gd name="textAreaLeft" fmla="*/ 0 w 287280"/>
              <a:gd name="textAreaRight" fmla="*/ 103680 w 28728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851440" y="5278320"/>
            <a:ext cx="901800" cy="2764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059440"/>
            <a:ext cx="194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Example CU of 16x16 samp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59200" y="3198240"/>
            <a:ext cx="2867040" cy="2879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7560" y="2630520"/>
            <a:ext cx="165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8 Sampl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11920" y="3830760"/>
            <a:ext cx="165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8 Sampl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6840" y="725400"/>
                <a:ext cx="281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76360" y="1246320"/>
                <a:ext cx="281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410000" y="1825560"/>
                <a:ext cx="30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76360" y="2362320"/>
                <a:ext cx="30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6178680" y="2630160"/>
            <a:ext cx="885600" cy="5684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64280" y="2421000"/>
            <a:ext cx="194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mallest „grid“ for</a:t>
            </a:r>
            <a:br>
              <a:rPr sz="1600"/>
            </a:b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deblocking: 8x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91000" y="3141720"/>
                <a:ext cx="306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997520" y="3147840"/>
                <a:ext cx="3315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65440" y="4575240"/>
                <a:ext cx="331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97520" y="4575240"/>
                <a:ext cx="331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3BAC-9247-49BF-AA48-6D47267C6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nsidered situ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LCU and thus all CUs are of the size 8x8 samp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ll samples at all edges are filt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=&gt; All edges are deblocked dependent on each 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FACD-85C3-4FCB-9416-CD5767BAFD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0280" y="3205080"/>
            <a:ext cx="1441440" cy="100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3184560"/>
            <a:ext cx="19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Current C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63800" y="907920"/>
            <a:ext cx="1347840" cy="2937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765000"/>
            <a:ext cx="271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Previous C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200" y="1130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8200" y="1130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41400" y="1130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1130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1400" y="1130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00" y="1263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8200" y="12636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41400" y="1263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77840" y="12636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1400" y="12636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3200" y="14000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8200" y="14000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41400" y="14000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7840" y="14000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1400" y="14000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00" y="15350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" y="15350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41400" y="15350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77840" y="15350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1400" y="15350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3200" y="16700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200" y="16700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41400" y="16700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7840" y="16700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1400" y="16700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3200" y="18050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8200" y="18050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41400" y="18050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77840" y="18050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1400" y="18050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7840" y="11304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82840" y="11304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16040" y="11304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47840" y="12654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82840" y="12654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16040" y="12654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47840" y="14018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82840" y="14018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6040" y="14018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47840" y="15350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82840" y="15350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6040" y="15350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47840" y="16714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82840" y="16714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6040" y="16714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47840" y="18064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82840" y="18064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16040" y="18064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3200" y="19400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8200" y="19400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1400" y="19400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7840" y="19400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1400" y="19400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200" y="20732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8200" y="20732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1400" y="20732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7840" y="20732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1400" y="20732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47840" y="19400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82840" y="19400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6040" y="19400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47840" y="20750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82840" y="20750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16040" y="20750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12920" y="2908440"/>
            <a:ext cx="866880" cy="1285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V="1">
            <a:off x="2182680" y="2276280"/>
            <a:ext cx="231804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12920" y="250020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1640" y="2071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 flipV="1">
            <a:off x="2182680" y="2706480"/>
            <a:ext cx="231804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7451640" y="249228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 rot="16200000">
            <a:off x="2085120" y="213912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83000" y="1777680"/>
            <a:ext cx="2587320" cy="2826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8161200" y="158436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4356000" y="215100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76720" y="1655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14BC-6CBB-41C9-A824-AE4CCAACFF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720" y="18921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2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820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4140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778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114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2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8200" y="1274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4140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7784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14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32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8200" y="141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4140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7784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14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32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8200" y="1546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140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7784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14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32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200" y="168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140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7784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14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32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8200" y="1816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4140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784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114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4784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8284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160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47840" y="127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82840" y="127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16040" y="127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47840" y="14130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82840" y="14130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16040" y="14130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47840" y="154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82840" y="154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16040" y="154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47840" y="16826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2840" y="16826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6826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7840" y="18176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82840" y="18176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16040" y="18176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32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8200" y="1951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4140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7784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14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32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8200" y="2084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4140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7784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14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47840" y="1951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82840" y="1951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16040" y="1951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47840" y="20858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82840" y="20858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16040" y="20858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301840" y="2012760"/>
            <a:ext cx="231768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301840" y="2706480"/>
            <a:ext cx="2198880" cy="50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0072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181160" y="31701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187280" y="30369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87280" y="29005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187280" y="2765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87280" y="2630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87280" y="2492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2357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79360" y="2220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589880" y="18399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013440" y="21891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7588080" y="2503440"/>
                <a:ext cx="465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4AE1-0AF3-49B7-8F25-ED55AB7ADB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249720" y="395928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49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49720" y="46641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49720" y="5038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57640" y="56577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00720" y="18921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6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255600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3433680" y="38926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2556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422520" y="42480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2556000" y="47973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433680" y="45975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2556000" y="5172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422520" y="49719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7" name=""/>
          <p:cNvSpPr/>
          <p:nvPr/>
        </p:nvSpPr>
        <p:spPr>
          <a:xfrm>
            <a:off x="2563920" y="57913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441600" y="5600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9" name=""/>
          <p:cNvSpPr/>
          <p:nvPr/>
        </p:nvSpPr>
        <p:spPr>
          <a:xfrm>
            <a:off x="179280" y="615960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372960" y="609300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 flipV="1">
            <a:off x="2301840" y="2012760"/>
            <a:ext cx="231768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635280" y="533700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 flipV="1">
            <a:off x="2301840" y="2706480"/>
            <a:ext cx="2198880" cy="50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0072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81160" y="31701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87280" y="30369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87280" y="29005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187280" y="2765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87280" y="2630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87280" y="2492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87280" y="2357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179360" y="2220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013440" y="21891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591320" y="1841400"/>
                <a:ext cx="420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7591320" y="24940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6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32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820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4140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0778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114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32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08200" y="1274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140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7784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2114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32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200" y="141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4140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784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114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32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8200" y="1546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4140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7784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114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32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08200" y="168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4140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7784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2114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32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08200" y="1816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4140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784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14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34784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8284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160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47840" y="127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482840" y="127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16040" y="127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347840" y="14130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82840" y="14130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16040" y="14130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47840" y="154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82840" y="154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16040" y="154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47840" y="16826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82840" y="16826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6040" y="16826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347840" y="18176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82840" y="18176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16040" y="18176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32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08200" y="1951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94140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114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32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8200" y="2084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4140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7784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114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47840" y="1951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482840" y="1951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616040" y="1951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47840" y="20858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82840" y="20858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16040" y="20858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04BE-60F9-4533-8DB6-58E0CB7910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478800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7240" y="57240"/>
            <a:ext cx="8844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HM 0.9 Deblocking steps for a CU of size 8x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pendenc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79280" y="39481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38040" y="3887640"/>
                <a:ext cx="398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17928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316080" y="424800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1717560" y="394344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1854360" y="387684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101772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979920" y="4092480"/>
            <a:ext cx="11196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17560" y="43149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1832040" y="424800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>
            <a:off x="1539720" y="44528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547640" y="4092120"/>
            <a:ext cx="0" cy="10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717560" y="466416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1843200" y="459756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1539720" y="480204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17560" y="5035680"/>
            <a:ext cx="83844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832040" y="4968720"/>
                <a:ext cx="487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1539720" y="51735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725480" y="5641920"/>
            <a:ext cx="83844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851120" y="5587920"/>
                <a:ext cx="465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1547640" y="5780160"/>
            <a:ext cx="1764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547640" y="5171760"/>
            <a:ext cx="0" cy="6080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038320" y="5345280"/>
                <a:ext cx="133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2556000" y="409248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49720" y="395928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433680" y="38926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2556000" y="44481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49720" y="43149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3422520" y="424800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8" name=""/>
          <p:cNvSpPr/>
          <p:nvPr/>
        </p:nvSpPr>
        <p:spPr>
          <a:xfrm>
            <a:off x="2556000" y="479736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49720" y="4664160"/>
            <a:ext cx="8380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433680" y="45975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>
            <a:off x="2556000" y="51721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249720" y="50385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422520" y="497196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>
            <a:off x="2563920" y="5791320"/>
            <a:ext cx="6998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257640" y="5657760"/>
            <a:ext cx="838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441600" y="5600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4087800" y="4448160"/>
            <a:ext cx="7002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4992840" y="4248000"/>
                <a:ext cx="420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9" name=""/>
          <p:cNvSpPr/>
          <p:nvPr/>
        </p:nvSpPr>
        <p:spPr>
          <a:xfrm flipH="1">
            <a:off x="4050000" y="44528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046760" y="3284640"/>
            <a:ext cx="11203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4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4823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3635280" y="5337000"/>
                <a:ext cx="133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2" name=""/>
          <p:cNvSpPr/>
          <p:nvPr/>
        </p:nvSpPr>
        <p:spPr>
          <a:xfrm rot="16200000">
            <a:off x="1674000" y="213912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2171880" y="1804680"/>
            <a:ext cx="2863800" cy="2682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091120" y="16844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8183520" y="16113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611280" y="108756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32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0820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94140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0778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1140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732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08200" y="1274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94140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77840" y="1274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11400" y="1274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732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08200" y="141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94140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77840" y="141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211400" y="141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732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08200" y="1546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4140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077840" y="1546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211400" y="1546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732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08200" y="1681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4140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077840" y="1681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211400" y="1681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732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08200" y="1816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4140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077840" y="1816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211400" y="1816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347840" y="1141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82840" y="1141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616040" y="1141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47840" y="127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82840" y="127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616040" y="127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347840" y="14130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482840" y="14130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16040" y="14130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47840" y="1546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482840" y="1546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16040" y="1546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347840" y="16826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82840" y="16826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616040" y="16826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47840" y="18176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82840" y="18176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16040" y="18176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32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08200" y="1951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94140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77840" y="1951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11400" y="1951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08200" y="2084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4140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077840" y="2084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11400" y="2084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347840" y="195120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2840" y="195120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16040" y="195120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47840" y="20858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482840" y="20858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16040" y="20858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1280" y="2208240"/>
            <a:ext cx="112536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32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820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4140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78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1140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32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08200" y="239544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94140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077840" y="239544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11400" y="239544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32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820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94140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07784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1140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32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08200" y="266688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94140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077840" y="266688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211400" y="266688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32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0820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4140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07784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1140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732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820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4140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7784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21140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47840" y="2262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482840" y="2262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616040" y="2262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347840" y="2397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82840" y="2397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16040" y="2397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347840" y="2533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82840" y="2533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16040" y="2533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4784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8284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1604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34784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8284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61604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4784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8284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61604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732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0820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4140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7784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1140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732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0820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4140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07784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21140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34784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48284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1604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4784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48284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1604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44560" y="1081080"/>
            <a:ext cx="1125720" cy="11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064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94148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7504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114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34468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8064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41480" y="12682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7504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211480" y="12682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344680" y="12682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064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941480" y="1405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07504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211480" y="1405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344680" y="1405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064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941480" y="15397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07504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211480" y="15397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344680" y="15397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064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941480" y="167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07504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1148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344680" y="167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8064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941480" y="180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07504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11480" y="180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44680" y="180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81120" y="11350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616120" y="11350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749680" y="11350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481120" y="12700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616120" y="12700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749680" y="12700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81120" y="14065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616120" y="14065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749680" y="14065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481120" y="1539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16120" y="1539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749680" y="1539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481120" y="16765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616120" y="16765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49680" y="16765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481120" y="181116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616120" y="181116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9680" y="181116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8064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941480" y="19447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07504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211480" y="19447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344680" y="19447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064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941480" y="20779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07504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211480" y="20779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344680" y="20779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81120" y="194472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616120" y="194472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749680" y="194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481120" y="20797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616120" y="20797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9680" y="20797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57A5-9785-46D8-8C45-72CB81255E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anuary,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1-22T00:19:12Z</dcterms:modified>
  <cp:revision>1503</cp:revision>
  <dc:subject/>
  <dc:title>JCTVC-D214</dc:title>
</cp:coreProperties>
</file>