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9.wmf" ContentType="image/x-wmf"/>
  <Override PartName="/ppt/media/image18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7.png" ContentType="image/png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7FEF-117E-4997-9466-869B2ADE51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7+3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7-4+37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 COUNT 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OCK 51% FOR M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7321-288B-43C7-AC9C-E6A04529D4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 de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D4F9-9D16-4A5F-8C4A-95E8042073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3C7-B603-4C83-82B2-4CDEBE21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3CF-2FDA-4079-ACB5-DED074BE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B78-7C00-42DA-9D47-9D8B3E71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D5B-DB80-439F-9C9E-DDADFCC1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8D8E-9574-4A14-9808-AEDB0E98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4AE1-991D-492A-894D-A469ED39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E7E2-43AC-4351-B2AF-046EAF38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3BEC-806E-487F-98AA-10BDBA1D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F3CA-5CC1-4A93-A200-48CEE35F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65D7-730B-4171-AB91-0A4DA9F0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AE70-66A2-43B7-B8DB-06CFD41F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48F-CF51-4EA2-8D11-902DEDB5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8118-63D8-4D4A-B22B-0B3777C9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58E5-E8AD-4C60-8E88-92B53AAA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FB76-4A6F-460F-8583-BE77187E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F8E2-B1FD-4D1A-BB1A-D2C81850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23BF-25BA-4AFB-866A-EF25B7FC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520-0C96-4BEA-B62E-14AF0380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667-489F-46AF-B7C1-807A7083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866-00DB-445B-9ED8-B239AAA0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F57-0C28-487D-A160-A240479F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0A2-E99D-4911-9618-17B2AEB1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B37-80DB-4247-AD3C-E012821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820-2CE8-4451-900A-C6A10446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271E-5D08-4BFD-81EF-6C154DD2B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7616-FFE1-40AE-A918-85AC31C81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rdware Friendly Rotational Transform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CTVC-D180 &amp; D2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jan Pro"/>
                <a:ea typeface="Arial Unicode MS"/>
              </a:rPr>
              <a:t>Xing Wen, Oscar C. 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jan Pro"/>
                <a:ea typeface="Arial Unicode MS"/>
              </a:rPr>
              <a:t>Hong Kong Univ of Science &amp;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jan Pro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ajan Pro"/>
                <a:ea typeface="Arial Unicode MS"/>
              </a:rPr>
              <a:t>January,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4642-1209-41A2-B3D4-820E4F89E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nefits for HF-R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hree benefits for our proposed HF-ROT compared to original R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oefficients can be described as following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oefficients inside transform matrices would require same clock cycle to finish multiplication operations, which result in very regular data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not need to be identical, and can be adjust to achieve different trade-off between data throughput and coding ga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our simulation results, the HF-ROT achieve similar coding gain as original R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6A7D-13D9-47A3-8BFD-BBA47B95A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7"/>
          <p:cNvGraphicFramePr/>
          <p:nvPr/>
        </p:nvGraphicFramePr>
        <p:xfrm>
          <a:off x="1116000" y="2708280"/>
          <a:ext cx="691200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708280"/>
                    <a:ext cx="6912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exity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96D9-09B8-4EC0-A96B-9129456F9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4260960" y="1284120"/>
            <a:ext cx="4775040" cy="4592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-4680" y="1268280"/>
            <a:ext cx="4835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exity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580000" y="1827360"/>
          <a:ext cx="3384720" cy="1690560"/>
        </p:xfrm>
        <a:graphic>
          <a:graphicData uri="http://schemas.openxmlformats.org/drawingml/2006/table">
            <a:tbl>
              <a:tblPr/>
              <a:tblGrid>
                <a:gridCol w="768240"/>
                <a:gridCol w="1336680"/>
                <a:gridCol w="1279800"/>
              </a:tblGrid>
              <a:tr h="21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ward Trans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rse Trans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F-ROT (m=3 n=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F-ROT (m=5 n=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5E2D-8588-4D03-B02C-123D7088A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580000" y="4348080"/>
          <a:ext cx="3384720" cy="1617840"/>
        </p:xfrm>
        <a:graphic>
          <a:graphicData uri="http://schemas.openxmlformats.org/drawingml/2006/table">
            <a:tbl>
              <a:tblPr/>
              <a:tblGrid>
                <a:gridCol w="768240"/>
                <a:gridCol w="1336680"/>
                <a:gridCol w="1279800"/>
              </a:tblGrid>
              <a:tr h="2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ward Trans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rse Trans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F-ROT (m=5 n=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F-ROT (m=3 n=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Content Placeholder 2"/>
          <p:cNvSpPr/>
          <p:nvPr/>
        </p:nvSpPr>
        <p:spPr>
          <a:xfrm>
            <a:off x="0" y="1341360"/>
            <a:ext cx="5724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able 1 shows number of add operations for ROT and HF-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F-ROT (m=3, n=3) can save about 53% and 35% add operation for forward and inverse transform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able 2 show clock cyc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F-ROT (m=3, n=3) can save about 72% and 60% clock cycles for forward and inverse transform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previous page, we could find it would takes  37+37 clock cycles to finish shift operations in certain mode in fwd, and 37-4+37-4 clock cycles to finish add operations. So total clock cycles should be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F-ROT: Fwd 4*(4m-2), inv 4*(4n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5724360" y="146844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1: number of add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5724360" y="402732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2: number of clock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ulation 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conducted simulation on TMuC 0.9 using the two intra configurations, i.e., high-efficiency and low-complexity, and the two random access configurations from the common coding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enviro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: Windows 7 Enterprise 64-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: Inter® Core (TM) i7, 2.8GH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: 4G or 8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 times are not preci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A5DD-3974-437C-ACB3-4399D84C1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2033280" y="14040"/>
            <a:ext cx="507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5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st results: TMuC 0.7 ROT on MDDT off vs TMuC 0.7 ROT off MDDT off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ulation Results of HF-ROT (m=5, n=3) VS TMuC 0.9 anch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7CDB-9EAE-4E4A-AB19-E9D115891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00000" y="1197000"/>
          <a:ext cx="6913800" cy="5184720"/>
        </p:xfrm>
        <a:graphic>
          <a:graphicData uri="http://schemas.openxmlformats.org/drawingml/2006/table">
            <a:tbl>
              <a:tblPr/>
              <a:tblGrid>
                <a:gridCol w="1303560"/>
                <a:gridCol w="934920"/>
                <a:gridCol w="934920"/>
                <a:gridCol w="935280"/>
                <a:gridCol w="934920"/>
                <a:gridCol w="934920"/>
                <a:gridCol w="935280"/>
              </a:tblGrid>
              <a:tr h="22716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ntra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Y 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U 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V 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Y 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U 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V 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2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3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2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2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3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2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3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2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2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3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2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3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Y 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U 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V 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Y 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U 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V 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ding gain for R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9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also tested the original ROT performance on TMuC 0.9 and also submitted as a contribution 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CTVC-D22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and  Table shows the BD-Bitrate results for original ROT on TMuC 0.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C6BE-A9D5-4EC7-95C1-C78C71269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979640" y="2349360"/>
          <a:ext cx="5033880" cy="2044800"/>
        </p:xfrm>
        <a:graphic>
          <a:graphicData uri="http://schemas.openxmlformats.org/drawingml/2006/table">
            <a:tbl>
              <a:tblPr/>
              <a:tblGrid>
                <a:gridCol w="946080"/>
                <a:gridCol w="681120"/>
                <a:gridCol w="681120"/>
                <a:gridCol w="682560"/>
                <a:gridCol w="681120"/>
                <a:gridCol w="680760"/>
                <a:gridCol w="681120"/>
              </a:tblGrid>
              <a:tr h="204840">
                <a:tc rowSpan="2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30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050920" y="4437000"/>
          <a:ext cx="4896000" cy="2349720"/>
        </p:xfrm>
        <a:graphic>
          <a:graphicData uri="http://schemas.openxmlformats.org/drawingml/2006/table">
            <a:tbl>
              <a:tblPr/>
              <a:tblGrid>
                <a:gridCol w="919440"/>
                <a:gridCol w="663480"/>
                <a:gridCol w="662040"/>
                <a:gridCol w="663480"/>
                <a:gridCol w="662040"/>
                <a:gridCol w="663480"/>
                <a:gridCol w="662040"/>
              </a:tblGrid>
              <a:tr h="566640">
                <a:tc rowSpan="2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ROT cannot be easily implemented by hardware. However ROT has a good potential to be modified to be more hardware friend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F-ROT can achieve similar coding gain as original ROT but can be efficiently implemented by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uggest adopt HF-ROT into next version HM for further study in CE7 (may combined with some proposals for example: JCTVC-D35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2D66-13AE-4051-B914-8F956EB42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ding gain for R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scribed in JCTVC-D357, the ROT was tested in TMuC 0.7 as part of TE12 in Guangzhou meeting (JCVTV-C202 and JCVTV-C03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8B14-0172-4997-BD57-685906017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349360"/>
          <a:ext cx="5832360" cy="4248360"/>
        </p:xfrm>
        <a:graphic>
          <a:graphicData uri="http://schemas.openxmlformats.org/drawingml/2006/table">
            <a:tbl>
              <a:tblPr/>
              <a:tblGrid>
                <a:gridCol w="1219320"/>
                <a:gridCol w="396720"/>
                <a:gridCol w="100080"/>
                <a:gridCol w="696960"/>
                <a:gridCol w="511200"/>
                <a:gridCol w="698400"/>
                <a:gridCol w="98280"/>
                <a:gridCol w="509760"/>
                <a:gridCol w="100080"/>
                <a:gridCol w="701640"/>
                <a:gridCol w="98280"/>
                <a:gridCol w="701640"/>
              </a:tblGrid>
              <a:tr h="204840">
                <a:tc row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In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Intra-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1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1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Gulim"/>
                        </a:rPr>
                        <a:t>-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2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25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1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1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480">
                <a:tc row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Random ac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Random access Lo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-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1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1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1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Gulim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ulation Results of HF-ROT vs R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9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817A-625F-4520-BA9C-584EE4FA8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6877080" cy="2828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" descr=""/>
          <p:cNvPicPr/>
          <p:nvPr/>
        </p:nvPicPr>
        <p:blipFill>
          <a:blip r:embed="rId3"/>
          <a:stretch/>
        </p:blipFill>
        <p:spPr>
          <a:xfrm>
            <a:off x="1116000" y="3784680"/>
            <a:ext cx="6877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troduction of Rotational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otational transform in TMu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ardware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ardware Friendly ROT (HF-R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-set”and “n-set”transform mat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mplexity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F-ROT saving about 53% and 35% add operations for forward and inverse 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F-ROT saving about 49% and 60% clock cycles for forward and inverse 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D-rate reduction 3.2%, 2.4%, 1.1%, 1.2% on average for intra HE, intra loco, RA HE, RA loco cases to TMuC 0.9 anchor respe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F07E-A2BA-49D4-A5C2-284317E64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roduction of Rotational 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al transform is a secondary transform applied after DCT transform, the block diagram is show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T transfomed block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obtained by following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input residue block, D is DCT matrix,  are horizontal ROT and vertical ROT matrices respe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E27A-0C24-4995-BD55-0FB92BD7B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ject 1" descr=""/>
          <p:cNvPicPr/>
          <p:nvPr/>
        </p:nvPicPr>
        <p:blipFill>
          <a:blip r:embed="rId1"/>
          <a:srcRect l="-1465" t="-12856" r="-1403" b="-930"/>
          <a:stretch/>
        </p:blipFill>
        <p:spPr>
          <a:xfrm>
            <a:off x="179280" y="2421000"/>
            <a:ext cx="882036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Object 10"/>
          <p:cNvGraphicFramePr/>
          <p:nvPr/>
        </p:nvGraphicFramePr>
        <p:xfrm>
          <a:off x="684360" y="3043080"/>
          <a:ext cx="41256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043080"/>
                    <a:ext cx="412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8"/>
          <p:cNvGraphicFramePr/>
          <p:nvPr/>
        </p:nvGraphicFramePr>
        <p:xfrm>
          <a:off x="5219640" y="3016080"/>
          <a:ext cx="49392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016080"/>
                    <a:ext cx="493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Group 10"/>
          <p:cNvGrpSpPr/>
          <p:nvPr/>
        </p:nvGrpSpPr>
        <p:grpSpPr>
          <a:xfrm>
            <a:off x="3132000" y="4292640"/>
            <a:ext cx="2772000" cy="504720"/>
            <a:chOff x="3132000" y="4292640"/>
            <a:chExt cx="2772000" cy="504720"/>
          </a:xfrm>
        </p:grpSpPr>
        <p:pic>
          <p:nvPicPr>
            <p:cNvPr id="107" name="图片 6" descr=""/>
            <p:cNvPicPr/>
            <p:nvPr/>
          </p:nvPicPr>
          <p:blipFill>
            <a:blip r:embed="rId6"/>
            <a:stretch/>
          </p:blipFill>
          <p:spPr>
            <a:xfrm>
              <a:off x="3132000" y="4292640"/>
              <a:ext cx="2772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9"/>
            <p:cNvSpPr/>
            <p:nvPr/>
          </p:nvSpPr>
          <p:spPr>
            <a:xfrm>
              <a:off x="4644000" y="4653360"/>
              <a:ext cx="144000" cy="14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roduction of Rotational 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ric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defined as the following compund Given’s rotation matrix produ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MuC 0.9, there are four sets of rotation angles 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 = 1 to 4) which equals to four sets of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ectiv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75B0-BD41-4CAC-84EF-623D14494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63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63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7" descr=""/>
          <p:cNvPicPr/>
          <p:nvPr/>
        </p:nvPicPr>
        <p:blipFill>
          <a:blip r:embed="rId1"/>
          <a:stretch/>
        </p:blipFill>
        <p:spPr>
          <a:xfrm>
            <a:off x="2556000" y="3121200"/>
            <a:ext cx="3678120" cy="4111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" descr=""/>
          <p:cNvPicPr/>
          <p:nvPr/>
        </p:nvPicPr>
        <p:blipFill>
          <a:blip r:embed="rId2"/>
          <a:stretch/>
        </p:blipFill>
        <p:spPr>
          <a:xfrm>
            <a:off x="2556000" y="3759120"/>
            <a:ext cx="3678120" cy="39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0" y="63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T in TMuC 0.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MuC, four sets of ROT matrics are stored as following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0B2A-84A9-46EF-A5A8-F919C68D4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Picture4"/>
          <p:cNvPicPr/>
          <p:nvPr/>
        </p:nvPicPr>
        <p:blipFill>
          <a:blip r:embed="rId1"/>
          <a:stretch/>
        </p:blipFill>
        <p:spPr>
          <a:xfrm>
            <a:off x="1276200" y="2349360"/>
            <a:ext cx="6824880" cy="23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Picture1"/>
          <p:cNvPicPr/>
          <p:nvPr/>
        </p:nvPicPr>
        <p:blipFill>
          <a:blip r:embed="rId2"/>
          <a:stretch/>
        </p:blipFill>
        <p:spPr>
          <a:xfrm>
            <a:off x="1332000" y="4149720"/>
            <a:ext cx="66546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anning 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ward ROT process can be describ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9777-F224-4A37-84D3-F18F8649A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84297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rdware implementation of R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E710-1D8F-4D5D-9773-CCF7394FF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0689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rdware implementation of R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2708280"/>
            <a:ext cx="83170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regular Data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at Mode 2, Rv(1, 1) is “111100111111” which needs 10 times shift operation and 9 times add operation, on the other hand, Rv(1, 3) is “1100100010” which only needs 4 times shift operation and 3 times add op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assume add and shift operation take one clock cycle each, then we could observe that Rv(1, 3) only take 7 clock cycles while Rv(1, 1) needs 19 clock cycles to finish 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ultiplier use Rv(1, 3) must wait the multiplier which take Rv(1, 1) for 19-7=12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8CE6-93A9-49E9-A2A3-DCF8E0F2D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4379760" cy="100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1"/>
          <p:cNvGraphicFramePr/>
          <p:nvPr/>
        </p:nvGraphicFramePr>
        <p:xfrm>
          <a:off x="5940360" y="189000"/>
          <a:ext cx="291456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89000"/>
                    <a:ext cx="29145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rdware Friendly R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4360" y="3716280"/>
            <a:ext cx="777240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1:  coefficient of original inverse ROT matrices is input to get absolute value, and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ign_bit_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st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2:  the absolute value is mapping to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rounded to get intege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hift_bits_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ertain quantization offset. The offset can be different for different coeffici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3:  the quantization error is input to the loop again and repeat step 1 and 2, and get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ign_bit_2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shift_bits_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4:  repeat step 1 and 2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imes,  and then get the “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-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inverse HF-ROT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5:  use inverse of “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-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inverse HF-ROT matrix as new forward HF-ROT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6:  loop step 1 and 2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imes with new forward HF-ROT matrix and get “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-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forward HF-ROT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028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3ADE-B565-4217-8583-0CEAF071A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6"/>
          <p:cNvGraphicFramePr/>
          <p:nvPr/>
        </p:nvGraphicFramePr>
        <p:xfrm>
          <a:off x="1547640" y="981000"/>
          <a:ext cx="5904000" cy="27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981000"/>
                    <a:ext cx="590400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xxx</cp:lastModifiedBy>
  <dcterms:modified xsi:type="dcterms:W3CDTF">2011-01-22T12:10:33Z</dcterms:modified>
  <cp:revision>1164</cp:revision>
  <dc:subject/>
  <dc:title>A Novel Multiple Description Video Coding Based on H.264/AVC Video Coding Standard</dc:title>
</cp:coreProperties>
</file>