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7635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11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468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46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46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46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4" marL="46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5" marL="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6" marL="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6640" y="3887640"/>
            <a:ext cx="7776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468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46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46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46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4" marL="46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5" marL="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6" marL="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1720" y="651024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Symbol"/>
                <a:ea typeface="Symbol"/>
              </a:rPr>
              <a:t>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6640" y="3887640"/>
            <a:ext cx="77760" cy="4572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HEVC Performance with cascaded coding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ndrea Gabriellin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avid Flyn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omas Dav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2708c"/>
                </a:solidFill>
                <a:latin typeface="Arial Bold"/>
              </a:rPr>
              <a:t>Conclusion</a:t>
            </a:r>
            <a:endParaRPr b="0" lang="en-US" sz="32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79916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t">
            <a:normAutofit/>
          </a:bodyPr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HM is offering even larger gains on pre-compressed material than for original material: this is good news!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In RA configurations, ALF contributes more than half of this additional gai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We recommend that HM performance is checked on pre-processed material from time to tim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We also recommend that individual tools be verified from time to time on pre-compressed material. Tools that provide additional gain on such sequences are especially valuabl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2708c"/>
                </a:solidFill>
                <a:latin typeface="Arial Bold"/>
              </a:rPr>
              <a:t>Aims</a:t>
            </a:r>
            <a:endParaRPr b="0" lang="en-US" sz="32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472608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t">
            <a:normAutofit/>
          </a:bodyPr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Cascaded coding affects the performance of video codecs and it is widely used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In broadcasting, compression is typically applied at least in capture and playou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Other processes will introduce extra compress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2708c"/>
                </a:solidFill>
                <a:latin typeface="Arial Bold"/>
              </a:rPr>
              <a:t>Tests</a:t>
            </a:r>
            <a:endParaRPr b="0" lang="en-US" sz="32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79916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t">
            <a:normAutofit/>
          </a:bodyPr>
          <a:p>
            <a:pPr marL="385920" indent="-3430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We tested HM0.9 on sequences using fairly mild capture and playout compression (visually lossless or near-lossless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531720" indent="-342720">
              <a:spcBef>
                <a:spcPts val="400"/>
              </a:spcBef>
              <a:buClr>
                <a:srgbClr val="6270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We compared BD-R gain over JM for pre-compressed and original: we found increased BD-R gain for pre-compressed materia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531720" indent="-342720">
              <a:spcBef>
                <a:spcPts val="400"/>
              </a:spcBef>
              <a:buClr>
                <a:srgbClr val="6270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We also tested ALF-on and off on both sets of material and found that in random access ALF substantially contributes to improved performance for pre-compressed material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89080" y="247680"/>
            <a:ext cx="1440" cy="247680"/>
          </a:xfrm>
          <a:prstGeom prst="line">
            <a:avLst/>
          </a:prstGeom>
          <a:ln w="47520">
            <a:solidFill>
              <a:srgbClr val="d0d8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</a:rPr>
              <a:t>Future Media &amp; Technolog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-27360"/>
            <a:ext cx="7773840" cy="76356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old"/>
              </a:rPr>
              <a:t>First Test: HM 0.9 vs JM 16.2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29" name=""/>
          <p:cNvSpPr/>
          <p:nvPr/>
        </p:nvSpPr>
        <p:spPr>
          <a:xfrm>
            <a:off x="900000" y="2205000"/>
            <a:ext cx="1656000" cy="25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 HD seq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40360" y="1413000"/>
            <a:ext cx="158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M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2203560"/>
            <a:ext cx="158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M 16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4000" y="3862440"/>
            <a:ext cx="18000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DCAM 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C-I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40360" y="3790800"/>
            <a:ext cx="158436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M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40360" y="4581360"/>
            <a:ext cx="158436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M 16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56000" y="4221000"/>
            <a:ext cx="1008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364000" y="414936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64000" y="4726080"/>
            <a:ext cx="57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556000" y="1773360"/>
            <a:ext cx="3384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556000" y="2493720"/>
            <a:ext cx="338436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4720" y="170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24720" y="24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2472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24720" y="4870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958520" y="141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958880" y="39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958520" y="2278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958880" y="4654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4" idx="3"/>
            <a:endCxn id="246" idx="3"/>
          </p:cNvCxnSpPr>
          <p:nvPr/>
        </p:nvCxnSpPr>
        <p:spPr>
          <a:xfrm>
            <a:off x="8344080" y="1641240"/>
            <a:ext cx="2160" cy="8658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45" idx="3"/>
            <a:endCxn id="247" idx="3"/>
          </p:cNvCxnSpPr>
          <p:nvPr/>
        </p:nvCxnSpPr>
        <p:spPr>
          <a:xfrm>
            <a:off x="8361360" y="4162320"/>
            <a:ext cx="2160" cy="721440"/>
          </a:xfrm>
          <a:prstGeom prst="bentConnector3">
            <a:avLst>
              <a:gd name="adj1" fmla="val 14300000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89080" y="247680"/>
            <a:ext cx="1440" cy="247680"/>
          </a:xfrm>
          <a:prstGeom prst="line">
            <a:avLst/>
          </a:prstGeom>
          <a:ln w="47520">
            <a:solidFill>
              <a:srgbClr val="d0d8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</a:rPr>
              <a:t>Future Media &amp; Technolog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-27360"/>
            <a:ext cx="7773840" cy="76356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old"/>
              </a:rPr>
              <a:t>Second Test: HM 0.9 ALF test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2205000"/>
            <a:ext cx="1656000" cy="25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 HD seq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0360" y="1413000"/>
            <a:ext cx="158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M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F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940360" y="2203560"/>
            <a:ext cx="158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M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F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64000" y="3862440"/>
            <a:ext cx="18000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DCAM 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C-I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940360" y="3790800"/>
            <a:ext cx="158436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M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F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40360" y="4581360"/>
            <a:ext cx="158436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M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F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21000"/>
            <a:ext cx="1008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364000" y="414936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64000" y="4726080"/>
            <a:ext cx="57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556000" y="1773360"/>
            <a:ext cx="3384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56000" y="2493720"/>
            <a:ext cx="338436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24720" y="170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24720" y="24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2472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24720" y="4870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58520" y="141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58880" y="39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958520" y="2278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58880" y="4654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"/>
          <p:cNvCxnSpPr>
            <a:stCxn id="271" idx="3"/>
            <a:endCxn id="273" idx="3"/>
          </p:cNvCxnSpPr>
          <p:nvPr/>
        </p:nvCxnSpPr>
        <p:spPr>
          <a:xfrm>
            <a:off x="8344080" y="1641240"/>
            <a:ext cx="2160" cy="8658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6" name=""/>
          <p:cNvCxnSpPr>
            <a:stCxn id="272" idx="3"/>
            <a:endCxn id="274" idx="3"/>
          </p:cNvCxnSpPr>
          <p:nvPr/>
        </p:nvCxnSpPr>
        <p:spPr>
          <a:xfrm>
            <a:off x="8361360" y="4162320"/>
            <a:ext cx="2160" cy="721440"/>
          </a:xfrm>
          <a:prstGeom prst="bentConnector3">
            <a:avLst>
              <a:gd name="adj1" fmla="val 14300000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2708c"/>
                </a:solidFill>
                <a:latin typeface="Arial Bold"/>
              </a:rPr>
              <a:t>The Setup</a:t>
            </a:r>
            <a:endParaRPr b="0" lang="en-US" sz="32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810240" cy="494352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t">
            <a:normAutofit/>
          </a:bodyPr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Arial"/>
              </a:rPr>
              <a:t>Sequences processed by double encoding, HDCAM SR followed by AVC/H.264-I 100</a:t>
            </a:r>
            <a:endParaRPr b="0" lang="en-US" sz="2500" spc="-1" strike="noStrike">
              <a:solidFill>
                <a:srgbClr val="808080"/>
              </a:solidFill>
              <a:latin typeface="Arial"/>
            </a:endParaRPr>
          </a:p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Arial"/>
              </a:rPr>
              <a:t>Visually lossless</a:t>
            </a:r>
            <a:endParaRPr b="0" lang="en-US" sz="25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284720" y="909720"/>
          <a:ext cx="4532400" cy="4895640"/>
        </p:xfrm>
        <a:graphic>
          <a:graphicData uri="http://schemas.openxmlformats.org/drawingml/2006/table">
            <a:tbl>
              <a:tblPr/>
              <a:tblGrid>
                <a:gridCol w="1673280"/>
                <a:gridCol w="885960"/>
                <a:gridCol w="1009440"/>
                <a:gridCol w="963720"/>
              </a:tblGrid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Sequ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Y-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Cb-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Cr-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Nebuta Festi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37.4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39.7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39.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Steam Tr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43.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48.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49.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Kimo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44.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46.8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47.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Parksc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41.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43.8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44.4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Cac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39.4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42.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44.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BasketballDr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43.3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44.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44.9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BQTerr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39.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42.7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355680"/>
                          <a:tab algn="l" pos="457200"/>
                          <a:tab algn="l" pos="685800"/>
                          <a:tab algn="l" pos="711360"/>
                          <a:tab algn="l" pos="91440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808080"/>
                          </a:solidFill>
                          <a:latin typeface="Arial Unicode MS"/>
                          <a:ea typeface="Times New Roman"/>
                        </a:rPr>
                        <a:t>44.2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2708c"/>
                </a:solidFill>
                <a:latin typeface="Arial Bold"/>
              </a:rPr>
              <a:t>The Setup</a:t>
            </a:r>
            <a:endParaRPr b="0" lang="en-US" sz="32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79916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t">
            <a:normAutofit/>
          </a:bodyPr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Two encoder configurations used for test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Random access high-efficiency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Low delay high-efficiency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Second test: evaluate performance delta of HM 0.9 with and without ALF with original and processed sequenc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JM 16.2 used with CfP configs, except th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2 references were used for direct comparison with HM configuration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QPs were adjusted to provide a similar spread of bit rates and PSNR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2708c"/>
                </a:solidFill>
                <a:latin typeface="Arial Bold"/>
              </a:rPr>
              <a:t>The Results</a:t>
            </a:r>
            <a:endParaRPr b="0" lang="en-US" sz="32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7575840" cy="909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Arial"/>
              </a:rPr>
              <a:t>First Test: HM 0.9 vs JM 16.2</a:t>
            </a:r>
            <a:endParaRPr b="0" lang="en-US" sz="25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773280" y="2494080"/>
          <a:ext cx="7399080" cy="2833560"/>
        </p:xfrm>
        <a:graphic>
          <a:graphicData uri="http://schemas.openxmlformats.org/drawingml/2006/table">
            <a:tbl>
              <a:tblPr/>
              <a:tblGrid>
                <a:gridCol w="1644480"/>
                <a:gridCol w="947520"/>
                <a:gridCol w="949320"/>
                <a:gridCol w="949320"/>
                <a:gridCol w="1011240"/>
                <a:gridCol w="949320"/>
                <a:gridCol w="947880"/>
              </a:tblGrid>
              <a:tr h="3988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Random a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Low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Original Sequ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4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36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37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37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8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4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Processed Sequ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45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4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41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39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6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2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2708c"/>
                </a:solidFill>
                <a:latin typeface="Arial Bold"/>
              </a:rPr>
              <a:t>The Results</a:t>
            </a:r>
            <a:endParaRPr b="0" lang="en-US" sz="32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936200" cy="909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Arial"/>
              </a:rPr>
              <a:t>Second Test: HM 0.9 ALF versus no-ALF Test</a:t>
            </a:r>
            <a:endParaRPr b="0" lang="en-US" sz="25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773280" y="2494080"/>
          <a:ext cx="7399080" cy="2833560"/>
        </p:xfrm>
        <a:graphic>
          <a:graphicData uri="http://schemas.openxmlformats.org/drawingml/2006/table">
            <a:tbl>
              <a:tblPr/>
              <a:tblGrid>
                <a:gridCol w="1644480"/>
                <a:gridCol w="947520"/>
                <a:gridCol w="949320"/>
                <a:gridCol w="949320"/>
                <a:gridCol w="1011240"/>
                <a:gridCol w="949320"/>
                <a:gridCol w="947880"/>
              </a:tblGrid>
              <a:tr h="3988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Random a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Low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Original Sequ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6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1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1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7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1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Processed Sequ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12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1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7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upert Preston Bell</dc:creator>
  <dc:description/>
  <cp:keywords/>
  <dc:language>en-US</dc:language>
  <cp:lastModifiedBy>thomasd</cp:lastModifiedBy>
  <dcterms:modified xsi:type="dcterms:W3CDTF">2011-01-25T02:25:24Z</dcterms:modified>
  <cp:revision>15</cp:revision>
  <dc:subject/>
  <dc:title>Presentation title</dc:title>
</cp:coreProperties>
</file>