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598-E458-464C-B7E4-7CF4646D2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A5C1-8E95-4469-94B7-8B1041913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E86-C917-4968-95BD-E51AF7FA0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30A-840B-40B8-AC1C-0B70C562D0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379-89E4-4BF9-B4B5-75A4A9BFE5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D567-0BAA-44BA-9038-E7C704D7DE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BA81-B2FB-42CD-8B10-0C8B231FCB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ED84-6AEA-4570-A52A-130EECD07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586-8957-4C51-9F5D-8EB1996FE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899-D43F-4415-A9C4-5443574D206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AB6-F88F-4B4C-9C19-93A31B9FBA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10B-ED07-4C2C-8C98-982808B2702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B60-8957-479B-9EBE-D863F21F6C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449F-4341-4A7B-834E-DB0B102F1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F86B-A49C-44C4-9342-FAEE5ADD1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6FC4-C61A-4AE8-B52D-0F214065A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A32D-8114-4C27-B8B8-4B4102A19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EF9E-268F-42A8-BB7C-44099EE2C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C2981-0173-4CD5-B0B5-931E7E5701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2F7AB-B7D9-4C43-ADF3-3B47ADB89F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9CC0C-AB4A-42FB-82FF-AFF7573E18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C73D-6265-44AD-88FA-C1C7303596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31A20-EE8D-41EB-BF29-75DEF29A4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8F34-3D30-4891-9056-8119CFB767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B69A5-28A2-4224-A614-6612DABEA3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E5CD-6797-4EF1-B11C-60718E59E5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9404-0232-488E-BBEA-10CD769887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2A13C-32F9-46DB-B94E-B9CCA95CC6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DAD0F-B9D8-4191-8D99-B84EA8812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2A688-56FA-44DE-B771-1E3FB02F5D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4E17C-F363-41CF-BD14-1DFA38484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38A2-0048-4A95-B1AD-8E86B3227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5386-F81E-4373-80B1-E10CCB2ED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A374-18E5-4A7B-9FE8-9B9B12167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0C2A-5EC5-43B7-A306-0FF3560BB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AF13-E7E0-4BA5-BE44-E71723992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4C5D-1CB6-41FE-8F9F-21B8B1B07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DC9F-BC07-4611-8CA3-1FCAAB167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D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D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1ED9-9F76-412C-8834-16608FF382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d Intra Mode Co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新細明體"/>
              </a:rPr>
              <a:t>JCTVC-D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Mei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Dae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0-28 January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9600" y="378936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i Guo, Xun Guo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26760" y="127764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odeL &l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ModeL the shortest code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code length from 4 t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odeL &gt;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mode “4” the shortest code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MP - Mode Re-order for chroma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51D7-830F-4D2B-B43B-9EC856DCB6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28720" y="2643120"/>
          <a:ext cx="3915000" cy="1789200"/>
        </p:xfrm>
        <a:graphic>
          <a:graphicData uri="http://schemas.openxmlformats.org/drawingml/2006/table">
            <a:tbl>
              <a:tblPr/>
              <a:tblGrid>
                <a:gridCol w="1930320"/>
                <a:gridCol w="1984680"/>
              </a:tblGrid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a Mode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ew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 1   1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   1   1    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book in I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MP - Mode Re-order for chroma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E47-5225-43BF-B3F4-53105AD840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74800" y="2214720"/>
          <a:ext cx="5286240" cy="2014560"/>
        </p:xfrm>
        <a:graphic>
          <a:graphicData uri="http://schemas.openxmlformats.org/drawingml/2006/table">
            <a:tbl>
              <a:tblPr/>
              <a:tblGrid>
                <a:gridCol w="1735200"/>
                <a:gridCol w="709560"/>
                <a:gridCol w="709560"/>
                <a:gridCol w="711360"/>
                <a:gridCol w="711000"/>
                <a:gridCol w="709560"/>
              </a:tblGrid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uma  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__TH_L35"/>
          <p:cNvSpPr/>
          <p:nvPr/>
        </p:nvSpPr>
        <p:spPr>
          <a:xfrm>
            <a:off x="1774800" y="2214720"/>
            <a:ext cx="1714680" cy="64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text dependent intra mode coding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CDIM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6760" y="1123560"/>
            <a:ext cx="3444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= (MA,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tree is selected from a pre-defined set of coding trees based on the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30760" y="1123560"/>
            <a:ext cx="39513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84B0-3D48-430F-A242-8D4BA9181D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"/>
          <p:cNvGraphicFramePr/>
          <p:nvPr/>
        </p:nvGraphicFramePr>
        <p:xfrm>
          <a:off x="4730760" y="1123920"/>
          <a:ext cx="3951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760" y="1123920"/>
                    <a:ext cx="3951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 of IIMP and CDIM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A8D2-5419-4F48-8E32-481F3ECE95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08040" y="1428840"/>
            <a:ext cx="3463920" cy="35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4591080" y="2357280"/>
          <a:ext cx="4091040" cy="1568520"/>
        </p:xfrm>
        <a:graphic>
          <a:graphicData uri="http://schemas.openxmlformats.org/drawingml/2006/table">
            <a:tbl>
              <a:tblPr/>
              <a:tblGrid>
                <a:gridCol w="1617480"/>
                <a:gridCol w="2473560"/>
              </a:tblGrid>
              <a:tr h="35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ra Mode Ind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e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in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(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ode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 + CDIMC code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68A-5DAA-4C10-AB08-7F382EE175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– TMuC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onditions – JCTVC-C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Microsoft for cross verifying our results (D1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4D0D-E1A7-4E82-B583-81D8D5A08E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030-D5C6-4D85-9998-916181FCF6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0" y="976320"/>
            <a:ext cx="4405320" cy="2381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4524480" y="976320"/>
            <a:ext cx="4619520" cy="2381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1785960" y="3357720"/>
            <a:ext cx="46195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n improved intra mode coding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intra mod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dependent intra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d an average bit-rate reduction of 1.6% (HE-AI) and 2.0% (LC-A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minor complexity (&lt;=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o be adopted by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3F54-AC43-4FA8-BA8A-B83D892782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3" descr=""/>
          <p:cNvPicPr/>
          <p:nvPr/>
        </p:nvPicPr>
        <p:blipFill>
          <a:blip r:embed="rId1"/>
          <a:stretch/>
        </p:blipFill>
        <p:spPr>
          <a:xfrm>
            <a:off x="2279520" y="2766960"/>
            <a:ext cx="4578480" cy="115272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D93-1C79-494E-8779-249DB982E5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Intra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ntra Mode Prediction (IIM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selection of most probab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order for chroma prediction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 Dependent Intra Mode Coding (CDI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including neighboring intra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among coding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conditional entropy given the con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ra high efficiency – BD-rate reduction of 1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ra low complexity – BD-rate reduction of 2.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no complexity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CC6E-3A43-4961-A443-5AB459A313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DCA1-326A-4148-83A1-4C94329210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F8B5-A2B3-45C6-9396-B3F0B4C7B4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 mod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ProbableMode = Min(ModeA, Mod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ed6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 Mode Coding in HM1.0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E8F-8D14-4087-A967-3D787CC4A1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29"/>
          <p:cNvGraphicFramePr/>
          <p:nvPr/>
        </p:nvGraphicFramePr>
        <p:xfrm>
          <a:off x="1000080" y="2017800"/>
          <a:ext cx="178596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017800"/>
                    <a:ext cx="17859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9" descr=""/>
          <p:cNvPicPr/>
          <p:nvPr/>
        </p:nvPicPr>
        <p:blipFill>
          <a:blip r:embed="rId3"/>
          <a:stretch/>
        </p:blipFill>
        <p:spPr>
          <a:xfrm>
            <a:off x="3786120" y="2016000"/>
            <a:ext cx="3286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diction of chroma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ma mode 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code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length depends on the number of  candidate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 Mode Coding in HM1.0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FBC-2C9C-42E9-AA55-5D2567B1FC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28720" y="1857240"/>
          <a:ext cx="3915000" cy="1789200"/>
        </p:xfrm>
        <a:graphic>
          <a:graphicData uri="http://schemas.openxmlformats.org/drawingml/2006/table">
            <a:tbl>
              <a:tblPr/>
              <a:tblGrid>
                <a:gridCol w="1930320"/>
                <a:gridCol w="1984680"/>
              </a:tblGrid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hroma Mode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ew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 1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 1   1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  1   1    1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Intra Mode Prediction (II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most probabl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correlation among neighboring P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ly selection between two neighboring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re-order for chr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correlation between luma and ch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est codeword is assigned to the best luma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 dependent intra mode coding (CDI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distribution of intra mode is influenced by neighboring mod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ding tree is selected based on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93A8-83BE-467B-8479-D539AC77C6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8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gorith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1D23-C802-42A7-896D-32BCEB33F1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MP - Improved Most Probabl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7120" y="1123560"/>
            <a:ext cx="3230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bable Mode is selected between ModeA and Mod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dex is transmitted to indicate ModeA or ModeB is se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EF7-EF19-4EEB-B4C5-C287ADCF02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7"/>
          <p:cNvGraphicFramePr/>
          <p:nvPr/>
        </p:nvGraphicFramePr>
        <p:xfrm>
          <a:off x="4338720" y="1123920"/>
          <a:ext cx="357480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8720" y="1123920"/>
                    <a:ext cx="357480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01-22T15:33:02Z</dcterms:modified>
  <cp:revision>1549</cp:revision>
  <dc:subject/>
  <dc:title>Title: Arial Bold 32pt</dc:title>
</cp:coreProperties>
</file>