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11E-DD06-44B9-8BC2-84D1BD10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3B0-B617-4614-9B54-326A4DE2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67D-F8AE-4586-B4F5-5C046F66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1E8-406B-41E5-A6A1-925C3F33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F9B-8A42-4337-BAB9-60793A81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3CF-B014-40BC-ADC7-43B5095E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F91-F1B5-4163-B576-CBFAFBA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608-9580-462D-8254-86ED690B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D7E-83F5-4E16-BFCB-8D7D6BC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3EB-9861-40FE-B082-6CE315A0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026-54F4-4ACF-8956-E754937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819-9918-4537-8CC6-24E2E98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E122-2F2C-4BF9-A612-0097089555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for redundancy reduction in PU-based me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 Li, Jizheng Xu, Feng Wu, Houqiang 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Science and Technology of Ch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 based me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flexible than CU based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55640" y="2852640"/>
          <a:ext cx="7416720" cy="3456000"/>
        </p:xfrm>
        <a:graphic>
          <a:graphicData uri="http://schemas.openxmlformats.org/drawingml/2006/table">
            <a:tbl>
              <a:tblPr/>
              <a:tblGrid>
                <a:gridCol w="1482840"/>
                <a:gridCol w="1484280"/>
                <a:gridCol w="1482480"/>
                <a:gridCol w="1484640"/>
                <a:gridCol w="1482480"/>
              </a:tblGrid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 the merge candi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JCTVC-C277, two par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one CU shou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have same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MuC_0.9-CE9-HHI-DOCOMO2 has already implemented this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the performance of this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study of JCTVC-C2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905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able reduc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r: default TMuC 0.9 Anch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: PU based merging without reduc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26920" y="3284640"/>
          <a:ext cx="7561440" cy="302400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1512720"/>
                <a:gridCol w="1511640"/>
                <a:gridCol w="1512720"/>
              </a:tblGrid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low delay cases, most gain of PU based merging comes from this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chanism also works for random access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5640" y="3789360"/>
          <a:ext cx="7416720" cy="1481040"/>
        </p:xfrm>
        <a:graphic>
          <a:graphicData uri="http://schemas.openxmlformats.org/drawingml/2006/table">
            <a:tbl>
              <a:tblPr/>
              <a:tblGrid>
                <a:gridCol w="1482840"/>
                <a:gridCol w="1484280"/>
                <a:gridCol w="1482480"/>
                <a:gridCol w="1484640"/>
                <a:gridCol w="1482480"/>
              </a:tblGrid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PU based merging(Al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thout reduce process(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6:57:48Z</dcterms:created>
  <dc:creator>Bin Li (MSR Student-Person Consulting)</dc:creator>
  <dc:description/>
  <dc:language>en-US</dc:language>
  <cp:lastModifiedBy>LiBin</cp:lastModifiedBy>
  <dcterms:modified xsi:type="dcterms:W3CDTF">2011-01-21T02:01:16Z</dcterms:modified>
  <cp:revision>14</cp:revision>
  <dc:subject/>
  <dc:title>Rounding control in Chroma interpolation</dc:title>
</cp:coreProperties>
</file>