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E45-001B-401B-B5B5-5F304C6D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681-133D-496B-83C7-73DC1D53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D2C-9BF6-49AD-832D-5574D0AD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A14-BD80-4247-BBF0-8FF6A0D7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257-A7CE-421D-A75E-54BF9F9D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356-652B-45F6-928F-44859E29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B71-D7CA-454E-9022-DE185187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B57-45D4-46B9-8A54-A92D73CA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E5A-13FD-4BB7-BEC1-C2F0D3E9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F26-4555-4449-A44E-82A5F150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0E3-69A6-4C50-955D-5DB9C70B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69E-DB51-4390-B3F9-AFCBC44D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E283-4A6E-411B-B77F-8E2FA36AE7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unified design of RQT cbf coding in LC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 Li, Jizheng Xu, Feng Wu, Houqiang 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Science and Technology of Ch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design of signaling cb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max transform depth = 2, combined coding works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max transform depth &gt; 2, combined coding leads to performance l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define LCEC_CBP_YUV_ROOT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define QC_BLK_CBP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 better when depth &gt;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ssible reason of performance lo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ed coding, must encode 4 cbfs 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depth &gt; 2, in intermediate layers, some blocks will be further split, no need to code cbf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3419640" y="4365720"/>
          <a:ext cx="160020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365720"/>
                    <a:ext cx="16002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sche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code cbf for blocks that do not sp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tables to handle combined coding for 2 blocks, and 3 bloc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ntra, do not code RQT_CBF_R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nified design of max transform depth = 2 and &gt;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ing gain without complexity in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对象 3"/>
          <p:cNvGraphicFramePr/>
          <p:nvPr/>
        </p:nvGraphicFramePr>
        <p:xfrm>
          <a:off x="7380360" y="0"/>
          <a:ext cx="160020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对象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0"/>
                    <a:ext cx="16002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max RQT depth = 2 (defaul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1413000"/>
          <a:ext cx="7921440" cy="4392360"/>
        </p:xfrm>
        <a:graphic>
          <a:graphicData uri="http://schemas.openxmlformats.org/drawingml/2006/table">
            <a:tbl>
              <a:tblPr/>
              <a:tblGrid>
                <a:gridCol w="792000"/>
                <a:gridCol w="790560"/>
                <a:gridCol w="792360"/>
                <a:gridCol w="792000"/>
                <a:gridCol w="792360"/>
                <a:gridCol w="792000"/>
                <a:gridCol w="792000"/>
                <a:gridCol w="793800"/>
                <a:gridCol w="792360"/>
                <a:gridCol w="792000"/>
              </a:tblGrid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 intra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max RQT depth = 3 (default+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chor is TMuC 0.9, disabling cbf combined coding (better RD perform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dtreeTUMaxDepthInter: 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dtreeTUMaxDepthIntra: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QT depth=3, not combined coding Vs. proposed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628640"/>
          <a:ext cx="8280360" cy="4896000"/>
        </p:xfrm>
        <a:graphic>
          <a:graphicData uri="http://schemas.openxmlformats.org/drawingml/2006/table">
            <a:tbl>
              <a:tblPr/>
              <a:tblGrid>
                <a:gridCol w="826920"/>
                <a:gridCol w="827280"/>
                <a:gridCol w="826920"/>
                <a:gridCol w="828720"/>
                <a:gridCol w="827280"/>
                <a:gridCol w="828360"/>
                <a:gridCol w="828720"/>
                <a:gridCol w="828720"/>
                <a:gridCol w="828720"/>
                <a:gridCol w="828720"/>
              </a:tblGrid>
              <a:tr h="489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 intra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8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0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8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88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88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QT depth=2 Vs. depth=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0920" y="1268280"/>
          <a:ext cx="8642160" cy="548172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280"/>
                <a:gridCol w="863640"/>
                <a:gridCol w="865440"/>
                <a:gridCol w="863280"/>
                <a:gridCol w="865440"/>
                <a:gridCol w="863640"/>
                <a:gridCol w="865080"/>
                <a:gridCol w="865080"/>
              </a:tblGrid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 intra 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 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 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06:57:48Z</dcterms:created>
  <dc:creator>Bin Li (MSR Student-Person Consulting)</dc:creator>
  <dc:description/>
  <dc:language>en-US</dc:language>
  <cp:lastModifiedBy>LiBin</cp:lastModifiedBy>
  <dcterms:modified xsi:type="dcterms:W3CDTF">2011-01-24T03:02:22Z</dcterms:modified>
  <cp:revision>18</cp:revision>
  <dc:subject/>
  <dc:title>Rounding control in Chroma interpolation</dc:title>
</cp:coreProperties>
</file>