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C07-24AE-40DF-B075-277BEF1A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02B-1448-46AF-976D-F63A7A5C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28B9-372B-44DB-AC35-478A52A1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D78-C9B4-4887-93F1-148B62FC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DB0-A1AA-43A3-8824-DCB19D3D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E1F-C1D1-4A56-A9F0-22F4BA3B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06B-2C00-4418-9535-A437E7D4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693-8727-4326-8446-0534B9B3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98C-E3EF-4AF0-BB76-B7C0D5C0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2C5-485C-4F1C-9B6F-F90EA17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C85-E599-4B90-AD8F-B8F2F32C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6C4-14B9-49C3-8191-F903E9E2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F4A8-FD1B-40A4-B8A4-1257BE60D6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 and extension of inter prediction direction and reference frame index combined coding in LC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 Li, Jizheng Xu, Feng Wu, Houqiang 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Science and Technology of Ch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references compares with anch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557360"/>
          <a:ext cx="8209080" cy="4535640"/>
        </p:xfrm>
        <a:graphic>
          <a:graphicData uri="http://schemas.openxmlformats.org/drawingml/2006/table">
            <a:tbl>
              <a:tblPr/>
              <a:tblGrid>
                <a:gridCol w="1173240"/>
                <a:gridCol w="1171440"/>
                <a:gridCol w="1173240"/>
                <a:gridCol w="1173240"/>
                <a:gridCol w="1173240"/>
                <a:gridCol w="1171440"/>
                <a:gridCol w="117324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 low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ow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 for 3 reference fr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ts saving without complexity in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r: 3 reference frames anch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55640" y="2924280"/>
          <a:ext cx="7345440" cy="3600360"/>
        </p:xfrm>
        <a:graphic>
          <a:graphicData uri="http://schemas.openxmlformats.org/drawingml/2006/table">
            <a:tbl>
              <a:tblPr/>
              <a:tblGrid>
                <a:gridCol w="1049400"/>
                <a:gridCol w="1049400"/>
                <a:gridCol w="1049400"/>
                <a:gridCol w="1049040"/>
                <a:gridCol w="1049400"/>
                <a:gridCol w="1049400"/>
                <a:gridCol w="1049400"/>
              </a:tblGrid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 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 based on D356 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delay low complexity case (4 reference fra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71640" y="2781360"/>
          <a:ext cx="7345440" cy="3816360"/>
        </p:xfrm>
        <a:graphic>
          <a:graphicData uri="http://schemas.openxmlformats.org/drawingml/2006/table">
            <a:tbl>
              <a:tblPr/>
              <a:tblGrid>
                <a:gridCol w="1836720"/>
                <a:gridCol w="1836720"/>
                <a:gridCol w="1834920"/>
                <a:gridCol w="183708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ow complex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straightforward modifications to improve the LCEC 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 combined coding to cases when number of reference frames &gt;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design of combined 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works with when there are no more than 2 reference frame in each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eight entries in the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~1: L0 pre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~3: L1 pre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~7: bi-directional pred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table is {0,2,1,4,3,6,5,7} or {0,1,4,6,5,7,2,3} when list 1 prediction is not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rovement 1: one reference frame 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ue 1 will never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 to the back of the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0,2,4,1,3,6,5,7}  (L1 prediction allow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0,4,1,2,3,6,5,7} (L1 prediction not allow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change the performance m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ement 2: max possible 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x position will be helped to improve the cod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 for RA case(the max position is sma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JCTVC-D1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8920" y="2708280"/>
          <a:ext cx="6337440" cy="21193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2734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reference fr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st 1 pred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 possible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count from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llo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ement 3: direct m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mode only uses the first referenc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need to combined co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en only one reference frame. Using adaptive algorithm for 3 possible mo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 for LD case (2 reference fra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rovement 4: bug f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bug fix related to xWriteUnarySymbol with ticket 1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ts saving without complexity in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4360" y="2205000"/>
          <a:ext cx="7488000" cy="4103640"/>
        </p:xfrm>
        <a:graphic>
          <a:graphicData uri="http://schemas.openxmlformats.org/drawingml/2006/table">
            <a:tbl>
              <a:tblPr/>
              <a:tblGrid>
                <a:gridCol w="1069920"/>
                <a:gridCol w="1069920"/>
                <a:gridCol w="1069920"/>
                <a:gridCol w="1068480"/>
                <a:gridCol w="1069920"/>
                <a:gridCol w="1069920"/>
                <a:gridCol w="1069920"/>
              </a:tblGrid>
              <a:tr h="411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dom access 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w delay 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BD-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or more reference frames c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 reference frames in Cf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4 reference frames recommended in JCTVC-D3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tend the lookup table to 9 entri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urrent 8 entries with the same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one means exception to handle reference frame index &gt; 2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en exception, code the inter prediction direction and reference frame index separate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aptive to choose using the lookup table or no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ference frame index &gt; 2 happens in neighbor blocks, code direction and reference frame index di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9:00:22Z</dcterms:created>
  <dc:creator>Bin Li (MSR Student-Person Consulting)</dc:creator>
  <dc:description/>
  <dc:language>en-US</dc:language>
  <cp:lastModifiedBy>Ji-Zheng Xu</cp:lastModifiedBy>
  <dcterms:modified xsi:type="dcterms:W3CDTF">2011-01-23T02:24:56Z</dcterms:modified>
  <cp:revision>24</cp:revision>
  <dc:subject/>
  <dc:title>Improved inter combined coding in LCEC</dc:title>
</cp:coreProperties>
</file>