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49A2-FEC0-4234-8665-3631E0F9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4345-FE2E-4FD4-966E-1C6F54B9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8703-45C6-4AB8-9F2C-064968E9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831A-6CAC-4ADC-8AA9-09CFB82F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702D-B824-4528-BC44-3A0C6486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C24E-CCA9-4814-AB4B-5F7404C8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99E8-3C34-4609-9BF3-B173D353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A5D0-9AB7-4D6D-ADCD-C43A15AC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BFA1-7CC8-4EEB-8320-FDFAA698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24B-6EA8-4B2D-80AC-E555908A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BE73-F9E0-43B7-B60B-CBC820B9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8253-C77A-4B5F-B37B-96C74098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DEEA-4166-4E5D-B4A8-9069ED0328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aptive Coding order of skip and split flags in LC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n Li, Jizheng Xu, Feng Wu, Houqiang 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versity of Science and Technology of Ch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so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lit and skip fla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ca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rther spl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further split and sk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further split and not sk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design: always coding split flags fir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ts c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problem: cost more bits for high temporal correlation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ip mode cost 2 bits to repre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755640" y="1484280"/>
          <a:ext cx="6985080" cy="1219320"/>
        </p:xfrm>
        <a:graphic>
          <a:graphicData uri="http://schemas.openxmlformats.org/drawingml/2006/table">
            <a:tbl>
              <a:tblPr/>
              <a:tblGrid>
                <a:gridCol w="3456000"/>
                <a:gridCol w="1873080"/>
                <a:gridCol w="165600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lit flag 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kip flag 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urther spl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t further split and sk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t further split and not sk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aightforward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de skip flag fir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00000" y="2349360"/>
          <a:ext cx="7417080" cy="3489480"/>
        </p:xfrm>
        <a:graphic>
          <a:graphicData uri="http://schemas.openxmlformats.org/drawingml/2006/table">
            <a:tbl>
              <a:tblPr/>
              <a:tblGrid>
                <a:gridCol w="1059120"/>
                <a:gridCol w="1060200"/>
                <a:gridCol w="1059120"/>
                <a:gridCol w="1060200"/>
                <a:gridCol w="1059120"/>
                <a:gridCol w="1060200"/>
                <a:gridCol w="1059120"/>
              </a:tblGrid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dom access low complex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w delay low complex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8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c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aptive coding 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ways coding skip flag first does not wor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aptive coding order is necessa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cide which flag to code first using the information of three surrounding LC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counter for number of “further split” case (maximum 2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counter for number of “Not further split and skip” case (maximum 16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 not change the RD pro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SNR exactly the same as the anch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ulation resu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ways gain, not loss obser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complexity incr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042920" y="2852640"/>
          <a:ext cx="7058160" cy="3600720"/>
        </p:xfrm>
        <a:graphic>
          <a:graphicData uri="http://schemas.openxmlformats.org/drawingml/2006/table">
            <a:tbl>
              <a:tblPr/>
              <a:tblGrid>
                <a:gridCol w="1008000"/>
                <a:gridCol w="1008360"/>
                <a:gridCol w="1008000"/>
                <a:gridCol w="1009440"/>
                <a:gridCol w="1008000"/>
                <a:gridCol w="1008360"/>
                <a:gridCol w="1008000"/>
              </a:tblGrid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dom access low complex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w delay low complex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8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8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c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w delay low complex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677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ndom access low complex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8036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st Resu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large numbers of skip m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h as class E high Q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 to 7% bits sav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dyo1 and Vidyo4, low delay, low complexity, QP 3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06:29:30Z</dcterms:created>
  <dc:creator>Bin Li (MSR Student-Person Consulting)</dc:creator>
  <dc:description/>
  <dc:language>en-US</dc:language>
  <cp:lastModifiedBy>LiBin</cp:lastModifiedBy>
  <dcterms:modified xsi:type="dcterms:W3CDTF">2011-01-23T02:16:12Z</dcterms:modified>
  <cp:revision>9</cp:revision>
  <dc:subject/>
  <dc:title>Adaptive Coding order of skip and split flags in LCEC</dc:title>
</cp:coreProperties>
</file>