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A5D-0BCB-4F39-ADE6-9B32E4EE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0D0-3E75-4D51-83BD-1C47515E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140-0093-43FF-B220-08150F97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206-BE50-4D4F-A9A5-15A1AB2E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D18-C840-45A6-8407-EBE457EC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A7B-3E06-4A21-9A31-ADEEF41E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03B-82D4-433D-8BB5-34BC947F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259-B440-4122-8324-0F2F2D8D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6E9-A60A-470D-8D28-2C6C1FA5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E6A-DC1D-4541-AD0B-A619F389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C69-3136-4448-8D85-1B37B450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7DD-5B96-4C4A-BCEA-16DB6508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809B-8B01-4A75-84FA-6B501C21F9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trained temporal motion vector prediction for error resili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 Li, Jizheng Xu, Feng Wu, Houqiang 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Science and Technology of Ch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bust de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t-stream: BasketballPass, LD_LC, QP=32, the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ame l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r: crash at o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: successful entropy de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checked by Sams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 to be included in 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V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 to 5 MVPs in the current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from the temporal co-located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x value is used in de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of reducing the number of MVP changes the max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ame 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oral MVP is unavailable or in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x value is in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bits read from the bit-stream is in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yntax elements read from the bit-stream is meaning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 to decode all the following inter fr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cause decoder cr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ver until next IDR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sible solu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ble TMV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s too m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6920" y="2708280"/>
          <a:ext cx="8137800" cy="3960720"/>
        </p:xfrm>
        <a:graphic>
          <a:graphicData uri="http://schemas.openxmlformats.org/drawingml/2006/table">
            <a:tbl>
              <a:tblPr/>
              <a:tblGrid>
                <a:gridCol w="1627200"/>
                <a:gridCol w="1627200"/>
                <a:gridCol w="1627200"/>
                <a:gridCol w="1627200"/>
                <a:gridCol w="1629000"/>
              </a:tblGrid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sible solu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code last bit, do not use max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s too much and do not solve 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even worse than disabling TMV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11280" y="3544920"/>
          <a:ext cx="8208720" cy="3313080"/>
        </p:xfrm>
        <a:graphic>
          <a:graphicData uri="http://schemas.openxmlformats.org/drawingml/2006/table">
            <a:tbl>
              <a:tblPr/>
              <a:tblGrid>
                <a:gridCol w="1641240"/>
                <a:gridCol w="1641600"/>
                <a:gridCol w="1641600"/>
                <a:gridCol w="1643040"/>
                <a:gridCol w="1641240"/>
              </a:tblGrid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ntropy decoding recovery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frames without TM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deoff between RD performance and error robus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one frame without TMVP do not solve 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reference frame is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rt two consecutive frames without TM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D case: inserting two consecutive frames in 8 frames without TMV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recover very soon, will be sh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 case: inserting one frame without TMVP in every 8 fr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recover until the next B frame with temporal 0 for regular hierarchical B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700280"/>
          <a:ext cx="8425080" cy="4681440"/>
        </p:xfrm>
        <a:graphic>
          <a:graphicData uri="http://schemas.openxmlformats.org/drawingml/2006/table">
            <a:tbl>
              <a:tblPr/>
              <a:tblGrid>
                <a:gridCol w="1684440"/>
                <a:gridCol w="1684440"/>
                <a:gridCol w="1685880"/>
                <a:gridCol w="1684440"/>
                <a:gridCol w="1685880"/>
              </a:tblGrid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D_L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8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8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6:57:48Z</dcterms:created>
  <dc:creator>Bin Li (MSR Student-Person Consulting)</dc:creator>
  <dc:description/>
  <dc:language>en-US</dc:language>
  <cp:lastModifiedBy>LiBin</cp:lastModifiedBy>
  <dcterms:modified xsi:type="dcterms:W3CDTF">2011-01-21T01:59:53Z</dcterms:modified>
  <cp:revision>14</cp:revision>
  <dc:subject/>
  <dc:title>Rounding control in Chroma interpolation</dc:title>
</cp:coreProperties>
</file>