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7625-A671-468C-B70D-5E5F0E1FB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42E3-6798-475B-851D-0BD65C08B95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68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5189-41F0-4B66-A1F3-895E397D8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71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FEFB-2EAF-4A43-AB9C-5804D5AC4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44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0F51-228D-4DF0-8F15-2CCA5B83A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47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CEAE-C546-4F66-806E-8F90C9919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0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0880-C59D-43A0-BE39-C475FD7CB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3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08A4-7715-40A4-BF18-04E80AF80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6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47D3-CB07-4C56-A221-D3059B4A5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9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8B9F-07F3-4B5E-B926-B65678312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62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3508-E40D-4F18-8F57-61FF49F76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65" name="スライド番号プレースホル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A18E-1A13-4715-AC80-FCAA7C0F3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35F-C0D6-4D9A-8203-CD5F1BBF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1A7-77F1-4BCD-85FF-572386CA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BB133-EE7C-44C7-913D-0A631819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EE153-BA44-4DB9-9F82-33F1B74E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CA75B-0BCA-4ADF-A22D-473A801D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D73C-F3B3-4A8A-AB65-7A1C3C71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36B1-3CDA-4E38-8A05-E694E770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72B84-1911-43D6-9F86-59EFF10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DE06F-0AF2-43F9-A206-563DED8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A1FD4-2734-4F4B-AC9D-AF672CFC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19C09-D169-462D-A08D-3DCC702C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19F8C-3804-4900-929F-D4BB8D9C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9EA-94CD-4069-9E43-0E3FADC9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77231-3C19-4EA4-AC23-3F5E7F50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8F36B-07C0-4B88-BF34-8A1B5C9A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D8FFF-011A-4DAA-99E7-5F021B3A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DB31F-6649-4C18-B3A1-A760EBAD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334DB-A314-4335-9DDC-D697D6C9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C8B69-6E07-4081-8F44-2C05D43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3B9D7-4092-424E-B206-4EBCA96F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06AA8-FEC6-4B32-8974-53C5D697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89685-2625-41AF-9A86-E5973855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57DEB-F803-4B24-A138-DCDFE970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4CC-5F06-4D29-B1C8-352AE7C5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B336D-17A7-4213-B15D-D4F250F4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875E9-93CE-47CE-9BA0-93367B75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5F31B-D876-459F-88F3-552475A2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CBE1C-CBA6-4D4D-B087-84F4B5F7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76202-E9C6-4625-AB50-9BDCDD5D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CFCBF-E94A-4571-90E3-7E90F103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937FE-6488-4429-8D4A-F89C3CF1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F8A44-EE82-4085-AE44-9A84A0F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ACE78-048D-4D8A-A358-268CCE9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76F99-BFA2-4E0B-81FA-EE63D2A0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71A62-955D-4336-9BAF-10974F0D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4E449-67C4-4511-8258-BDAC1E8E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C5FEC-3A7F-4741-8FD7-41A34235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51EAF-B7F7-4F49-B57D-AFE22943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2907A-E295-4D4F-A11C-975B2EDA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6EA29-DFFA-450D-AD70-7553ADF3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C68A9-8637-433D-9FDD-D3C21D0C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06B28-C77D-4140-B230-A683D374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F8DF9-6D0F-4664-AA64-998B43B4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0AAA4-CA22-4F11-AEAA-3F8F2A63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7E9CC-2780-4117-B981-C81457C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AA169-088D-4C30-BAF7-0FB08BA2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32B36-92FD-4506-9B90-269E38AE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2F4CE-3AD1-4D07-92DA-C8B199D2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A85D1-E3BE-4A88-8437-2F1DE4FE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788-F772-457A-9C11-DD72371A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BB55-3959-4639-8050-8A8E2C36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E645-5A08-4B68-B43F-05317C2F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2D59-6B81-4202-A77A-6728D16C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3F0C-E778-441D-8C41-DECFBC87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A54A-C4A6-4D00-8ABC-2FC8D5DF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AD0-994E-4FFF-9D9F-711D41B0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1EFA-9EE5-4DC8-8859-4FB40ED5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DB34-6AF0-4B9E-B0FD-9929F96D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1E06-25A3-4DFF-824D-7821ACAA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B403-E384-4465-A866-6C65A8A4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7942-F8B8-45EE-AF35-6DE980D7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7530-7F8E-42C6-9C39-F580B844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6A52-78F5-4BCF-B18E-ABA42962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0B9B-D9D3-4D75-BE0F-4722E981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B339-FC13-481B-97B5-079E831C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5300-3A08-47C2-9014-C9C6048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C81-8695-4985-9E7F-CEF40994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A67C-0701-425A-AA0B-0AF55EDE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53DC-1582-4F07-A00F-A5308732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6C0F-2EC2-4996-8415-BE3DBA01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5A93-EA8A-4EDF-9DC5-096F2265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9BB9-FEA0-401A-A0E0-26C167DF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5823-0CD4-4E2F-8681-B3FF0853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1DBC-A947-4C68-89AF-ED26970B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91945-82B3-471C-9BB1-C6AB7B00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10D3-5A84-46CD-91A8-51E6A183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513C-A246-4AD5-B351-827D4CF6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C53-C431-44A7-8134-FDCD1892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714F-BA91-4488-922A-55D74758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F9C0-360E-4AE5-A86B-6A99B1DA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AE84D-5D79-4434-8A6F-8C6EC61C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55AEF-1984-47A7-976B-B8992EB2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E1B2-EC2A-4394-AE3C-DF9B8E51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7939A-8194-4D78-8C4C-14AE84C0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D3B8E-7936-42A7-9640-C8B4012A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16E4-EACA-4397-9DE0-139F8639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F31B8-24CD-45B8-9CA0-2B8BF47E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17FF-C8B4-4BEA-BE35-BAD065A9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606-766B-492C-88C6-8F1A06C5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6343-0447-4AB7-BF22-D52BDABD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BA4D-4620-400A-B319-16B199B1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F11E4-7650-4538-8D57-93B54A9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C6BD9-4CB1-45B8-AF1C-470C59BB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B4528-BF4C-4239-A9C2-F0AC7958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B201-18FC-47CA-A3E7-E7CA3BC2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237EB-FB91-4C0E-8025-62D93A40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800B-93A2-4859-8A9F-DFD656FC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DF040-8F7E-46BF-8671-BAFCAB22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FD029-A6DD-4754-ADF3-6C709161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91E-FDF3-4C53-920F-C26B29D8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9224A-4F70-4F9E-A851-9260075D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BD07A-3354-4C65-BC5D-B50D9684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A35E-1135-4D1F-BCA5-50B280C7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2F711-2241-4B56-9B48-4DF2F036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DF6C1-1D4B-477E-A8BD-A196569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8B3D9-F21A-4B8D-94BD-D9B09145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F50E3-0C21-462D-9228-B4802839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C77B-F91E-4177-9362-BECEDF2B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A241B-1098-4CE5-9F19-132AC034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C39C7-3825-4439-BF11-AAB7B6B1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004-6985-41CD-8DC1-1992F51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31E1F-FFC4-4A7C-B76C-5DEA34E5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3089-3879-4222-A84C-4198350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C2FE1-B799-4D8B-8CB5-BEFF8530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0481F-BD96-491E-93E6-0D771EF8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F9C7-2FCA-4025-AECD-36EE6546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976A-D838-404E-85D2-48810BC0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A5C7F-4145-495B-AD0E-2D184666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241B7-74D7-42AB-8629-1213B0B9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2CED0-FBD4-4F7F-B037-1DAE8B31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6CAB7-4187-4E3B-ABE7-88AD2AF6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66F-E487-48DA-9069-F189C95A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D649E-6EFB-4DB0-AD03-0B3C2D16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A51D1-2DE5-4A28-A377-BA8257DB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F51E4-36F8-4D1C-9D39-28F2977A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A6E2-5ACF-4B7E-9F2D-1660BE9A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F6B45-9E36-45F2-9EBB-9311E61D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724A7-1CE3-4812-917D-3AAF6AD2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5C6E2-562A-43EB-9449-E1608D4A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D9638-F3ED-41A2-B587-5DD7B9A1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DDD65-1467-4F39-ACE3-A58C9CC8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9914-4023-4471-9A0B-6E864F39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D6E4-4912-427B-A402-04A9A465EC1F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正方形/長方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正方形/長方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4C35-3F62-4616-930C-315F6958E10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1DA6-3AE0-450C-943E-F6F93EE9A1D3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正方形/長方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2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DB68-498F-4F02-8D0C-7F63E46AAB30}" type="slidenum">
              <a:rPr b="0" lang="en-US" sz="1400" spc="-1" strike="noStrike">
                <a:solidFill>
                  <a:srgbClr val="222222"/>
                </a:solidFill>
                <a:latin typeface="Verdana"/>
                <a:ea typeface="HGｺﾞｼｯ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6"/>
          <p:cNvPicPr/>
          <p:nvPr/>
        </p:nvPicPr>
        <p:blipFill>
          <a:blip r:embed="rId2"/>
          <a:stretch/>
        </p:blipFill>
        <p:spPr>
          <a:xfrm>
            <a:off x="0" y="6515280"/>
            <a:ext cx="9182160" cy="342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4CAE-F447-4F03-B28B-64C692EF8037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正方形/長方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40A2-0D1B-4A1D-919B-D0996BE8B2D7}" type="slidenum">
              <a:rPr b="0" lang="en-US" sz="1200" spc="-1" strike="noStrike">
                <a:solidFill>
                  <a:srgbClr val="fffff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8F18-1662-459B-91F4-9B1BF2F39B39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664D-76B7-41F1-B60C-663E8149562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D3EC-7F50-4DBC-A53E-CC32EA5042D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37DD-6AD9-45D5-A713-191DCFDE1C6A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正方形/長方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正方形/長方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0CF3-A4E6-47D8-94C5-E87F3B3C3DB7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71760"/>
            <a:ext cx="8077320" cy="10000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F-combined adaptive loop filte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(D115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357520" y="3212640"/>
            <a:ext cx="3405240" cy="16160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anori Yamaza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71320" y="6429240"/>
            <a:ext cx="4360680" cy="285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29160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th Meeting: Daegu, KR, 20-28 January, 201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7200" y="7858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8000"/>
          </a:bodyPr>
          <a:p>
            <a:pPr marL="244800" indent="-1638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d Adaptive loop fil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23000" indent="-178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.2 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0.7 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than anch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23000" indent="-178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 time are 91 to 98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23000" indent="-178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 Time are 85 % to 93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%(win32) or 110% to 116%(linux) which quite vary on depending on platfo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4800" indent="-1638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4800" indent="-1638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F-combine techn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23000" indent="-178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od coding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49360" indent="-1260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nagetic effect with Region-based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668160" indent="-118440">
              <a:spcBef>
                <a:spcPts val="349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reported in our other contribition (Region-based adaptive loop filter using two-dimensional feature: D116]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23000" indent="-178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asily applic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or any other ALF techniques due to adding-only-one-pixel fe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23000" indent="-178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4800" indent="-1638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 to study DF-combined technique along with kind of Region-based techniques in 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4800" indent="-1638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7388-D1F6-4E15-9391-DB9B059E3FC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A5C-2EE8-45AC-B39B-8733E8607A91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テキスト ボックス 4"/>
          <p:cNvSpPr/>
          <p:nvPr/>
        </p:nvSpPr>
        <p:spPr>
          <a:xfrm>
            <a:off x="2771640" y="2492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mparison in CE8 subtest 2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スライド番号プレースホルダ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4D2-ED9E-418E-BC63-234C62DB4FB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457200" y="692280"/>
          <a:ext cx="8137440" cy="5008320"/>
        </p:xfrm>
        <a:graphic>
          <a:graphicData uri="http://schemas.openxmlformats.org/drawingml/2006/table">
            <a:tbl>
              <a:tblPr/>
              <a:tblGrid>
                <a:gridCol w="2033640"/>
                <a:gridCol w="2035080"/>
                <a:gridCol w="2033640"/>
                <a:gridCol w="2035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F-comb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(D1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3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(D2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MQ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(D1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HGｺﾞｼｯｸM"/>
                        </a:rPr>
                        <a:t>2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HGｺﾞｼｯｸM"/>
                        </a:rPr>
                        <a:t>3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#spatial fi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#adding pix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  <a:ea typeface="HGｺﾞｼｯｸM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  <a:ea typeface="HGｺﾞｼｯｸM"/>
                        </a:rPr>
                        <a:t>1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num of coe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15, 23, </a:t>
                      </a: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  <a:ea typeface="HGｺﾞｼｯｸM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8, 14,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6, 14, 14,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Region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  <a:ea typeface="HGｺﾞｼｯｸM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  <a:ea typeface="HGｺﾞｼｯｸM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ivision basis 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HGｺﾞｼｯｸM"/>
                        </a:rPr>
                        <a:t>explicit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HGｺﾞｼｯｸM"/>
                        </a:rPr>
                        <a:t>(FU bas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division basis 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HGｺﾞｼｯｸM"/>
                        </a:rPr>
                        <a:t>implicit 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HGｺﾞｼｯｸM"/>
                        </a:rPr>
                        <a:t>(pixel basis activ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HGｺﾞｼｯｸM"/>
                        </a:rPr>
                        <a:t>implicit 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HGｺﾞｼｯｸM"/>
                        </a:rPr>
                        <a:t>(pixel basis activ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other techn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HGｺﾞｼｯｸM"/>
                        </a:rPr>
                        <a:t>adaptive off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0.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Verdana"/>
                          <a:ea typeface="HGｺﾞｼｯｸM"/>
                        </a:rPr>
                        <a:t>-0.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0.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Verdana"/>
                          <a:ea typeface="HGｺﾞｼｯｸM"/>
                        </a:rPr>
                        <a:t>-0.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Verdana"/>
                          <a:ea typeface="HGｺﾞｼｯｸM"/>
                        </a:rPr>
                        <a:t>-0.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0.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0.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-0.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Verdana"/>
                          <a:ea typeface="HGｺﾞｼｯｸM"/>
                        </a:rPr>
                        <a:t>-1.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8" name="テキスト ボックス 5"/>
          <p:cNvSpPr/>
          <p:nvPr/>
        </p:nvSpPr>
        <p:spPr>
          <a:xfrm>
            <a:off x="133200" y="5854680"/>
            <a:ext cx="90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sophisticated techniques, the DF-combined easily achieve coding performance improvement (and wit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gion-based, DF-combined has synagetic 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8 experi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F-combined A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experi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F8E-78C0-4258-9CA8-8E464A4D25E2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E8 experiment</a:t>
            </a:r>
            <a:endParaRPr b="1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F-combined ALF [D115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E8 subtest 2(Wiener-based in-loop filters) propos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oss-checked b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CTVC-D215 [Panasonic] and JCTVC-D211 [Toshiba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Parallel ALF at the last meeting[C173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chor is TMuC 0.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C_ALF (Sum-modified Laplacian based AL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2D15-496C-4B7D-91E7-039906471C8E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042920" y="2781360"/>
          <a:ext cx="7210440" cy="1973160"/>
        </p:xfrm>
        <a:graphic>
          <a:graphicData uri="http://schemas.openxmlformats.org/drawingml/2006/table">
            <a:tbl>
              <a:tblPr/>
              <a:tblGrid>
                <a:gridCol w="1440000"/>
                <a:gridCol w="1439640"/>
                <a:gridCol w="4330800"/>
              </a:tblGrid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ub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po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ench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MediaTek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Qualcom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oshi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[D119] A Joint Proposal on Improving the Adaptive Loop Filter in TMuC0.9 by MediaTek, Qualcomm, and Toshi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Shar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[D115]  DF-Combined adaptive loop fil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HGｺﾞｼｯｸM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anason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[D217] CE 8: Results for adaptive loop filter using prediction and residual (3-Input-AL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F-combined ALF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539640" y="83628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osed system combines Wiener-based filter with De-blocking fil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C67-4D4D-46ED-A15E-E80B9F25C95C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正方形/長方形 123"/>
          <p:cNvSpPr/>
          <p:nvPr/>
        </p:nvSpPr>
        <p:spPr>
          <a:xfrm>
            <a:off x="4114800" y="3019320"/>
            <a:ext cx="1220760" cy="565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De-blocking filter ( D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正方形/長方形 126"/>
          <p:cNvSpPr/>
          <p:nvPr/>
        </p:nvSpPr>
        <p:spPr>
          <a:xfrm>
            <a:off x="5983200" y="3019320"/>
            <a:ext cx="1314360" cy="561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Wiener-based filter ( AL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直線矢印コネクタ 140"/>
          <p:cNvCxnSpPr/>
          <p:nvPr/>
        </p:nvCxnSpPr>
        <p:spPr>
          <a:xfrm>
            <a:off x="5340240" y="3276720"/>
            <a:ext cx="643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9" name="直線矢印コネクタ 141"/>
          <p:cNvCxnSpPr/>
          <p:nvPr/>
        </p:nvCxnSpPr>
        <p:spPr>
          <a:xfrm>
            <a:off x="7297560" y="3276720"/>
            <a:ext cx="643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0" name="直線コネクタ 150"/>
          <p:cNvSpPr/>
          <p:nvPr/>
        </p:nvSpPr>
        <p:spPr>
          <a:xfrm>
            <a:off x="3635280" y="5130720"/>
            <a:ext cx="30243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直線矢印コネクタ 152"/>
          <p:cNvCxnSpPr/>
          <p:nvPr/>
        </p:nvCxnSpPr>
        <p:spPr>
          <a:xfrm flipH="1" flipV="1">
            <a:off x="6646320" y="4885920"/>
            <a:ext cx="13320" cy="264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2" name="直線コネクタ 154"/>
          <p:cNvSpPr/>
          <p:nvPr/>
        </p:nvSpPr>
        <p:spPr>
          <a:xfrm>
            <a:off x="3635280" y="4570560"/>
            <a:ext cx="0" cy="560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テキスト ボックス 24"/>
          <p:cNvSpPr/>
          <p:nvPr/>
        </p:nvSpPr>
        <p:spPr>
          <a:xfrm>
            <a:off x="6107040" y="3925800"/>
            <a:ext cx="18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DF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テキスト ボックス 24"/>
          <p:cNvSpPr/>
          <p:nvPr/>
        </p:nvSpPr>
        <p:spPr>
          <a:xfrm>
            <a:off x="2463840" y="5251320"/>
            <a:ext cx="18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DF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直線矢印コネクタ 163"/>
          <p:cNvCxnSpPr/>
          <p:nvPr/>
        </p:nvCxnSpPr>
        <p:spPr>
          <a:xfrm>
            <a:off x="2916360" y="3276720"/>
            <a:ext cx="11815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6" name="直線コネクタ 166"/>
          <p:cNvSpPr/>
          <p:nvPr/>
        </p:nvSpPr>
        <p:spPr>
          <a:xfrm flipH="1">
            <a:off x="3139920" y="4556160"/>
            <a:ext cx="2476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直線コネクタ 167"/>
          <p:cNvSpPr/>
          <p:nvPr/>
        </p:nvSpPr>
        <p:spPr>
          <a:xfrm flipH="1">
            <a:off x="3332160" y="4871880"/>
            <a:ext cx="303120" cy="2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テキスト ボックス 14"/>
          <p:cNvSpPr/>
          <p:nvPr/>
        </p:nvSpPr>
        <p:spPr>
          <a:xfrm>
            <a:off x="1042920" y="3019320"/>
            <a:ext cx="1631880" cy="7038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テキスト ボックス 15"/>
          <p:cNvSpPr/>
          <p:nvPr/>
        </p:nvSpPr>
        <p:spPr>
          <a:xfrm>
            <a:off x="1062000" y="4371840"/>
            <a:ext cx="1609920" cy="7038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正方形/長方形 174"/>
          <p:cNvSpPr/>
          <p:nvPr/>
        </p:nvSpPr>
        <p:spPr>
          <a:xfrm>
            <a:off x="4114800" y="4309920"/>
            <a:ext cx="1220760" cy="565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De-blocking filter ( D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正方形/長方形 175"/>
          <p:cNvSpPr/>
          <p:nvPr/>
        </p:nvSpPr>
        <p:spPr>
          <a:xfrm>
            <a:off x="5983200" y="4309920"/>
            <a:ext cx="1314360" cy="561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Wiener-based filter ( AL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直線矢印コネクタ 176"/>
          <p:cNvCxnSpPr/>
          <p:nvPr/>
        </p:nvCxnSpPr>
        <p:spPr>
          <a:xfrm>
            <a:off x="5340240" y="4568400"/>
            <a:ext cx="6433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直線矢印コネクタ 177"/>
          <p:cNvCxnSpPr/>
          <p:nvPr/>
        </p:nvCxnSpPr>
        <p:spPr>
          <a:xfrm>
            <a:off x="7297560" y="4568400"/>
            <a:ext cx="6433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直線矢印コネクタ 178"/>
          <p:cNvCxnSpPr/>
          <p:nvPr/>
        </p:nvCxnSpPr>
        <p:spPr>
          <a:xfrm>
            <a:off x="2916360" y="4568400"/>
            <a:ext cx="11815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5" name="直線コネクタ 184"/>
          <p:cNvSpPr/>
          <p:nvPr/>
        </p:nvSpPr>
        <p:spPr>
          <a:xfrm flipH="1">
            <a:off x="5538960" y="4094280"/>
            <a:ext cx="44424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F-combined ALF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39640" y="83628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asily applic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F’s spatial filter (spatial filter#2 ) is applied on one in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the other input, one pixel is used (weighting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arallel friend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the spatial filter is applied on pre-DF in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F (spatial filter#1 ) and most of ALF (spatial filter#2 ) can be processed in parall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正方形/長方形 110"/>
          <p:cNvSpPr/>
          <p:nvPr/>
        </p:nvSpPr>
        <p:spPr>
          <a:xfrm>
            <a:off x="2276640" y="4232160"/>
            <a:ext cx="1962000" cy="1690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線コネクタ 127"/>
          <p:cNvSpPr/>
          <p:nvPr/>
        </p:nvSpPr>
        <p:spPr>
          <a:xfrm flipV="1">
            <a:off x="1771560" y="6273360"/>
            <a:ext cx="4219560" cy="9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線コネクタ 129"/>
          <p:cNvSpPr/>
          <p:nvPr/>
        </p:nvSpPr>
        <p:spPr>
          <a:xfrm>
            <a:off x="1771560" y="4898880"/>
            <a:ext cx="0" cy="1374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テキスト ボックス 24"/>
          <p:cNvSpPr/>
          <p:nvPr/>
        </p:nvSpPr>
        <p:spPr>
          <a:xfrm>
            <a:off x="4519440" y="3747960"/>
            <a:ext cx="18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DF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テキスト ボックス 24"/>
          <p:cNvSpPr/>
          <p:nvPr/>
        </p:nvSpPr>
        <p:spPr>
          <a:xfrm>
            <a:off x="407880" y="6114960"/>
            <a:ext cx="14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DF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直線矢印コネクタ 132"/>
          <p:cNvCxnSpPr/>
          <p:nvPr/>
        </p:nvCxnSpPr>
        <p:spPr>
          <a:xfrm>
            <a:off x="1142640" y="4898880"/>
            <a:ext cx="134640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4" name="正方形/長方形 134"/>
          <p:cNvSpPr/>
          <p:nvPr/>
        </p:nvSpPr>
        <p:spPr>
          <a:xfrm>
            <a:off x="2470320" y="4708440"/>
            <a:ext cx="1596960" cy="352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spatial filter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正方形/長方形 139"/>
          <p:cNvSpPr/>
          <p:nvPr/>
        </p:nvSpPr>
        <p:spPr>
          <a:xfrm>
            <a:off x="4896000" y="4222800"/>
            <a:ext cx="3085920" cy="1700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正方形/長方形 140"/>
          <p:cNvSpPr/>
          <p:nvPr/>
        </p:nvSpPr>
        <p:spPr>
          <a:xfrm>
            <a:off x="5203800" y="5425920"/>
            <a:ext cx="1596960" cy="352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spatial filter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正方形/長方形 143"/>
          <p:cNvSpPr/>
          <p:nvPr/>
        </p:nvSpPr>
        <p:spPr>
          <a:xfrm>
            <a:off x="5213520" y="4708440"/>
            <a:ext cx="15969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GｺﾞｼｯｸM"/>
              </a:rPr>
              <a:t>weig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円/楕円 144"/>
          <p:cNvSpPr/>
          <p:nvPr/>
        </p:nvSpPr>
        <p:spPr>
          <a:xfrm>
            <a:off x="7432560" y="5119560"/>
            <a:ext cx="301680" cy="29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HGｺﾞｼｯｸM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線コネクタ 153"/>
          <p:cNvSpPr/>
          <p:nvPr/>
        </p:nvSpPr>
        <p:spPr>
          <a:xfrm flipH="1">
            <a:off x="1133640" y="4898880"/>
            <a:ext cx="4190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直線コネクタ 154"/>
          <p:cNvSpPr/>
          <p:nvPr/>
        </p:nvSpPr>
        <p:spPr>
          <a:xfrm flipH="1">
            <a:off x="1152360" y="5680080"/>
            <a:ext cx="61920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直線コネクタ 157"/>
          <p:cNvSpPr/>
          <p:nvPr/>
        </p:nvSpPr>
        <p:spPr>
          <a:xfrm flipH="1">
            <a:off x="4476240" y="4108320"/>
            <a:ext cx="42876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図形 162"/>
          <p:cNvCxnSpPr>
            <a:stCxn id="567" idx="3"/>
            <a:endCxn id="568" idx="0"/>
          </p:cNvCxnSpPr>
          <p:nvPr/>
        </p:nvCxnSpPr>
        <p:spPr>
          <a:xfrm>
            <a:off x="6810120" y="4884840"/>
            <a:ext cx="773640" cy="235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3" name="図形 167"/>
          <p:cNvCxnSpPr>
            <a:stCxn id="566" idx="3"/>
            <a:endCxn id="568" idx="4"/>
          </p:cNvCxnSpPr>
          <p:nvPr/>
        </p:nvCxnSpPr>
        <p:spPr>
          <a:xfrm flipV="1">
            <a:off x="6800760" y="5417640"/>
            <a:ext cx="783360" cy="185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4" name="直線矢印コネクタ 171"/>
          <p:cNvCxnSpPr>
            <a:stCxn id="568" idx="6"/>
          </p:cNvCxnSpPr>
          <p:nvPr/>
        </p:nvCxnSpPr>
        <p:spPr>
          <a:xfrm>
            <a:off x="7734240" y="5268960"/>
            <a:ext cx="94392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5" name="テキスト ボックス 173"/>
          <p:cNvSpPr/>
          <p:nvPr/>
        </p:nvSpPr>
        <p:spPr>
          <a:xfrm>
            <a:off x="2924280" y="430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テキスト ボックス 174"/>
          <p:cNvSpPr/>
          <p:nvPr/>
        </p:nvSpPr>
        <p:spPr>
          <a:xfrm>
            <a:off x="5648400" y="4317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直線矢印コネクタ 126"/>
          <p:cNvCxnSpPr/>
          <p:nvPr/>
        </p:nvCxnSpPr>
        <p:spPr>
          <a:xfrm>
            <a:off x="4064040" y="4878360"/>
            <a:ext cx="11469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直線矢印コネクタ 128"/>
          <p:cNvCxnSpPr/>
          <p:nvPr/>
        </p:nvCxnSpPr>
        <p:spPr>
          <a:xfrm flipV="1">
            <a:off x="5990040" y="5778000"/>
            <a:ext cx="1080" cy="496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F-combined ALF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76500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amond 1/2 point-symmetric filter with dc off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a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ne input or two input can be switche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f_parallel_m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 slice hea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of encoding p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3 (QC_ALF is 1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2F1-49B1-4221-A903-41407D11C43D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正方形/長方形 140"/>
          <p:cNvSpPr/>
          <p:nvPr/>
        </p:nvSpPr>
        <p:spPr>
          <a:xfrm>
            <a:off x="2627280" y="22017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正方形/長方形 141"/>
          <p:cNvSpPr/>
          <p:nvPr/>
        </p:nvSpPr>
        <p:spPr>
          <a:xfrm>
            <a:off x="2627280" y="19144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正方形/長方形 142"/>
          <p:cNvSpPr/>
          <p:nvPr/>
        </p:nvSpPr>
        <p:spPr>
          <a:xfrm>
            <a:off x="2700360" y="191448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正方形/長方形 143"/>
          <p:cNvSpPr/>
          <p:nvPr/>
        </p:nvSpPr>
        <p:spPr>
          <a:xfrm>
            <a:off x="2771640" y="1914480"/>
            <a:ext cx="716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正方形/長方形 144"/>
          <p:cNvSpPr/>
          <p:nvPr/>
        </p:nvSpPr>
        <p:spPr>
          <a:xfrm>
            <a:off x="2700360" y="1841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正方形/長方形 145"/>
          <p:cNvSpPr/>
          <p:nvPr/>
        </p:nvSpPr>
        <p:spPr>
          <a:xfrm>
            <a:off x="2556000" y="1986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正方形/長方形 146"/>
          <p:cNvSpPr/>
          <p:nvPr/>
        </p:nvSpPr>
        <p:spPr>
          <a:xfrm>
            <a:off x="2627280" y="1986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正方形/長方形 147"/>
          <p:cNvSpPr/>
          <p:nvPr/>
        </p:nvSpPr>
        <p:spPr>
          <a:xfrm>
            <a:off x="2556000" y="2057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正方形/長方形 148"/>
          <p:cNvSpPr/>
          <p:nvPr/>
        </p:nvSpPr>
        <p:spPr>
          <a:xfrm>
            <a:off x="2627280" y="20574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正方形/長方形 149"/>
          <p:cNvSpPr/>
          <p:nvPr/>
        </p:nvSpPr>
        <p:spPr>
          <a:xfrm>
            <a:off x="2700360" y="2057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正方形/長方形 150"/>
          <p:cNvSpPr/>
          <p:nvPr/>
        </p:nvSpPr>
        <p:spPr>
          <a:xfrm>
            <a:off x="2771640" y="205740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正方形/長方形 151"/>
          <p:cNvSpPr/>
          <p:nvPr/>
        </p:nvSpPr>
        <p:spPr>
          <a:xfrm>
            <a:off x="2843280" y="20574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正方形/長方形 152"/>
          <p:cNvSpPr/>
          <p:nvPr/>
        </p:nvSpPr>
        <p:spPr>
          <a:xfrm>
            <a:off x="2700360" y="1986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正方形/長方形 153"/>
          <p:cNvSpPr/>
          <p:nvPr/>
        </p:nvSpPr>
        <p:spPr>
          <a:xfrm>
            <a:off x="2771640" y="1986120"/>
            <a:ext cx="716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正方形/長方形 154"/>
          <p:cNvSpPr/>
          <p:nvPr/>
        </p:nvSpPr>
        <p:spPr>
          <a:xfrm>
            <a:off x="2843280" y="1986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正方形/長方形 155"/>
          <p:cNvSpPr/>
          <p:nvPr/>
        </p:nvSpPr>
        <p:spPr>
          <a:xfrm>
            <a:off x="2556000" y="2130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正方形/長方形 156"/>
          <p:cNvSpPr/>
          <p:nvPr/>
        </p:nvSpPr>
        <p:spPr>
          <a:xfrm>
            <a:off x="2627280" y="2130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正方形/長方形 157"/>
          <p:cNvSpPr/>
          <p:nvPr/>
        </p:nvSpPr>
        <p:spPr>
          <a:xfrm>
            <a:off x="2700360" y="227340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正方形/長方形 158"/>
          <p:cNvSpPr/>
          <p:nvPr/>
        </p:nvSpPr>
        <p:spPr>
          <a:xfrm>
            <a:off x="2916360" y="205740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正方形/長方形 159"/>
          <p:cNvSpPr/>
          <p:nvPr/>
        </p:nvSpPr>
        <p:spPr>
          <a:xfrm>
            <a:off x="2700360" y="22017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正方形/長方形 160"/>
          <p:cNvSpPr/>
          <p:nvPr/>
        </p:nvSpPr>
        <p:spPr>
          <a:xfrm>
            <a:off x="2771640" y="2201760"/>
            <a:ext cx="716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正方形/長方形 161"/>
          <p:cNvSpPr/>
          <p:nvPr/>
        </p:nvSpPr>
        <p:spPr>
          <a:xfrm>
            <a:off x="2484360" y="205740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正方形/長方形 162"/>
          <p:cNvSpPr/>
          <p:nvPr/>
        </p:nvSpPr>
        <p:spPr>
          <a:xfrm>
            <a:off x="2700360" y="2130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正方形/長方形 163"/>
          <p:cNvSpPr/>
          <p:nvPr/>
        </p:nvSpPr>
        <p:spPr>
          <a:xfrm>
            <a:off x="2771640" y="213048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正方形/長方形 164"/>
          <p:cNvSpPr/>
          <p:nvPr/>
        </p:nvSpPr>
        <p:spPr>
          <a:xfrm>
            <a:off x="2843280" y="2130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正方形/長方形 165"/>
          <p:cNvSpPr/>
          <p:nvPr/>
        </p:nvSpPr>
        <p:spPr>
          <a:xfrm>
            <a:off x="3867120" y="22017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正方形/長方形 166"/>
          <p:cNvSpPr/>
          <p:nvPr/>
        </p:nvSpPr>
        <p:spPr>
          <a:xfrm>
            <a:off x="3867120" y="19144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正方形/長方形 167"/>
          <p:cNvSpPr/>
          <p:nvPr/>
        </p:nvSpPr>
        <p:spPr>
          <a:xfrm>
            <a:off x="3940200" y="191448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正方形/長方形 168"/>
          <p:cNvSpPr/>
          <p:nvPr/>
        </p:nvSpPr>
        <p:spPr>
          <a:xfrm>
            <a:off x="4011480" y="19144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正方形/長方形 169"/>
          <p:cNvSpPr/>
          <p:nvPr/>
        </p:nvSpPr>
        <p:spPr>
          <a:xfrm>
            <a:off x="3940200" y="1841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正方形/長方形 170"/>
          <p:cNvSpPr/>
          <p:nvPr/>
        </p:nvSpPr>
        <p:spPr>
          <a:xfrm>
            <a:off x="3795840" y="1986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正方形/長方形 171"/>
          <p:cNvSpPr/>
          <p:nvPr/>
        </p:nvSpPr>
        <p:spPr>
          <a:xfrm>
            <a:off x="3867120" y="1986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正方形/長方形 172"/>
          <p:cNvSpPr/>
          <p:nvPr/>
        </p:nvSpPr>
        <p:spPr>
          <a:xfrm>
            <a:off x="3795840" y="2057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正方形/長方形 173"/>
          <p:cNvSpPr/>
          <p:nvPr/>
        </p:nvSpPr>
        <p:spPr>
          <a:xfrm>
            <a:off x="3867120" y="20574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正方形/長方形 174"/>
          <p:cNvSpPr/>
          <p:nvPr/>
        </p:nvSpPr>
        <p:spPr>
          <a:xfrm>
            <a:off x="3940200" y="2057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正方形/長方形 175"/>
          <p:cNvSpPr/>
          <p:nvPr/>
        </p:nvSpPr>
        <p:spPr>
          <a:xfrm>
            <a:off x="4011480" y="20574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正方形/長方形 176"/>
          <p:cNvSpPr/>
          <p:nvPr/>
        </p:nvSpPr>
        <p:spPr>
          <a:xfrm>
            <a:off x="4084560" y="205740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正方形/長方形 177"/>
          <p:cNvSpPr/>
          <p:nvPr/>
        </p:nvSpPr>
        <p:spPr>
          <a:xfrm>
            <a:off x="3940200" y="1986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正方形/長方形 178"/>
          <p:cNvSpPr/>
          <p:nvPr/>
        </p:nvSpPr>
        <p:spPr>
          <a:xfrm>
            <a:off x="4011480" y="1986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正方形/長方形 179"/>
          <p:cNvSpPr/>
          <p:nvPr/>
        </p:nvSpPr>
        <p:spPr>
          <a:xfrm>
            <a:off x="4084560" y="1986120"/>
            <a:ext cx="716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正方形/長方形 180"/>
          <p:cNvSpPr/>
          <p:nvPr/>
        </p:nvSpPr>
        <p:spPr>
          <a:xfrm>
            <a:off x="3795840" y="2130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正方形/長方形 181"/>
          <p:cNvSpPr/>
          <p:nvPr/>
        </p:nvSpPr>
        <p:spPr>
          <a:xfrm>
            <a:off x="3867120" y="2130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正方形/長方形 182"/>
          <p:cNvSpPr/>
          <p:nvPr/>
        </p:nvSpPr>
        <p:spPr>
          <a:xfrm>
            <a:off x="3940200" y="227340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正方形/長方形 183"/>
          <p:cNvSpPr/>
          <p:nvPr/>
        </p:nvSpPr>
        <p:spPr>
          <a:xfrm>
            <a:off x="4156200" y="205740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正方形/長方形 184"/>
          <p:cNvSpPr/>
          <p:nvPr/>
        </p:nvSpPr>
        <p:spPr>
          <a:xfrm>
            <a:off x="3940200" y="22017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正方形/長方形 185"/>
          <p:cNvSpPr/>
          <p:nvPr/>
        </p:nvSpPr>
        <p:spPr>
          <a:xfrm>
            <a:off x="4011480" y="22017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正方形/長方形 186"/>
          <p:cNvSpPr/>
          <p:nvPr/>
        </p:nvSpPr>
        <p:spPr>
          <a:xfrm>
            <a:off x="3724200" y="205740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正方形/長方形 187"/>
          <p:cNvSpPr/>
          <p:nvPr/>
        </p:nvSpPr>
        <p:spPr>
          <a:xfrm>
            <a:off x="3940200" y="2130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正方形/長方形 188"/>
          <p:cNvSpPr/>
          <p:nvPr/>
        </p:nvSpPr>
        <p:spPr>
          <a:xfrm>
            <a:off x="4011480" y="2130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正方形/長方形 189"/>
          <p:cNvSpPr/>
          <p:nvPr/>
        </p:nvSpPr>
        <p:spPr>
          <a:xfrm>
            <a:off x="4084560" y="213048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正方形/長方形 190"/>
          <p:cNvSpPr/>
          <p:nvPr/>
        </p:nvSpPr>
        <p:spPr>
          <a:xfrm>
            <a:off x="4156200" y="1986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正方形/長方形 191"/>
          <p:cNvSpPr/>
          <p:nvPr/>
        </p:nvSpPr>
        <p:spPr>
          <a:xfrm>
            <a:off x="4084560" y="1914480"/>
            <a:ext cx="716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正方形/長方形 192"/>
          <p:cNvSpPr/>
          <p:nvPr/>
        </p:nvSpPr>
        <p:spPr>
          <a:xfrm>
            <a:off x="4227480" y="20574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正方形/長方形 193"/>
          <p:cNvSpPr/>
          <p:nvPr/>
        </p:nvSpPr>
        <p:spPr>
          <a:xfrm>
            <a:off x="4011480" y="18414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正方形/長方形 194"/>
          <p:cNvSpPr/>
          <p:nvPr/>
        </p:nvSpPr>
        <p:spPr>
          <a:xfrm>
            <a:off x="4011480" y="22734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正方形/長方形 195"/>
          <p:cNvSpPr/>
          <p:nvPr/>
        </p:nvSpPr>
        <p:spPr>
          <a:xfrm>
            <a:off x="4084560" y="227340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正方形/長方形 196"/>
          <p:cNvSpPr/>
          <p:nvPr/>
        </p:nvSpPr>
        <p:spPr>
          <a:xfrm>
            <a:off x="4084560" y="2201760"/>
            <a:ext cx="716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正方形/長方形 197"/>
          <p:cNvSpPr/>
          <p:nvPr/>
        </p:nvSpPr>
        <p:spPr>
          <a:xfrm>
            <a:off x="4011480" y="2346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正方形/長方形 198"/>
          <p:cNvSpPr/>
          <p:nvPr/>
        </p:nvSpPr>
        <p:spPr>
          <a:xfrm>
            <a:off x="4011480" y="1770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正方形/長方形 199"/>
          <p:cNvSpPr/>
          <p:nvPr/>
        </p:nvSpPr>
        <p:spPr>
          <a:xfrm>
            <a:off x="4084560" y="184140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正方形/長方形 200"/>
          <p:cNvSpPr/>
          <p:nvPr/>
        </p:nvSpPr>
        <p:spPr>
          <a:xfrm>
            <a:off x="4156200" y="191448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正方形/長方形 201"/>
          <p:cNvSpPr/>
          <p:nvPr/>
        </p:nvSpPr>
        <p:spPr>
          <a:xfrm>
            <a:off x="4227480" y="1986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正方形/長方形 202"/>
          <p:cNvSpPr/>
          <p:nvPr/>
        </p:nvSpPr>
        <p:spPr>
          <a:xfrm>
            <a:off x="4156200" y="2130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正方形/長方形 203"/>
          <p:cNvSpPr/>
          <p:nvPr/>
        </p:nvSpPr>
        <p:spPr>
          <a:xfrm>
            <a:off x="4156200" y="22017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正方形/長方形 204"/>
          <p:cNvSpPr/>
          <p:nvPr/>
        </p:nvSpPr>
        <p:spPr>
          <a:xfrm>
            <a:off x="4227480" y="2130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正方形/長方形 205"/>
          <p:cNvSpPr/>
          <p:nvPr/>
        </p:nvSpPr>
        <p:spPr>
          <a:xfrm>
            <a:off x="4300560" y="205740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正方形/長方形 206"/>
          <p:cNvSpPr/>
          <p:nvPr/>
        </p:nvSpPr>
        <p:spPr>
          <a:xfrm>
            <a:off x="5308560" y="2201760"/>
            <a:ext cx="716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正方形/長方形 207"/>
          <p:cNvSpPr/>
          <p:nvPr/>
        </p:nvSpPr>
        <p:spPr>
          <a:xfrm>
            <a:off x="5308560" y="1914480"/>
            <a:ext cx="716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方形/長方形 208"/>
          <p:cNvSpPr/>
          <p:nvPr/>
        </p:nvSpPr>
        <p:spPr>
          <a:xfrm>
            <a:off x="5380200" y="191448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正方形/長方形 209"/>
          <p:cNvSpPr/>
          <p:nvPr/>
        </p:nvSpPr>
        <p:spPr>
          <a:xfrm>
            <a:off x="5451480" y="19144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方形/長方形 210"/>
          <p:cNvSpPr/>
          <p:nvPr/>
        </p:nvSpPr>
        <p:spPr>
          <a:xfrm>
            <a:off x="5380200" y="1841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正方形/長方形 211"/>
          <p:cNvSpPr/>
          <p:nvPr/>
        </p:nvSpPr>
        <p:spPr>
          <a:xfrm>
            <a:off x="5235480" y="1986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方形/長方形 212"/>
          <p:cNvSpPr/>
          <p:nvPr/>
        </p:nvSpPr>
        <p:spPr>
          <a:xfrm>
            <a:off x="5308560" y="1986120"/>
            <a:ext cx="716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正方形/長方形 213"/>
          <p:cNvSpPr/>
          <p:nvPr/>
        </p:nvSpPr>
        <p:spPr>
          <a:xfrm>
            <a:off x="5235480" y="20574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正方形/長方形 214"/>
          <p:cNvSpPr/>
          <p:nvPr/>
        </p:nvSpPr>
        <p:spPr>
          <a:xfrm>
            <a:off x="5308560" y="205740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正方形/長方形 215"/>
          <p:cNvSpPr/>
          <p:nvPr/>
        </p:nvSpPr>
        <p:spPr>
          <a:xfrm>
            <a:off x="5380200" y="2057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正方形/長方形 216"/>
          <p:cNvSpPr/>
          <p:nvPr/>
        </p:nvSpPr>
        <p:spPr>
          <a:xfrm>
            <a:off x="5451480" y="20574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正方形/長方形 217"/>
          <p:cNvSpPr/>
          <p:nvPr/>
        </p:nvSpPr>
        <p:spPr>
          <a:xfrm>
            <a:off x="5524560" y="2057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正方形/長方形 218"/>
          <p:cNvSpPr/>
          <p:nvPr/>
        </p:nvSpPr>
        <p:spPr>
          <a:xfrm>
            <a:off x="5380200" y="1986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正方形/長方形 219"/>
          <p:cNvSpPr/>
          <p:nvPr/>
        </p:nvSpPr>
        <p:spPr>
          <a:xfrm>
            <a:off x="5451480" y="1986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正方形/長方形 220"/>
          <p:cNvSpPr/>
          <p:nvPr/>
        </p:nvSpPr>
        <p:spPr>
          <a:xfrm>
            <a:off x="5524560" y="1986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正方形/長方形 221"/>
          <p:cNvSpPr/>
          <p:nvPr/>
        </p:nvSpPr>
        <p:spPr>
          <a:xfrm>
            <a:off x="5235480" y="2130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正方形/長方形 222"/>
          <p:cNvSpPr/>
          <p:nvPr/>
        </p:nvSpPr>
        <p:spPr>
          <a:xfrm>
            <a:off x="5308560" y="213048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正方形/長方形 223"/>
          <p:cNvSpPr/>
          <p:nvPr/>
        </p:nvSpPr>
        <p:spPr>
          <a:xfrm>
            <a:off x="5380200" y="227340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正方形/長方形 224"/>
          <p:cNvSpPr/>
          <p:nvPr/>
        </p:nvSpPr>
        <p:spPr>
          <a:xfrm>
            <a:off x="5595840" y="205740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正方形/長方形 225"/>
          <p:cNvSpPr/>
          <p:nvPr/>
        </p:nvSpPr>
        <p:spPr>
          <a:xfrm>
            <a:off x="5380200" y="22017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正方形/長方形 226"/>
          <p:cNvSpPr/>
          <p:nvPr/>
        </p:nvSpPr>
        <p:spPr>
          <a:xfrm>
            <a:off x="5451480" y="22017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正方形/長方形 227"/>
          <p:cNvSpPr/>
          <p:nvPr/>
        </p:nvSpPr>
        <p:spPr>
          <a:xfrm>
            <a:off x="5164200" y="2057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正方形/長方形 228"/>
          <p:cNvSpPr/>
          <p:nvPr/>
        </p:nvSpPr>
        <p:spPr>
          <a:xfrm>
            <a:off x="5380200" y="2130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正方形/長方形 229"/>
          <p:cNvSpPr/>
          <p:nvPr/>
        </p:nvSpPr>
        <p:spPr>
          <a:xfrm>
            <a:off x="5451480" y="2130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正方形/長方形 230"/>
          <p:cNvSpPr/>
          <p:nvPr/>
        </p:nvSpPr>
        <p:spPr>
          <a:xfrm>
            <a:off x="5524560" y="2130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正方形/長方形 231"/>
          <p:cNvSpPr/>
          <p:nvPr/>
        </p:nvSpPr>
        <p:spPr>
          <a:xfrm>
            <a:off x="5595840" y="1986120"/>
            <a:ext cx="716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正方形/長方形 232"/>
          <p:cNvSpPr/>
          <p:nvPr/>
        </p:nvSpPr>
        <p:spPr>
          <a:xfrm>
            <a:off x="5524560" y="191448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正方形/長方形 233"/>
          <p:cNvSpPr/>
          <p:nvPr/>
        </p:nvSpPr>
        <p:spPr>
          <a:xfrm>
            <a:off x="5667480" y="20574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正方形/長方形 234"/>
          <p:cNvSpPr/>
          <p:nvPr/>
        </p:nvSpPr>
        <p:spPr>
          <a:xfrm>
            <a:off x="5451480" y="18414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正方形/長方形 235"/>
          <p:cNvSpPr/>
          <p:nvPr/>
        </p:nvSpPr>
        <p:spPr>
          <a:xfrm>
            <a:off x="5451480" y="22734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正方形/長方形 236"/>
          <p:cNvSpPr/>
          <p:nvPr/>
        </p:nvSpPr>
        <p:spPr>
          <a:xfrm>
            <a:off x="5524560" y="227340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正方形/長方形 237"/>
          <p:cNvSpPr/>
          <p:nvPr/>
        </p:nvSpPr>
        <p:spPr>
          <a:xfrm>
            <a:off x="5524560" y="22017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正方形/長方形 238"/>
          <p:cNvSpPr/>
          <p:nvPr/>
        </p:nvSpPr>
        <p:spPr>
          <a:xfrm>
            <a:off x="5451480" y="2346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正方形/長方形 239"/>
          <p:cNvSpPr/>
          <p:nvPr/>
        </p:nvSpPr>
        <p:spPr>
          <a:xfrm>
            <a:off x="5451480" y="1770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正方形/長方形 240"/>
          <p:cNvSpPr/>
          <p:nvPr/>
        </p:nvSpPr>
        <p:spPr>
          <a:xfrm>
            <a:off x="5524560" y="184140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正方形/長方形 241"/>
          <p:cNvSpPr/>
          <p:nvPr/>
        </p:nvSpPr>
        <p:spPr>
          <a:xfrm>
            <a:off x="5595840" y="1914480"/>
            <a:ext cx="7164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正方形/長方形 242"/>
          <p:cNvSpPr/>
          <p:nvPr/>
        </p:nvSpPr>
        <p:spPr>
          <a:xfrm>
            <a:off x="5667480" y="1986120"/>
            <a:ext cx="730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正方形/長方形 243"/>
          <p:cNvSpPr/>
          <p:nvPr/>
        </p:nvSpPr>
        <p:spPr>
          <a:xfrm>
            <a:off x="5595840" y="213048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正方形/長方形 244"/>
          <p:cNvSpPr/>
          <p:nvPr/>
        </p:nvSpPr>
        <p:spPr>
          <a:xfrm>
            <a:off x="5595840" y="2201760"/>
            <a:ext cx="7164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正方形/長方形 245"/>
          <p:cNvSpPr/>
          <p:nvPr/>
        </p:nvSpPr>
        <p:spPr>
          <a:xfrm>
            <a:off x="5667480" y="213048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正方形/長方形 246"/>
          <p:cNvSpPr/>
          <p:nvPr/>
        </p:nvSpPr>
        <p:spPr>
          <a:xfrm>
            <a:off x="5740560" y="205740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正方形/長方形 247"/>
          <p:cNvSpPr/>
          <p:nvPr/>
        </p:nvSpPr>
        <p:spPr>
          <a:xfrm>
            <a:off x="5524560" y="241776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正方形/長方形 248"/>
          <p:cNvSpPr/>
          <p:nvPr/>
        </p:nvSpPr>
        <p:spPr>
          <a:xfrm>
            <a:off x="5524560" y="2346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正方形/長方形 249"/>
          <p:cNvSpPr/>
          <p:nvPr/>
        </p:nvSpPr>
        <p:spPr>
          <a:xfrm>
            <a:off x="5595840" y="227340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正方形/長方形 250"/>
          <p:cNvSpPr/>
          <p:nvPr/>
        </p:nvSpPr>
        <p:spPr>
          <a:xfrm>
            <a:off x="5595840" y="2346480"/>
            <a:ext cx="7164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正方形/長方形 251"/>
          <p:cNvSpPr/>
          <p:nvPr/>
        </p:nvSpPr>
        <p:spPr>
          <a:xfrm>
            <a:off x="5667480" y="2201760"/>
            <a:ext cx="730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正方形/長方形 252"/>
          <p:cNvSpPr/>
          <p:nvPr/>
        </p:nvSpPr>
        <p:spPr>
          <a:xfrm>
            <a:off x="5667480" y="22734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正方形/長方形 253"/>
          <p:cNvSpPr/>
          <p:nvPr/>
        </p:nvSpPr>
        <p:spPr>
          <a:xfrm>
            <a:off x="5740560" y="2130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正方形/長方形 254"/>
          <p:cNvSpPr/>
          <p:nvPr/>
        </p:nvSpPr>
        <p:spPr>
          <a:xfrm>
            <a:off x="5740560" y="2201760"/>
            <a:ext cx="71280" cy="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正方形/長方形 255"/>
          <p:cNvSpPr/>
          <p:nvPr/>
        </p:nvSpPr>
        <p:spPr>
          <a:xfrm>
            <a:off x="5811840" y="205740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正方形/長方形 256"/>
          <p:cNvSpPr/>
          <p:nvPr/>
        </p:nvSpPr>
        <p:spPr>
          <a:xfrm>
            <a:off x="5811840" y="2130480"/>
            <a:ext cx="712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正方形/長方形 257"/>
          <p:cNvSpPr/>
          <p:nvPr/>
        </p:nvSpPr>
        <p:spPr>
          <a:xfrm>
            <a:off x="5524560" y="169848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正方形/長方形 258"/>
          <p:cNvSpPr/>
          <p:nvPr/>
        </p:nvSpPr>
        <p:spPr>
          <a:xfrm>
            <a:off x="5524560" y="1770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正方形/長方形 259"/>
          <p:cNvSpPr/>
          <p:nvPr/>
        </p:nvSpPr>
        <p:spPr>
          <a:xfrm>
            <a:off x="5595840" y="1770120"/>
            <a:ext cx="7164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正方形/長方形 260"/>
          <p:cNvSpPr/>
          <p:nvPr/>
        </p:nvSpPr>
        <p:spPr>
          <a:xfrm>
            <a:off x="5595840" y="184140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正方形/長方形 261"/>
          <p:cNvSpPr/>
          <p:nvPr/>
        </p:nvSpPr>
        <p:spPr>
          <a:xfrm>
            <a:off x="5667480" y="1841400"/>
            <a:ext cx="730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正方形/長方形 262"/>
          <p:cNvSpPr/>
          <p:nvPr/>
        </p:nvSpPr>
        <p:spPr>
          <a:xfrm>
            <a:off x="5667480" y="1914480"/>
            <a:ext cx="730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正方形/長方形 263"/>
          <p:cNvSpPr/>
          <p:nvPr/>
        </p:nvSpPr>
        <p:spPr>
          <a:xfrm>
            <a:off x="5740560" y="1914480"/>
            <a:ext cx="71280" cy="7164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正方形/長方形 264"/>
          <p:cNvSpPr/>
          <p:nvPr/>
        </p:nvSpPr>
        <p:spPr>
          <a:xfrm>
            <a:off x="5740560" y="1986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正方形/長方形 265"/>
          <p:cNvSpPr/>
          <p:nvPr/>
        </p:nvSpPr>
        <p:spPr>
          <a:xfrm>
            <a:off x="5883120" y="2057400"/>
            <a:ext cx="730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正方形/長方形 266"/>
          <p:cNvSpPr/>
          <p:nvPr/>
        </p:nvSpPr>
        <p:spPr>
          <a:xfrm>
            <a:off x="5811840" y="198612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テキスト ボックス 272"/>
          <p:cNvSpPr/>
          <p:nvPr/>
        </p:nvSpPr>
        <p:spPr>
          <a:xfrm>
            <a:off x="1951200" y="248904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7: 15 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テキスト ボックス 273"/>
          <p:cNvSpPr/>
          <p:nvPr/>
        </p:nvSpPr>
        <p:spPr>
          <a:xfrm>
            <a:off x="3544920" y="2489040"/>
            <a:ext cx="12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9: 23 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テキスト ボックス 274"/>
          <p:cNvSpPr/>
          <p:nvPr/>
        </p:nvSpPr>
        <p:spPr>
          <a:xfrm>
            <a:off x="5308560" y="2503440"/>
            <a:ext cx="16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1: 33 coef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正方形/長方形 275"/>
          <p:cNvSpPr/>
          <p:nvPr/>
        </p:nvSpPr>
        <p:spPr>
          <a:xfrm>
            <a:off x="2700360" y="2425680"/>
            <a:ext cx="7128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正方形/長方形 276"/>
          <p:cNvSpPr/>
          <p:nvPr/>
        </p:nvSpPr>
        <p:spPr>
          <a:xfrm>
            <a:off x="2852640" y="2425680"/>
            <a:ext cx="71640" cy="730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正方形/長方形 277"/>
          <p:cNvSpPr/>
          <p:nvPr/>
        </p:nvSpPr>
        <p:spPr>
          <a:xfrm>
            <a:off x="4148280" y="241776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正方形/長方形 278"/>
          <p:cNvSpPr/>
          <p:nvPr/>
        </p:nvSpPr>
        <p:spPr>
          <a:xfrm>
            <a:off x="4300560" y="241776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正方形/長方形 279"/>
          <p:cNvSpPr/>
          <p:nvPr/>
        </p:nvSpPr>
        <p:spPr>
          <a:xfrm>
            <a:off x="5740560" y="241776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正方形/長方形 280"/>
          <p:cNvSpPr/>
          <p:nvPr/>
        </p:nvSpPr>
        <p:spPr>
          <a:xfrm>
            <a:off x="5892840" y="2417760"/>
            <a:ext cx="71280" cy="71280"/>
          </a:xfrm>
          <a:prstGeom prst="rect">
            <a:avLst/>
          </a:prstGeom>
          <a:solidFill>
            <a:srgbClr val="c4e1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E8 Experimental resul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D0B4-F5FB-49DD-9F33-B8774EE81EB6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457200" y="660240"/>
          <a:ext cx="8229600" cy="5807160"/>
        </p:xfrm>
        <a:graphic>
          <a:graphicData uri="http://schemas.openxmlformats.org/drawingml/2006/table">
            <a:tbl>
              <a:tblPr/>
              <a:tblGrid>
                <a:gridCol w="1109520"/>
                <a:gridCol w="1041480"/>
                <a:gridCol w="1041480"/>
                <a:gridCol w="1041480"/>
                <a:gridCol w="1331640"/>
                <a:gridCol w="1332000"/>
                <a:gridCol w="1332000"/>
              </a:tblGrid>
              <a:tr h="182880">
                <a:tc rowSpan="2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ra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7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6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8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954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12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5%  | 1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%  | 2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 rowSpan="2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dom access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6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8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6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05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9512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3%  | 1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4% | 2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ow delay 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8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6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605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9512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3%  |1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6%  | 2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35640" rIns="35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4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4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3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21" name="テキスト ボックス 6"/>
          <p:cNvSpPr/>
          <p:nvPr/>
        </p:nvSpPr>
        <p:spPr>
          <a:xfrm>
            <a:off x="1619280" y="6488280"/>
            <a:ext cx="68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c Time was measured in 32bit windows (left-hand) and in 64 bit linux (right- h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dditional experim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F combined impr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fference betwe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2 input case’s bdrat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1 input case’s bd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F-combined improvement of Intra Only, Randam Access, and LowDelay i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.9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.7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.7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spectiv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ximum case is 2.0 %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7BC2-1C17-4F7E-8942-7D4848B76344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116000" y="3097080"/>
            <a:ext cx="69850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dditional experim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7C06-CFEA-45B2-B7DD-37ECB6E93505}" type="slidenum">
              <a:rPr b="0" lang="en-US" sz="1200" spc="-1" strike="noStrike">
                <a:solidFill>
                  <a:srgbClr val="3f3f3f"/>
                </a:solidFill>
                <a:latin typeface="Verdana"/>
                <a:ea typeface="HGｺﾞｼｯ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1374840" y="1200240"/>
          <a:ext cx="6394320" cy="4784760"/>
        </p:xfrm>
        <a:graphic>
          <a:graphicData uri="http://schemas.openxmlformats.org/drawingml/2006/table">
            <a:tbl>
              <a:tblPr/>
              <a:tblGrid>
                <a:gridCol w="1307880"/>
                <a:gridCol w="482760"/>
                <a:gridCol w="482760"/>
                <a:gridCol w="730080"/>
                <a:gridCol w="482760"/>
                <a:gridCol w="482400"/>
                <a:gridCol w="730440"/>
                <a:gridCol w="482400"/>
                <a:gridCol w="482760"/>
                <a:gridCol w="730080"/>
              </a:tblGrid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Intra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Random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Low Complex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2inp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inp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differ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2inp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inp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differ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2inp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inp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differ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PeopleOnStreet_c4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Traffic_c4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2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2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QTerra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asketballDriv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actu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Kimono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ParkSce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2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QMal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asketballDril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PartyScen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RaceHors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QSqu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4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3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asketballPas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BlowingBubb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RaceHorses_wqvg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vidyo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vidyo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vidyo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1.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ＭＳ 明朝"/>
                        </a:rPr>
                        <a:t>-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明朝"/>
                        </a:rPr>
                        <a:t>0.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1:38:00Z</dcterms:created>
  <dc:creator/>
  <dc:description/>
  <dc:language>en-US</dc:language>
  <cp:lastModifiedBy/>
  <dcterms:modified xsi:type="dcterms:W3CDTF">2011-01-26T02:57:40Z</dcterms:modified>
  <cp:revision>4</cp:revision>
  <dc:subject/>
  <dc:title>DF-combined adaptive loop filter (D115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31033</vt:lpwstr>
  </property>
</Properties>
</file>