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3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ftr" idx="3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 type="sldNum" idx="3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5AF8-6DFE-4495-ACA6-EDA252A6D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963-5A66-45D6-98F6-9743636EB7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6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B6C4-F05C-4C22-A4EE-B010255B3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A92-6867-4A96-96B9-D118CD42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F2A-AB1B-4BE3-A902-091E635B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76621-3D2F-46A6-970E-898F8E7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E29C7-7058-4B26-8E30-C2715BB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A3E3-65D4-4765-9D4F-4EC5736D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110BB-5972-468E-8C06-D3BB8E2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6110-A104-4E23-9CA6-45A2CB2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E8B8-8E3C-454A-9C57-040E634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52489-C5CB-470F-A43A-EEE54F1D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FFBCA-5F07-4D07-8886-9D5B0FAC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6FF86-3BA9-4E4B-AB7B-F546A3C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CAFD-436D-48B4-96A9-B568743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B8A-667B-476B-BEBA-EB2DEFA4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CB754-01BE-4FB2-BD77-940D4360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E6BC8-89AA-473E-93F2-2BBC2BDA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0CC8C-2D4F-4CF9-BEE9-DA95031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246F3-BF26-48BA-B975-49794A8F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FC51A-3164-4535-9F71-C2FBB051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E7927-6BE1-4858-9500-F0E5B15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A59A8-DADF-4909-A05F-57C343F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80A94-547A-4798-AAC9-164E447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B5F6A-BE77-4816-810F-D8EA4D0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AEBF-53B9-4751-8A53-E9D1572A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860-DB2E-4C6B-A28A-17CEBDF9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75D0A-65C2-48E8-A597-A2876795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94135-1FDC-46D9-B796-ED9E07BF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62E7A-C948-40A2-B1F8-B37D0BF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9BA39-CB30-4022-8432-660E678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5A98A-9BB6-4902-B912-176A2966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F75F6-F8B0-4CEE-BA35-FE73312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E381E-1CE6-48A8-A395-4654D1BB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BACB0-B34E-4B51-B074-9E5F9AE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1EE54-8C7A-4396-82BD-B326F67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3AB55-1FD5-4409-B69D-5D1800D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F24BF-6545-4D44-ADC5-A9E7E8F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D23E4-2286-47E6-BA5F-F5017000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3091-90E5-4DB9-A307-A9EA0D6B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D3-49C0-4717-8C91-312E963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3372-0A94-4C7D-9B20-344D9786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79F4-829E-4B68-8D47-04ED9BC1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617-BEBB-4DDD-BC3B-0BC909C6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296-2D85-4BA7-90F2-41A7F753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7AE-D885-40A8-9A29-D76897A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CD0-693E-4DF4-B346-AA0A1F2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5508-27AB-4788-9810-3D1253F0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2E4E-D3D2-4D1A-B692-E9C28B4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74C6-9625-4632-8BCF-07EEEBB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F3B3-7C5B-435E-A8EE-C2CC3E5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EBD-22C4-4E63-A50F-F9573DA7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B2B8-44B4-42DA-8EE5-657FA1E1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C62F-FF98-4D43-866C-DA5C0C99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8AED-6F9E-4B80-B6FE-3E98831C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1596-96FE-48BE-BAA9-A3470259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3456-22C4-4EC4-ABDC-81D25C2C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102-397D-411C-AADA-F2CDCB88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8C48-6230-45E8-95DE-D190174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6D39-7F6D-44B0-A702-BCEDA2F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FAB8-51E1-4C8C-9E75-8FA5D8D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8CC1-2E6F-46DB-B05A-04AD038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37A8-2DA6-41EE-B168-DCE8D2F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E238-0DAC-44F8-A6D4-C94B706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CD60-E4EE-404B-8D70-1B3D561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1508-27E2-4411-920C-5BF2D87D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8A74-1F08-45D4-AA5D-475D9081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97BB-A9DB-4104-B884-8C082528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A4C-224B-4CF0-A11A-3E1A925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7B70-DCD6-4CDC-A93E-522A4BA0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A3F1-3D47-45B7-8E9A-1F25221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C1FE-9EA4-45D5-9BA0-7CA3214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27D2-B0A8-4185-B343-E1E62C4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68E0-4F13-4C04-9732-B67F8CD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89736-4296-46F8-9AD6-4C9DCAA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D400-E8E4-4832-ADAA-A8B4944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DCE97-0EF2-4D9C-93AC-6FF4667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DBFE-25C1-4AED-B0FB-971A1E68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A488-BD82-49A6-9AA1-1DDF477E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EA3-D334-48A4-95AB-6B4DEC1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B451-98F6-4B82-B49D-AB99C02B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9E81A-D457-4A34-BDEC-08268823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0422-341D-470B-B5F6-1B65D52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52A4-9CF1-48F0-A47F-FAF8C63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9BA4-78C6-413E-B608-F843C0E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4387-AF56-4A9B-801F-A35CD1D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66D2-6641-4EDC-9EDF-816687A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5791-C3B1-4C06-89B7-DBD3113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E23D-6C7B-482F-A840-CA215DA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E2DA-105D-4660-98D4-D92384E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9C7-8101-4D23-A29F-6E6C5DB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8545-B566-49FB-AE88-8B218A56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E1C0-8015-471A-BDFA-200E148A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59EB-184D-4F3E-BC20-88B84078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262B-738E-43A1-8BD3-4225BDD8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7F7D-A54A-4834-B162-6686B244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65258-299C-4677-B712-41A9C07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0374-A961-4E2A-A2EC-E182D40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16C52-DE81-4A26-97CB-4B310B1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F3EFF-8B2D-4F79-B2F8-C4D86867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15D2-B794-4858-87E0-A27CC35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1DD-9ACF-4133-9301-CD6EDCA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2158-233D-421B-BD29-BBF3EEC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48F4D-DBC2-4234-8C06-BFFC871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7524-D485-48F4-8853-DF16CC77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2175-FB50-4815-8B7E-55E35E9A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EC8C4-EFFE-471B-A4CF-1BE4BDFF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BA51-98CB-4376-BF7D-BE998DFF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64E8-C06D-47DC-82C5-04B600B4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AD616-6410-49FE-844B-FD7E0BD9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76E0-A8C1-475E-9814-8A29A75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7D733-6125-47FE-884F-DB3F73D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818-AF4D-4A1F-83FF-6F1E1B63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44EA-B448-4015-8C68-3365B27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9532-3940-441A-9D99-F56DAEE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96D2-3E97-4485-A5FE-51F092F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E56AC-6169-48F8-938D-E9860E3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C3D9-8559-4AFD-89E6-E3A73B0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AFF6-676C-492C-BC37-0DFFC8A1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56BA-551D-4F74-890A-EBE7B5D5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57EA-8D59-4A63-B3F4-89269169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BABC4-F291-45DD-870B-05F4D8C0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7514D-F8B0-451F-8A82-FACF789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061-603A-4FB8-9631-FE4B244C9036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C275-52C5-4119-BD0E-C9B10A5D90E2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9232-42EC-457A-AA2A-B33E104C5490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571-3B36-497A-A667-3020956EFD5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03FD-7873-4125-81AC-3E0CD632394A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372E-AC74-4D04-A176-622F95D4949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1AAB-14B6-4154-965A-7C06901B2BA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F1BA-7A2E-4699-AC3D-B8AF2D0ED1E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FFB-B513-4423-882A-C670360901B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3E8B-C0CD-46EF-834B-9591B03B46B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8077320" cy="1446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aluation of Most Probabl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JCTVC-D112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yuki Yamamo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71320" y="6429240"/>
            <a:ext cx="436068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CT-VC 4th Meeting: Daegu, KR, 20-28 January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785520"/>
            <a:ext cx="8435880" cy="422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in TMuC 0.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D-rate </a:t>
            </a:r>
            <a:r>
              <a:rPr b="0" lang="en-US" sz="2000" spc="-1" strike="noStrike">
                <a:solidFill>
                  <a:srgbClr val="1b587c"/>
                </a:solidFill>
                <a:latin typeface="Verdana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0.3% (HE) / 1.0% (L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in TMuC 0.9 + DC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D-rate </a:t>
            </a:r>
            <a:r>
              <a:rPr b="0" lang="en-US" sz="2000" spc="-1" strike="noStrike">
                <a:solidFill>
                  <a:srgbClr val="9f2936"/>
                </a:solidFill>
                <a:latin typeface="Verdana"/>
              </a:rPr>
              <a:t>lo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0.2% (HE) / 0.2% (L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is effective in TMuC 0.9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when additional intra coding tool is introduce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should be re-evalu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9C05-704F-439A-803C-838ABF5F5DB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Intra mode effectiveness evaluation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DB4-BC6E-4858-8532-E3A6F5A0090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C:\Documents and Settings\s127342\デスクトップ\mdoe_eval.png"/>
          <p:cNvPicPr/>
          <p:nvPr/>
        </p:nvPicPr>
        <p:blipFill>
          <a:blip r:embed="rId1"/>
          <a:stretch/>
        </p:blipFill>
        <p:spPr>
          <a:xfrm>
            <a:off x="741240" y="3583080"/>
            <a:ext cx="8331480" cy="2919240"/>
          </a:xfrm>
          <a:prstGeom prst="rect">
            <a:avLst/>
          </a:prstGeom>
          <a:ln w="0">
            <a:noFill/>
          </a:ln>
        </p:spPr>
      </p:pic>
      <p:sp>
        <p:nvSpPr>
          <p:cNvPr id="551" name="テキスト ボックス 5"/>
          <p:cNvSpPr/>
          <p:nvPr/>
        </p:nvSpPr>
        <p:spPr>
          <a:xfrm rot="16200000">
            <a:off x="-257400" y="48124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ortion (per 4x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コンテンツ プレースホルダ 2"/>
          <p:cNvSpPr/>
          <p:nvPr/>
        </p:nvSpPr>
        <p:spPr>
          <a:xfrm>
            <a:off x="324000" y="692280"/>
            <a:ext cx="8613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360360" indent="-241200">
              <a:lnSpc>
                <a:spcPct val="100000"/>
              </a:lnSpc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HGｺﾞｼｯｸM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HGｺﾞｼｯｸM"/>
              </a:rPr>
              <a:t>Distortion impact by using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  <a:ea typeface="HGｺﾞｼｯｸM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HGｺﾞｼｯｸM"/>
              </a:rPr>
              <a:t> best predictior instead of best predi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テキスト ボックス 8"/>
          <p:cNvSpPr/>
          <p:nvPr/>
        </p:nvSpPr>
        <p:spPr>
          <a:xfrm>
            <a:off x="611280" y="314172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 effectiveness for 8x8 partition (average over all QP and Seq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1128600" y="1341360"/>
                <a:ext cx="38592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5" name="テキスト ボックス 10"/>
          <p:cNvSpPr/>
          <p:nvPr/>
        </p:nvSpPr>
        <p:spPr>
          <a:xfrm>
            <a:off x="1187280" y="2174760"/>
            <a:ext cx="604872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: Set of part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,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1 (if block m is best mode on block k), 0 (otherw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,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istortion of mode m on block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,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istortion of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st  mode on block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78588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: Most Probable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in TMuC 0.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in TMuC 0.9 with DC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473-769F-4850-9424-76C529258233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: Most Probable Mod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 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 short bit to “most probable mode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probable mode” is decided block by bl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 used in neighborhood is more prob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mode (e.g. VERT, HOR, DC) are more prob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derivation in AV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M is selected from modes of top/left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 with smaller index is sele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ex -- 0:VERT, 1:HORZ, 2:DC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s &amp; C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s: coding g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: additional operation, memory for intra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6FD-B460-4307-91A3-47779BB3F288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 evaluation in TMuC 0.9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785520"/>
            <a:ext cx="8229600" cy="1995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6000"/>
          </a:bodyPr>
          <a:p>
            <a:pPr marL="237600" indent="-15912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10760" indent="-1728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MPM enable case (Ref) and MPM disabled case (UIP/MPM0) to check coding efficiency of M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0760" indent="-1728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10760" indent="-1728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) Ref ... TMuC 0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33160" indent="-1224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PM is derived from the neibouring blo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10760" indent="-1728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UIP/MPM0 ... TMuC 0.9 with MPM disab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33160" indent="-1224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PM is replaced with DC (consta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510-1851-4489-B153-7E08DBEF6260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258920" y="4375080"/>
          <a:ext cx="3384360" cy="1717920"/>
        </p:xfrm>
        <a:graphic>
          <a:graphicData uri="http://schemas.openxmlformats.org/drawingml/2006/table">
            <a:tbl>
              <a:tblPr/>
              <a:tblGrid>
                <a:gridCol w="1692360"/>
                <a:gridCol w="169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ea5d8"/>
                          </a:solidFill>
                          <a:latin typeface="Verdana"/>
                          <a:ea typeface="HGｺﾞｼｯｸM"/>
                        </a:rPr>
                        <a:t>M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テキスト ボックス 6"/>
          <p:cNvSpPr/>
          <p:nvPr/>
        </p:nvSpPr>
        <p:spPr>
          <a:xfrm>
            <a:off x="395280" y="40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nalization of intra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7"/>
          <p:cNvSpPr/>
          <p:nvPr/>
        </p:nvSpPr>
        <p:spPr>
          <a:xfrm>
            <a:off x="1474920" y="613728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Ref (TMuC 0.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8"/>
          <p:cNvSpPr/>
          <p:nvPr/>
        </p:nvSpPr>
        <p:spPr>
          <a:xfrm>
            <a:off x="5292720" y="613728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UIP/MPM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5148360" y="4375080"/>
          <a:ext cx="3384360" cy="171792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ea5d8"/>
                          </a:solidFill>
                          <a:latin typeface="Verdana"/>
                          <a:ea typeface="HGｺﾞｼｯｸM"/>
                        </a:rPr>
                        <a:t>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xx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 in TMuC 0.9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9EF-D6B5-4061-A278-F9AE0598EBD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2" descr="C:\Documents and Settings\s127342\デスクトップ\hm_mpm0_he.png"/>
          <p:cNvPicPr/>
          <p:nvPr/>
        </p:nvPicPr>
        <p:blipFill>
          <a:blip r:embed="rId1"/>
          <a:stretch/>
        </p:blipFill>
        <p:spPr>
          <a:xfrm>
            <a:off x="539640" y="765000"/>
            <a:ext cx="5751720" cy="28418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s127342\デスクトップ\hm_mpm0_lc.png"/>
          <p:cNvPicPr/>
          <p:nvPr/>
        </p:nvPicPr>
        <p:blipFill>
          <a:blip r:embed="rId2"/>
          <a:stretch/>
        </p:blipFill>
        <p:spPr>
          <a:xfrm>
            <a:off x="546120" y="3689280"/>
            <a:ext cx="5738760" cy="2835360"/>
          </a:xfrm>
          <a:prstGeom prst="rect">
            <a:avLst/>
          </a:prstGeom>
          <a:ln w="0">
            <a:noFill/>
          </a:ln>
        </p:spPr>
      </p:pic>
      <p:sp>
        <p:nvSpPr>
          <p:cNvPr id="503" name="テキスト ボックス 6"/>
          <p:cNvSpPr/>
          <p:nvPr/>
        </p:nvSpPr>
        <p:spPr>
          <a:xfrm rot="16200000">
            <a:off x="9360" y="30171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7"/>
          <p:cNvSpPr/>
          <p:nvPr/>
        </p:nvSpPr>
        <p:spPr>
          <a:xfrm rot="16200000">
            <a:off x="9360" y="119628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直線矢印コネクタ 9"/>
          <p:cNvCxnSpPr/>
          <p:nvPr/>
        </p:nvCxnSpPr>
        <p:spPr>
          <a:xfrm flipH="1">
            <a:off x="468000" y="1268280"/>
            <a:ext cx="2160" cy="18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6" name="テキスト ボックス 10"/>
          <p:cNvSpPr/>
          <p:nvPr/>
        </p:nvSpPr>
        <p:spPr>
          <a:xfrm rot="16200000">
            <a:off x="10080" y="6029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1"/>
          <p:cNvSpPr/>
          <p:nvPr/>
        </p:nvSpPr>
        <p:spPr>
          <a:xfrm rot="16200000">
            <a:off x="10080" y="42087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直線矢印コネクタ 12"/>
          <p:cNvCxnSpPr/>
          <p:nvPr/>
        </p:nvCxnSpPr>
        <p:spPr>
          <a:xfrm flipH="1">
            <a:off x="468000" y="4281120"/>
            <a:ext cx="216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9" name="テキスト ボックス 13"/>
          <p:cNvSpPr/>
          <p:nvPr/>
        </p:nvSpPr>
        <p:spPr>
          <a:xfrm>
            <a:off x="6291360" y="3006720"/>
            <a:ext cx="2241360" cy="1191240"/>
          </a:xfrm>
          <a:prstGeom prst="rect">
            <a:avLst/>
          </a:prstGeom>
          <a:noFill/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 by MPM in TMuC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: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C: 1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 in TMuC 0.9 with DCI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785880"/>
            <a:ext cx="7283520" cy="4875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CIM: Differential Coding of Intra M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‘neighbors suggested modes’ (DCIM modes) to original modes (UIP mo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CIM modes are derived by applying sobel operater to the neighbor pix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M derivation in TMuC 0.9 with DC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rive MPM’ as like AV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CIM mode is stored as similar UIP 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t MPM’ taking account of current PU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9E08-C6EF-48A0-99F9-4FF039347DC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7254000" y="2288520"/>
            <a:ext cx="1285560" cy="1238040"/>
            <a:chOff x="7254000" y="2288520"/>
            <a:chExt cx="1285560" cy="1238040"/>
          </a:xfrm>
        </p:grpSpPr>
        <p:sp>
          <p:nvSpPr>
            <p:cNvPr id="514" name="Line 4"/>
            <p:cNvSpPr/>
            <p:nvPr/>
          </p:nvSpPr>
          <p:spPr>
            <a:xfrm>
              <a:off x="7254720" y="2292120"/>
              <a:ext cx="1224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7266240" y="2292480"/>
              <a:ext cx="108360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7272720" y="2293560"/>
              <a:ext cx="861120" cy="10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3"/>
            <p:cNvSpPr/>
            <p:nvPr/>
          </p:nvSpPr>
          <p:spPr>
            <a:xfrm>
              <a:off x="7266600" y="2292480"/>
              <a:ext cx="619200" cy="11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6"/>
            <p:cNvSpPr/>
            <p:nvPr/>
          </p:nvSpPr>
          <p:spPr>
            <a:xfrm>
              <a:off x="7254000" y="2292840"/>
              <a:ext cx="115884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7"/>
            <p:cNvSpPr/>
            <p:nvPr/>
          </p:nvSpPr>
          <p:spPr>
            <a:xfrm>
              <a:off x="7265160" y="2294280"/>
              <a:ext cx="990720" cy="87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8"/>
            <p:cNvSpPr/>
            <p:nvPr/>
          </p:nvSpPr>
          <p:spPr>
            <a:xfrm>
              <a:off x="7270560" y="2295720"/>
              <a:ext cx="741600" cy="10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9"/>
            <p:cNvSpPr/>
            <p:nvPr/>
          </p:nvSpPr>
          <p:spPr>
            <a:xfrm>
              <a:off x="7264800" y="2294640"/>
              <a:ext cx="48312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0"/>
            <p:cNvSpPr/>
            <p:nvPr/>
          </p:nvSpPr>
          <p:spPr>
            <a:xfrm>
              <a:off x="7266960" y="2288520"/>
              <a:ext cx="127260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 in TMuC 0.9 with DCI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78588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) Ref … TMuC 0.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DCIM/MPM  ... TMuC 0.9 + DCIM (software used in CE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) DCIM/MPM0 ... Disable MPM in 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064D-E039-44B1-BB48-348E206AE8AF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テキスト ボックス 7"/>
          <p:cNvSpPr/>
          <p:nvPr/>
        </p:nvSpPr>
        <p:spPr>
          <a:xfrm>
            <a:off x="395280" y="256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nalization of intra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84360" y="3141720"/>
          <a:ext cx="3887640" cy="2286000"/>
        </p:xfrm>
        <a:graphic>
          <a:graphicData uri="http://schemas.openxmlformats.org/drawingml/2006/table">
            <a:tbl>
              <a:tblPr/>
              <a:tblGrid>
                <a:gridCol w="741240"/>
                <a:gridCol w="1058760"/>
                <a:gridCol w="360360"/>
                <a:gridCol w="360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U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M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m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  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xx  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xxx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x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テキスト ボックス 11"/>
          <p:cNvSpPr/>
          <p:nvPr/>
        </p:nvSpPr>
        <p:spPr>
          <a:xfrm>
            <a:off x="971640" y="55389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DCIM/M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4799160" y="3141720"/>
          <a:ext cx="3887640" cy="2286000"/>
        </p:xfrm>
        <a:graphic>
          <a:graphicData uri="http://schemas.openxmlformats.org/drawingml/2006/table">
            <a:tbl>
              <a:tblPr/>
              <a:tblGrid>
                <a:gridCol w="741240"/>
                <a:gridCol w="1192320"/>
                <a:gridCol w="360360"/>
                <a:gridCol w="360360"/>
                <a:gridCol w="1233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U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irectional m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  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xx  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xxxxx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C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x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01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テキスト ボックス 13"/>
          <p:cNvSpPr/>
          <p:nvPr/>
        </p:nvSpPr>
        <p:spPr>
          <a:xfrm>
            <a:off x="5086440" y="55389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DCIM/MPM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PM in TMuC 0.9 with DCI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9B0-4466-4B45-B8D1-A36A6DE0D41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テキスト ボックス 6"/>
          <p:cNvSpPr/>
          <p:nvPr/>
        </p:nvSpPr>
        <p:spPr>
          <a:xfrm rot="16200000">
            <a:off x="9360" y="30171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テキスト ボックス 7"/>
          <p:cNvSpPr/>
          <p:nvPr/>
        </p:nvSpPr>
        <p:spPr>
          <a:xfrm rot="16200000">
            <a:off x="9360" y="119628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直線矢印コネクタ 9"/>
          <p:cNvCxnSpPr/>
          <p:nvPr/>
        </p:nvCxnSpPr>
        <p:spPr>
          <a:xfrm flipH="1">
            <a:off x="468000" y="1268280"/>
            <a:ext cx="2160" cy="18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6" name="テキスト ボックス 10"/>
          <p:cNvSpPr/>
          <p:nvPr/>
        </p:nvSpPr>
        <p:spPr>
          <a:xfrm rot="16200000">
            <a:off x="10080" y="602964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テキスト ボックス 11"/>
          <p:cNvSpPr/>
          <p:nvPr/>
        </p:nvSpPr>
        <p:spPr>
          <a:xfrm rot="16200000">
            <a:off x="10080" y="42087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直線矢印コネクタ 12"/>
          <p:cNvCxnSpPr/>
          <p:nvPr/>
        </p:nvCxnSpPr>
        <p:spPr>
          <a:xfrm flipH="1">
            <a:off x="468000" y="4281120"/>
            <a:ext cx="216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9" name="テキスト ボックス 13"/>
          <p:cNvSpPr/>
          <p:nvPr/>
        </p:nvSpPr>
        <p:spPr>
          <a:xfrm>
            <a:off x="6291360" y="3006720"/>
            <a:ext cx="2395440" cy="1191240"/>
          </a:xfrm>
          <a:prstGeom prst="rect">
            <a:avLst/>
          </a:prstGeom>
          <a:noFill/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by MPM in TMuC 0.9 with DC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E: 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C: 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C:\Documents and Settings\s127342\デスクトップ\dcim_mpm0_he.png"/>
          <p:cNvPicPr/>
          <p:nvPr/>
        </p:nvPicPr>
        <p:blipFill>
          <a:blip r:embed="rId1"/>
          <a:stretch/>
        </p:blipFill>
        <p:spPr>
          <a:xfrm>
            <a:off x="663480" y="857160"/>
            <a:ext cx="5491080" cy="2716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Documents and Settings\s127342\デスクトップ\dcim_mpm0_lc.png"/>
          <p:cNvPicPr/>
          <p:nvPr/>
        </p:nvPicPr>
        <p:blipFill>
          <a:blip r:embed="rId2"/>
          <a:stretch/>
        </p:blipFill>
        <p:spPr>
          <a:xfrm>
            <a:off x="663480" y="3616200"/>
            <a:ext cx="54910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y MPM performance differs?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MuC 0.9, MPM is eff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MuC 0.9 with DCIM, MPM is not eff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ality overwrap of MPM and DC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M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predict intra mode based on neighboring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ssign short bit to predicted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CI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predict direction based on neighboring pixel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ssign short bit to the mode correspond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predicted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FCCF-9802-4356-8DA6-406A1A1A814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1-17T12:38:59Z</dcterms:modified>
  <cp:revision>19</cp:revision>
  <dc:subject/>
  <dc:title>Analysis and improvement of differential coding of intra modes  (JCTVC-C176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