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23A-C29D-48D1-B4D1-837D60C5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086-1AF6-4328-9BBE-9E44F219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E7F-30C8-450B-9108-2DE9F13E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C3C-2AAF-41AC-875D-F6BEDF36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32D-79B0-4039-89FC-771281FD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C3B-783D-43BB-8CE8-6C0EBF36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092-2F1F-4355-9654-F3D16763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68E-70F2-4EEF-92E0-E9CAC14B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041-00B7-4172-BB1A-B3049856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FF1-6182-41A2-A192-D042E61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485-CEA5-4CF7-9E11-56B2FB9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957-2572-4890-8581-B8E806BA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52428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CD1E-730E-46F8-A371-5D35C428A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8" descr=""/>
          <p:cNvPicPr/>
          <p:nvPr/>
        </p:nvPicPr>
        <p:blipFill>
          <a:blip r:embed="rId3"/>
          <a:stretch/>
        </p:blipFill>
        <p:spPr>
          <a:xfrm>
            <a:off x="1825560" y="0"/>
            <a:ext cx="15940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785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UT-based adaptive filtering on intra prediction samp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3429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ial"/>
              </a:rPr>
              <a:t>Kazuo Sugimoto, Shun-ichi Sekiguchi, Akira Minezawa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ja-JP" sz="3500" spc="-1" strike="noStrike">
                <a:solidFill>
                  <a:srgbClr val="000000"/>
                </a:solidFill>
                <a:latin typeface="Arial"/>
              </a:rPr>
              <a:t>Mitsubishi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ial"/>
              </a:rPr>
              <a:t>Kazuhisa Iguchi, Yoshiaki Shishikui (NHK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6206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D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B1A-31D7-4A5A-A18B-84C478415E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 prediction filtering improves coding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% and 1.3% for Intra HE and LC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 time increase is 2% and 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 time increase is 0% and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version gives 0.3% and 0.5% gain with 0% ENC/DEC time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version with C234 gives 0.5% and 1.0% gain with 0% ENC/DEC time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this method to be evaluated in a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693-90A8-4AB5-B434-79F87938C0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F78-1AA2-4D12-A335-318CEA70F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tering on DC predict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top and left edge samples are filtered using 2 tap filters for 4x4, 8x8 and 16x16 b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00360" y="2852640"/>
            <a:ext cx="3527280" cy="3390840"/>
            <a:chOff x="2700360" y="2852640"/>
            <a:chExt cx="3527280" cy="3390840"/>
          </a:xfrm>
        </p:grpSpPr>
        <p:sp>
          <p:nvSpPr>
            <p:cNvPr id="94" name=""/>
            <p:cNvSpPr/>
            <p:nvPr/>
          </p:nvSpPr>
          <p:spPr>
            <a:xfrm>
              <a:off x="3924000" y="508464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24000" y="5229000"/>
              <a:ext cx="14472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000" y="5371920"/>
              <a:ext cx="14472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4000" y="551664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24000" y="566100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24000" y="580536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24000" y="594828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24000" y="6092640"/>
              <a:ext cx="14472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24000" y="393228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4000" y="407664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24000" y="421956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24000" y="436392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24000" y="4508280"/>
              <a:ext cx="14472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24000" y="465300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24000" y="4795560"/>
              <a:ext cx="14472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24000" y="494028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68720" y="50860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68720" y="52308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8720" y="5373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8720" y="55180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8720" y="5662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68720" y="58068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68720" y="59497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68720" y="6094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8720" y="3933720"/>
              <a:ext cx="14436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8720" y="40780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68720" y="42210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68720" y="436536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68720" y="45100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68720" y="4654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8720" y="47973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68720" y="4941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1640" y="50860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1640" y="52308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11640" y="5373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11640" y="55180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11640" y="5662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640" y="58068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1640" y="59497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11640" y="6094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11640" y="3933720"/>
              <a:ext cx="14436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11640" y="40780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11640" y="42210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11640" y="436536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11640" y="45100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11640" y="4654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11640" y="47973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1640" y="4941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56000" y="50878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6000" y="52322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6000" y="53751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6000" y="55195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56642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6000" y="58086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6000" y="59515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56000" y="60958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56000" y="3935160"/>
              <a:ext cx="14436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56000" y="40798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56000" y="42228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6000" y="43671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6000" y="45115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6000" y="46558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56000" y="47988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56000" y="49435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00360" y="50860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00360" y="52308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00360" y="5373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00360" y="55180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0360" y="5662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0360" y="58068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00360" y="59497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0360" y="6094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00360" y="3933720"/>
              <a:ext cx="14436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00360" y="40780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00360" y="42210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00360" y="436536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00360" y="45100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00360" y="4654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00360" y="47973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00360" y="4941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4720" y="50878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4720" y="52322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4720" y="537516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4720" y="551952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44720" y="56642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44720" y="580860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4720" y="59515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4720" y="60958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4720" y="3935160"/>
              <a:ext cx="14472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44720" y="40798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4720" y="422280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4720" y="436716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4720" y="45115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4720" y="465588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4720" y="479880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4720" y="49435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87640" y="50878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7640" y="52322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87640" y="537516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7640" y="551952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7640" y="56642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87640" y="580860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7640" y="59515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640" y="60958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87640" y="3935160"/>
              <a:ext cx="14472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87640" y="40798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7640" y="422280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87640" y="436716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87640" y="45115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87640" y="465588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7640" y="479880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7640" y="49435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2360" y="50893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32360" y="52340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2360" y="53766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32360" y="55213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2360" y="56656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32360" y="581004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32360" y="59529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32360" y="60973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32360" y="3936960"/>
              <a:ext cx="14436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32360" y="40813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32360" y="42242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43686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32360" y="45133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32360" y="46576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32360" y="48006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32360" y="49449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75280" y="50860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5280" y="52308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5280" y="5373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75280" y="55180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75280" y="5662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5280" y="58068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5280" y="59497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75280" y="6094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5280" y="3933720"/>
              <a:ext cx="14436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75280" y="40780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5280" y="42210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436536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5280" y="45100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5280" y="46544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5280" y="47973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5280" y="49417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19640" y="50878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19640" y="52322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19640" y="53751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19640" y="55195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19640" y="56642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19640" y="58086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9640" y="59515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9640" y="60958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19640" y="3935160"/>
              <a:ext cx="14436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19640" y="40798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19640" y="42228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19640" y="43671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19640" y="45115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9640" y="46558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19640" y="47988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9640" y="49435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2560" y="50878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62560" y="52322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62560" y="53751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62560" y="55195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62560" y="56642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62560" y="58086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62560" y="59515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2560" y="60958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62560" y="3935160"/>
              <a:ext cx="14436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62560" y="40798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62560" y="42228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2560" y="43671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2560" y="45115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62560" y="46558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62560" y="47988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62560" y="49435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06920" y="50893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06920" y="52340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06920" y="53766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06920" y="55213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06920" y="56656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06920" y="581004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06920" y="59529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06920" y="60973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06920" y="3936960"/>
              <a:ext cx="14436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06920" y="40813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06920" y="42242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06920" y="43686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06920" y="45133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06920" y="46576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6920" y="48006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06920" y="49449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1280" y="50878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51280" y="52322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51280" y="537516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51280" y="551952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51280" y="56642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1280" y="580860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51280" y="59515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51280" y="60958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51280" y="3935160"/>
              <a:ext cx="14472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1280" y="40798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51280" y="422280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51280" y="436716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51280" y="45115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51280" y="465588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51280" y="479880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1280" y="49435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6000" y="50893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6000" y="52340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6000" y="53766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6000" y="55213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96000" y="56656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6000" y="581004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6000" y="59529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96000" y="60973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96000" y="3936960"/>
              <a:ext cx="14436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96000" y="40813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6000" y="42242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6000" y="43686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6000" y="45133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46576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6000" y="48006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96000" y="49449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38560" y="508932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38560" y="52340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8560" y="537660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38560" y="55213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38560" y="56656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38560" y="581004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38560" y="595296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38560" y="609732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8560" y="3936960"/>
              <a:ext cx="144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38560" y="40813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38560" y="422424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38560" y="4368600"/>
              <a:ext cx="14472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38560" y="451332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38560" y="465768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38560" y="480060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38560" y="4944960"/>
              <a:ext cx="144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83280" y="50911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83280" y="52354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83280" y="53784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83280" y="55227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83280" y="56671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83280" y="58118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3280" y="59547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83280" y="60991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83280" y="3938400"/>
              <a:ext cx="144360" cy="144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83280" y="408312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83280" y="422568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3280" y="437040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83280" y="451476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83280" y="465912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83280" y="480204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83280" y="4946400"/>
              <a:ext cx="144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24000" y="378288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68720" y="37843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11640" y="37843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6000" y="3786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00360" y="37843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44720" y="37861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87640" y="37861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32360" y="37875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75280" y="37843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19640" y="3786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2560" y="3786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06920" y="37875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51280" y="37861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6000" y="37875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38560" y="378756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3280" y="37893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79640" y="5091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79640" y="52354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79640" y="5378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9640" y="5522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9640" y="56671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79640" y="58118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79640" y="5954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9640" y="6099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79640" y="393840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79640" y="4083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9640" y="422568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79640" y="4370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79640" y="4514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79640" y="46591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79640" y="48020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79640" y="494640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79640" y="37893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36720" y="50911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36720" y="523548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36720" y="53784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36720" y="5522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6720" y="566712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36720" y="58118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36720" y="5954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36720" y="60991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6720" y="393840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6720" y="40831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36720" y="422568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36720" y="43704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36720" y="4514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36720" y="465912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36720" y="48020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6720" y="494640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36720" y="37893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92360" y="5091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92360" y="52354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92360" y="5378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92360" y="5522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92360" y="56671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92360" y="58118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92360" y="5954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6099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92360" y="393840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92360" y="4083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92360" y="422568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92360" y="4370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92360" y="4514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92360" y="46591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92360" y="48020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92360" y="494640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92360" y="37893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48000" y="5091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48000" y="52354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48000" y="5378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48000" y="5522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48000" y="56671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8000" y="58118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48000" y="5954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48000" y="6099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48000" y="393840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48000" y="4083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48000" y="422568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48000" y="4370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48000" y="4514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48000" y="46591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48000" y="48020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48000" y="494640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48000" y="37893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3280" y="50911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03280" y="523548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03280" y="53784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03280" y="5522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03280" y="566712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03280" y="58118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03280" y="5954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3280" y="60991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03280" y="393840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3280" y="40831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3280" y="422568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03280" y="43704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3280" y="4514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3280" y="465912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280" y="48020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03280" y="494640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03280" y="37893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60720" y="5091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60720" y="52354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60720" y="5378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60720" y="5522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60720" y="56671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60720" y="58118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60720" y="5954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60720" y="6099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60720" y="393840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60720" y="40831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60720" y="422568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60720" y="4370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60720" y="4514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60720" y="465912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60720" y="48020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60720" y="494640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60720" y="37893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24000" y="36385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8720" y="36399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11640" y="36399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56000" y="3641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00360" y="36399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4720" y="3641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87640" y="3641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32360" y="36432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75280" y="36399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19640" y="3641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62560" y="3641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06920" y="36432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51280" y="3641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96000" y="36432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38560" y="36432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83280" y="364464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79640" y="364464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36720" y="364464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92360" y="364464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48000" y="364464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03280" y="364464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60720" y="364464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24000" y="350208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68720" y="35035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11640" y="35035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56000" y="35049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00360" y="35035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44720" y="350496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87640" y="350496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32360" y="3506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75280" y="35035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19640" y="35049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62560" y="35049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06920" y="3506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1280" y="350496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96000" y="35067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38560" y="350676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83280" y="35082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79640" y="35082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36720" y="35082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92360" y="35082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8000" y="35082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03280" y="35082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60720" y="35082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24000" y="335736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68720" y="33591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11640" y="33591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56000" y="33606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00360" y="33591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44720" y="33606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7640" y="33606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32360" y="3362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5280" y="335916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19640" y="33606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62560" y="33606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06920" y="3362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51280" y="33606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96000" y="33624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38560" y="33624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83280" y="33638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79640" y="33638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36720" y="33638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92360" y="33638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48000" y="33638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03280" y="33638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60720" y="33638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24000" y="321300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68720" y="321444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11640" y="321444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6000" y="32162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00360" y="321444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4720" y="32162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87640" y="32162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32360" y="321768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75280" y="321444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19640" y="32162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62560" y="321624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06920" y="321768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1280" y="32162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6000" y="321768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38560" y="321768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83280" y="32194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79640" y="32194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36720" y="321948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92360" y="32194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48000" y="32194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03280" y="321948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60720" y="32194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24000" y="306864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68720" y="30700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1640" y="30700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56000" y="30718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00360" y="30700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44720" y="307188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87640" y="307188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32360" y="30733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75280" y="30700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19640" y="30718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62560" y="30718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06920" y="30733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51280" y="307188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96000" y="307332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38560" y="3073320"/>
              <a:ext cx="1447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83280" y="30747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79640" y="30747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36720" y="307476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92360" y="30747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48000" y="30747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03280" y="3074760"/>
              <a:ext cx="14472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60720" y="3074760"/>
              <a:ext cx="144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24000" y="2852640"/>
              <a:ext cx="0" cy="338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00360" y="3933720"/>
              <a:ext cx="352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A34-1A8F-47CB-80B4-0B3BD4C57A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Complexity of MDIS vs DCpredFilter+C2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0, 0, 0, 0, 0, 0, 0, 0, 0, 0, 0, 0, 0, 0, 0, 0, 0, 0, 0, 0, 0, 0, 0, 0, 0, 0, 0, 0, 0, 0, 0, 0, 0, 0, 0, 0, 0}, //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0, 1, 0, 0, 1, 0, 0, 1, 0, 0, 0, 0, 0, 0, 0, 0, 0, 0, 0, 0, 0, 0, 0, 0, 0, 0, 0, 0, 0, 0, 0, 0, 0, 0, 0, 0, 0, 0}, //4x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0, 1, 1, 1, 1, 1, 1, 1, 0, 0, 0, 0, 0, 0, 0, 0, 0, 0, 0, 0, 0, 0, 0, 0, 0, 0, 0, 0, 0, 0, 0, 0, 0, 0, 0, 0, 0, 0}, //8x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0, 1, 1, 1, 1, 1, 1, 1, 1, 1, 1, 1, 1, 1, 1, 1, 0, 0, 0, 0, 0, 0, 0, 0, 0, 0, 0, 0, 0, 0, 0, 0, 0, 0, 0, 0, 0, 0}, //16x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1, 1, 1, 1, 1, 1, 1, 1, 1, 1, 1, 1, 1, 1, 1, 1, 1, 1, 1, 1, 1, 1, 1, 1, 1, 1, 1, 1, 1, 1, 1, 0, 0, 0, 0, 0, 0}, //32x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1, 1, 0, 0, 0, 0, 0, 0, 0, 0, 0, 0, 0, 0, 0, 0, 0, 0, 0, 0, 0, 0, 0, 0, 0, 0, 0, 0, 0, 0, 0, 0, 0, 0, 0, 0, 0}, //64x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1, 1, 0, 0, 0, 0, 0, 0, 0, 0, 0, 0, 0, 0, 0, 0, 0, 0, 0, 0, 0, 0, 0, 0, 0, 0, 0, 0, 0, 0, 0, 0, 0, 0, 0, 0, 0}  //128x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0, 0, 0, 0, 0, 0, 0, 0, 0, 0, 0, 0, 0, 0, 0, 0, 0, 0, 0, 0, 0, 0, 0, 0, 0, 0, 0, 0, 0, 0, 0, 0, 0, 0, 0, 0, 0}, //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1, 0, 0, 1, 0, 0, 1, 0, 0, 0, 0, 0, 0, 0, 0, 0, 0, 0, 0, 0, 0, 0, 0, 0, 0, 0, 0, 0, 0, 0, 0, 0, 0, 0, 0, 0, 0}, //4x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1, 1, 2, 2, 2, 1, 1, 0, 0, 0, 0, 0, 0, 0, 0, 0, 0, 0, 0, 0, 0, 0, 0, 0, 0, 0, 0, 0, 0, 0, 0, 0, 0, 0, 0, 0, 0}, //8x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2, 2, 2, 2, 2, 2, 2, 2, 2, 2, 2, 2, 2, 2, 2, 0, 0, 0, 0, 0, 0, 0, 0, 0, 0, 0, 0, 0, 0, 0, 0, 0, 0, 0, 0, 0, 0}, //16x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2, 2, 2, 2, 2, 2, 2, 2, 2, 2, 2, 2, 2, 2, 2, 2, 2, 2, 2, 2, 2, 2, 2, 2, 2, 2, 2, 2, 2, 2, 2, 0, 0, 0, 0, 0, 0}, //32x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2, 2, 0, 0, 0, 0, 0, 0, 0, 0, 0, 0, 0, 0, 0, 0, 0, 0, 0, 0, 0, 0, 0, 0, 0, 0, 0, 0, 0, 0, 0, 0, 0, 0, 0, 0, 0}, //64x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0, 0, 2, 2, 0, 0, 0, 0, 0, 0, 0, 0, 0, 0, 0, 0, 0, 0, 0, 0, 0, 0, 0, 0, 0, 0, 0, 0, 0, 0, 0, 0, 0, 0, 0, 0, 0, 0, 0}  //128x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1E4-24DB-4C32-A713-FA90A735AC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CTVC-B067, we have shown the possibility of the advantage in terms of coding efficiency using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iltering on intra prediction s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ed to intra reference sample smo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proposal, intra prediction filter is decided based on a lookup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F7D-CF79-4412-9FD8-70598A6986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 prediction samples 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47800" y="238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2060640"/>
            <a:ext cx="129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2222640"/>
            <a:ext cx="33948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384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23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3080" y="2060640"/>
            <a:ext cx="129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Q/ID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11840" y="238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2384280"/>
            <a:ext cx="0" cy="3152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5537160"/>
            <a:ext cx="216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588000" y="2546280"/>
            <a:ext cx="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588000" y="50324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4384800"/>
            <a:ext cx="129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602400" y="3789360"/>
            <a:ext cx="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141720"/>
            <a:ext cx="12956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42102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filters are used for IP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is decided according to a 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B5B-32DB-491F-8DFA-5E75BA8415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hree-tap filters and a 5 tap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355160" cy="243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B85-B0A6-4057-951B-94F23A63A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-up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687920"/>
        </p:xfrm>
        <a:graphic>
          <a:graphicData uri="http://schemas.openxmlformats.org/drawingml/2006/table">
            <a:tbl>
              <a:tblPr/>
              <a:tblGrid>
                <a:gridCol w="1457280"/>
                <a:gridCol w="1505160"/>
                <a:gridCol w="1990440"/>
                <a:gridCol w="1505160"/>
                <a:gridCol w="1771560"/>
              </a:tblGrid>
              <a:tr h="6436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U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ilter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ilter #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ilter #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ilter 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ilter #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e 3, 6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(D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(D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e 3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6x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(D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e 3-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32x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64x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CF0-2EC5-415B-82E9-4257EC067B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ied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implify the proposed method only DC prediction samples are smoot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C prediction samples, only left and top edge pixel lines are filtered using 2 tap fil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4140360" cy="157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4408560" y="3597120"/>
          <a:ext cx="4340160" cy="3071880"/>
        </p:xfrm>
        <a:graphic>
          <a:graphicData uri="http://schemas.openxmlformats.org/drawingml/2006/table">
            <a:tbl>
              <a:tblPr/>
              <a:tblGrid>
                <a:gridCol w="1060200"/>
                <a:gridCol w="1092960"/>
                <a:gridCol w="1094400"/>
                <a:gridCol w="1092600"/>
              </a:tblGrid>
              <a:tr h="39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U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ilter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ilter #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ilter #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ilter 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6x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32x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64x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BAC-B105-4417-8D5D-D5D9B4DDB1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mulation are conducted using TMuC 0.9 Intra Only default conditions with SHV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26480" y="29178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Results on the propose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7560000" cy="2805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03440" y="6154560"/>
            <a:ext cx="57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6% for HE, -1.3% for LC on common test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DC0-6794-4B6D-9FED-5DD937623F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01040" y="248616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Results on the simplified version of the propose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2924280"/>
            <a:ext cx="8244000" cy="306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3440" y="6154560"/>
            <a:ext cx="57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3% for HE, -0.5% for LC on common test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02F-857B-40AB-8468-1F93DF4B51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the simplified version and C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7400" y="2486160"/>
            <a:ext cx="72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Results on the simplified version of the proposed method + C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7775280" cy="28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3440" y="6154560"/>
            <a:ext cx="57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5% for HE, -1.0% for LC on common test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369-F9BE-4625-8CCC-16AD6F8642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>GB72714</dc:creator>
  <dc:description/>
  <dc:language>en-US</dc:language>
  <cp:lastModifiedBy>Kazuo Sugimoto</cp:lastModifiedBy>
  <dcterms:modified xsi:type="dcterms:W3CDTF">2011-01-22T23:49:26Z</dcterms:modified>
  <cp:revision>72</cp:revision>
  <dc:subject/>
  <dc:title>ドレスデン会合準備について</dc:title>
</cp:coreProperties>
</file>