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2FA-FA36-4E0F-9F3E-656602CD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F99-0E1D-41F0-A47B-152FE2D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145-AAE7-45C3-8E00-42E9B884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19B-8F7A-464C-BF2E-D0A6F38F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59-AE57-4A91-AE48-CC149C7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738-2E92-4A98-B291-45A28E1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4E1-19E6-4007-B9A9-721B03AE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D8B-91E9-4F81-9AAF-3B16BC7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50C-A6FE-4A4A-ADCA-29ECF30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16F-3FB6-4B5F-B171-ADC31C8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F8C-04C1-4127-AA6F-878A722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EBA-7CF3-488C-8BAC-C4083BF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FC7A-CCF1-4DFF-979D-58B70886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Efficien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byte fixed length cod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Low Complexity Entropy Coding – PIPE/V2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Kazuo Sugimoto, Ryoji Hattori, Shun-ichi Sekiguchi</a:t>
            </a:r>
            <a:br>
              <a:rPr sz="2200"/>
            </a:b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Yoshiaki Kato, Kohtaro Asai and Tokumichi Murakam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206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D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472-7128-41BC-8AA3-1E40471F54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322200" y="1773360"/>
            <a:ext cx="9142200" cy="30096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al codes for PIPE/V2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uC0.9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4480" y="5014800"/>
            <a:ext cx="185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627280" y="5013360"/>
            <a:ext cx="530064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4480" y="5878440"/>
            <a:ext cx="185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27280" y="5877000"/>
            <a:ext cx="331920" cy="71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V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5400" y="457524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additional table size on top of CABAC for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2E9-AFF4-4DBB-9FC5-F8A82706B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713800" cy="24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chor: LCEC, Compared: PIPE/V2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MuC 0.9 with common test conditions for low complexity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-4%bit reduction with 28% ENC time increase and 8-9% DEC time increase for inter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128-5DA8-4791-875C-FC6E90135F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427880" cy="4921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decoding time per bit (Random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1C3-CD00-400E-9156-443595E0E3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decoding time per bit (Low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416720" cy="49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851-2C70-4E36-97CD-1FDB9C87B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yte FLC is realized using PIPE/V2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program codes and tables on top of CABAC are very small compared to LC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than 10% DEC time increase with 3-4 % gain for 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 PIPE processing would give more speed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PIPE/V2F to be verified in CE by the next meeting as a candidate for the entropy coder of low complexity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2EB-10E4-4E18-87F9-B097DAB94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provide a light weight entropy coder with small modification from C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byte F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ixed length code table for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contex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804-AEAC-4670-978C-94E54C1008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C to FLC tables for PIPE/V2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816920" y="1274760"/>
            <a:ext cx="1247760" cy="2499840"/>
            <a:chOff x="1816920" y="1274760"/>
            <a:chExt cx="1247760" cy="2499840"/>
          </a:xfrm>
        </p:grpSpPr>
        <p:sp>
          <p:nvSpPr>
            <p:cNvPr id="49" name=""/>
            <p:cNvSpPr/>
            <p:nvPr/>
          </p:nvSpPr>
          <p:spPr>
            <a:xfrm>
              <a:off x="2525040" y="153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25040" y="16714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25040" y="18097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25040" y="1947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25040" y="2086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25040" y="2224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25040" y="2363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504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2504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5040" y="27781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5040" y="2916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25040" y="3054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25040" y="31924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25040" y="3330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5040" y="3468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5040" y="3606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92880" y="153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2880" y="16732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2880" y="180972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2880" y="1947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2880" y="20862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2880" y="22240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2880" y="23637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2880" y="25002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2880" y="26384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92880" y="277812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92880" y="29163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880" y="3054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92880" y="31924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92880" y="33321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92520" y="34700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2520" y="36068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5120" y="13212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16920" y="127476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16920" y="377388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6920" y="1274760"/>
              <a:ext cx="360" cy="249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4320" y="1274760"/>
              <a:ext cx="360" cy="249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6920" y="148680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8000" y="1486800"/>
              <a:ext cx="360" cy="2287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5040" y="153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25040" y="16732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5040" y="18097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5040" y="1947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5040" y="2086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25040" y="2224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5040" y="2363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2504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2504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25040" y="27781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25040" y="2916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5040" y="3054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25040" y="31924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25040" y="3332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5040" y="3470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25040" y="3606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2880" y="153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92880" y="16732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92880" y="180972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92880" y="1947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92880" y="20862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92880" y="22240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2880" y="23637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92880" y="25002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2880" y="26384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2880" y="277812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2880" y="29163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2880" y="3054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92880" y="31924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92880" y="33321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92520" y="34700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2520" y="36068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5120" y="13212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6920" y="127476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6920" y="377388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6920" y="1274760"/>
              <a:ext cx="360" cy="249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64320" y="1274760"/>
              <a:ext cx="360" cy="249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6920" y="148680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48000" y="1486800"/>
              <a:ext cx="360" cy="2287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53640" y="1272960"/>
            <a:ext cx="1247760" cy="2500200"/>
            <a:chOff x="4553640" y="1272960"/>
            <a:chExt cx="1247760" cy="2500200"/>
          </a:xfrm>
        </p:grpSpPr>
        <p:sp>
          <p:nvSpPr>
            <p:cNvPr id="128" name=""/>
            <p:cNvSpPr/>
            <p:nvPr/>
          </p:nvSpPr>
          <p:spPr>
            <a:xfrm>
              <a:off x="5261760" y="1531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61760" y="16696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1760" y="1807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1760" y="1945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61760" y="2084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61760" y="2224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1760" y="2360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176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6176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1760" y="27748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1760" y="2914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1760" y="3052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61760" y="3191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61760" y="3328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61760" y="3467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61760" y="3605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29600" y="15332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29240" y="1669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29240" y="1807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29240" y="19476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29240" y="20844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9240" y="22240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9240" y="23605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29240" y="25002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9240" y="26384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29240" y="277488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9240" y="291492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29240" y="30528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29240" y="31910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29240" y="3328920"/>
              <a:ext cx="45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29240" y="34671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29240" y="360540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01840" y="132084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53640" y="12729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3640" y="37713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3640" y="1272960"/>
              <a:ext cx="360" cy="249840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1040" y="1272960"/>
              <a:ext cx="360" cy="249840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3640" y="14853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84720" y="1485360"/>
              <a:ext cx="360" cy="228564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1760" y="15332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760" y="16696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1760" y="1807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1760" y="1947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61760" y="2084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1760" y="2224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61760" y="2360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6176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6176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1760" y="27748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61760" y="2914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1760" y="3052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1760" y="3191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1760" y="3328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1760" y="3467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61760" y="3605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9600" y="15332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29240" y="1669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29240" y="1807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29240" y="19476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9240" y="20844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29240" y="22240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29240" y="23605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29240" y="25002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9240" y="26384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29240" y="277488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29240" y="291492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9240" y="30528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240" y="31910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9240" y="3328920"/>
              <a:ext cx="45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9240" y="34671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29240" y="360540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01840" y="132084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53640" y="12729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53640" y="37713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3640" y="1272960"/>
              <a:ext cx="360" cy="249840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1272960"/>
              <a:ext cx="360" cy="249840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53640" y="148536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4720" y="1485360"/>
              <a:ext cx="360" cy="228564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185280" y="1274040"/>
            <a:ext cx="1247760" cy="2499120"/>
            <a:chOff x="3185280" y="1274040"/>
            <a:chExt cx="1247760" cy="2499120"/>
          </a:xfrm>
        </p:grpSpPr>
        <p:sp>
          <p:nvSpPr>
            <p:cNvPr id="207" name=""/>
            <p:cNvSpPr/>
            <p:nvPr/>
          </p:nvSpPr>
          <p:spPr>
            <a:xfrm>
              <a:off x="3893400" y="1531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93400" y="16696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3400" y="1807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93400" y="1945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93400" y="2086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93400" y="22226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93400" y="2360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9340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9340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93400" y="2776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3400" y="2914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93400" y="3052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93400" y="3191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3400" y="3328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3400" y="34671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93400" y="3605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61240" y="15332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1240" y="16696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61240" y="18093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61240" y="1947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60880" y="208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0880" y="22226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0880" y="2360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60880" y="2500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60880" y="26384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60880" y="27763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60880" y="2914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0880" y="30546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60880" y="319104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60880" y="3328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60880" y="34686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60880" y="36054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33480" y="13194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5280" y="127404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85280" y="377208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5280" y="1274040"/>
              <a:ext cx="360" cy="249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32680" y="1274040"/>
              <a:ext cx="360" cy="249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85280" y="148608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16360" y="1486080"/>
              <a:ext cx="360" cy="2285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93400" y="15332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93400" y="16696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93400" y="1809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3400" y="1947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3400" y="2086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93400" y="22226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93400" y="2360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93400" y="25002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93400" y="263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93400" y="2776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3400" y="2914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3400" y="3054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93400" y="3191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93400" y="3328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93400" y="3468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93400" y="3605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61240" y="153324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1240" y="166968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61240" y="180936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61240" y="19476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60880" y="208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60880" y="22226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60880" y="2360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60880" y="2500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60880" y="26384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0880" y="27763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60880" y="2914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0880" y="30546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60880" y="319104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60880" y="3328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60880" y="34686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0880" y="360540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3480" y="13194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85280" y="127404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5280" y="3772080"/>
              <a:ext cx="1247040" cy="360"/>
            </a:xfrm>
            <a:prstGeom prst="line">
              <a:avLst/>
            </a:prstGeom>
            <a:ln cap="rnd"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5280" y="1274040"/>
              <a:ext cx="360" cy="249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32680" y="1274040"/>
              <a:ext cx="360" cy="249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5280" y="1486080"/>
              <a:ext cx="124704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16360" y="1486080"/>
              <a:ext cx="360" cy="2285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910120" y="1268280"/>
            <a:ext cx="1266840" cy="2519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286760" y="1268280"/>
            <a:ext cx="1268280" cy="251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01680" y="3933720"/>
            <a:ext cx="1266840" cy="251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673280" y="3933720"/>
            <a:ext cx="1363680" cy="2521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110040" y="3933720"/>
            <a:ext cx="1268280" cy="2521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478400" y="3933720"/>
            <a:ext cx="1349280" cy="2521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5918040" y="3933720"/>
            <a:ext cx="1406520" cy="2521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7429680" y="3933720"/>
            <a:ext cx="1463400" cy="25210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448560" y="1272960"/>
            <a:ext cx="1238040" cy="2482560"/>
            <a:chOff x="448560" y="1272960"/>
            <a:chExt cx="1238040" cy="2482560"/>
          </a:xfrm>
        </p:grpSpPr>
        <p:sp>
          <p:nvSpPr>
            <p:cNvPr id="294" name=""/>
            <p:cNvSpPr/>
            <p:nvPr/>
          </p:nvSpPr>
          <p:spPr>
            <a:xfrm>
              <a:off x="1150200" y="1530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50200" y="16668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50200" y="180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50200" y="1940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50200" y="2077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50200" y="22147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0200" y="2354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50200" y="2490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0200" y="26272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50200" y="2765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50200" y="2903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50200" y="3039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0200" y="31766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0200" y="3316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50200" y="3452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50200" y="3587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3800" y="153036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3080" y="1666800"/>
              <a:ext cx="31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00" y="1803600"/>
              <a:ext cx="31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2360" y="1940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360" y="2077920"/>
              <a:ext cx="28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3080" y="22147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3800" y="2354400"/>
              <a:ext cx="31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1640" y="2490840"/>
              <a:ext cx="32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0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3800" y="262728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3080" y="2765520"/>
              <a:ext cx="31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3800" y="2903400"/>
              <a:ext cx="31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2360" y="3039840"/>
              <a:ext cx="28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3800" y="3176640"/>
              <a:ext cx="31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3080" y="33163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800" y="345276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4520" y="3587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94240" y="1319040"/>
              <a:ext cx="42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2F #</a:t>
              </a: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560" y="127296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8560" y="375408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8560" y="1272960"/>
              <a:ext cx="360" cy="248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86240" y="1272960"/>
              <a:ext cx="360" cy="248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560" y="148320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4960" y="1483200"/>
              <a:ext cx="360" cy="2270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50200" y="1530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50920" y="1666800"/>
              <a:ext cx="226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0200" y="18036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0200" y="19400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50200" y="20779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200" y="22147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50200" y="2354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50200" y="2490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50200" y="26272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50200" y="2765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50200" y="29034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50200" y="3039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0200" y="31766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50200" y="3316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50200" y="3452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50200" y="3587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8560" y="127296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8560" y="375408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8560" y="1272960"/>
              <a:ext cx="360" cy="248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86240" y="1272960"/>
              <a:ext cx="360" cy="248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560" y="1483200"/>
              <a:ext cx="1237680" cy="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4960" y="1483200"/>
              <a:ext cx="360" cy="2270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82F-9886-481F-B519-20E0EA64E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byte fixed length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ll V2F tables are designed to generate 4 bit fixed code, 1 byte accessing can be realized by coupling 2 code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 not need to shout “I hate keep track how many bits are left in the register for bit buffer !” any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DC0-0853-4B4C-BEC0-E033FAACD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Adaptation Disab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adaptation is reported as a bottleneck of computation for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proposed scheme all context adaptations are dis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 not need to be crazy to take care about upper and left signals or 10 neighboring significance flag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22880" y="630864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#12:  the reference without fast mode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F9F-EDA9-45A5-A5FC-9700580C0C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lementation affinity with CAB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functions in PIPE/V2F are in common with C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rogram codes and table size are much smaller than LCEC on top of CAB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DD1-BA80-4210-B987-D8D0E4220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al codes for PIPE/V2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uC0.9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4480" y="5014800"/>
            <a:ext cx="3853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-252360" y="1793880"/>
            <a:ext cx="9144000" cy="30034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32480" y="5014800"/>
            <a:ext cx="267624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4480" y="5878440"/>
            <a:ext cx="3853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32480" y="5878440"/>
            <a:ext cx="51408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V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6120" y="457524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additional program lines on top of CABAC for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2D7-5CCD-41BE-9A37-985A9FB0F1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al codes for PIPE/V2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uC0.9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4480" y="5014800"/>
            <a:ext cx="185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-252360" y="1793880"/>
            <a:ext cx="9144000" cy="3003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627280" y="5013360"/>
            <a:ext cx="496584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44480" y="5878440"/>
            <a:ext cx="185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27280" y="5877000"/>
            <a:ext cx="1738440" cy="71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V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5400" y="457524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additional table size on top of CABAC for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6DC-F64B-4E0E-9A07-24D0594D4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22200" y="1773360"/>
            <a:ext cx="9142200" cy="3009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al codes for PIPE/V2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uC0.9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4480" y="5014800"/>
            <a:ext cx="38862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43280" y="5013360"/>
            <a:ext cx="284976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44480" y="5878440"/>
            <a:ext cx="38862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878440"/>
            <a:ext cx="27972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V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6120" y="457524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additional program lines on top of CABAC for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A8B-4446-4570-9C83-2E0A609EB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1-21T09:04:35Z</dcterms:modified>
  <cp:revision>59</cp:revision>
  <dc:subject/>
  <dc:title>ドレスデン会合準備について</dc:title>
</cp:coreProperties>
</file>