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554-A829-4073-A44B-AD934713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7D1-5756-407B-A84A-ADE2B0FA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CBE-EDA7-4AE7-B590-87869E60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231-4C53-4677-96D1-7CECD77A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CE8-ACAF-44F5-8926-4F2B60F3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D8A-850E-41BE-8C59-9EE06DAE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6AA-C73F-4429-9D71-AAA1436D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71C-7A71-4208-9132-BFB25EC9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C454-7BFD-46AB-9A04-8CA0BBD1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332-0568-4AAA-A0C7-15081C1D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212-6A82-44CF-9FE9-259FDAA2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C7A-DCFA-4E1D-B2DB-31E3EA0B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71280" y="6308280"/>
            <a:ext cx="727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59720" y="652428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AD52-D7FF-4D38-B905-C8E88CA17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8785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CE10: Summary of CE10 on </a:t>
            </a:r>
            <a:br>
              <a:rPr sz="3500"/>
            </a:b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number of intra prediction direction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5280" y="342900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zuo Sugim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subishi Electric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6206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TVC-D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634F-E01C-413A-B031-6C304E910D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 to characterize the performance and complexity of using different numbers of intra prediction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organizations conducted verifications on 12 different set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4E9-240C-4C63-B01D-DE99B6F678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CTVC-D063 Cross-check report from IN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CTVC-D050 Cross-check report from I2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CTVC-D207 Cross-check report from N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 additional test on cropped version of SHV 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CTVC-D291 Cross-check report from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dia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CTVC-D101 Cross-check report from Mitsubi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 additional test on cropped version of SHV 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 additional test on a recommended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CTVC-D198 Cross-check report from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CTVC-D358 Cross-check report from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m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CTVC-D102 Cross-check report from Toshi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 additional test on a recommended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050-6FC2-49F6-B625-05A1EAC97E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ftware: TMuC v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nchor: C500 Intra only both HE and LC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217440" y="3284640"/>
            <a:ext cx="9361440" cy="3368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22880" y="6308640"/>
            <a:ext cx="55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#12:  the reference without fast mode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5D5-5361-483B-A37F-BCD28C5E12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on the common test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640720" cy="5257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22880" y="6308640"/>
            <a:ext cx="52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ing time for each test was almost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2781360"/>
            <a:ext cx="9349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2781360"/>
            <a:ext cx="9349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93080" y="3141720"/>
            <a:ext cx="9349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35640" y="3141720"/>
            <a:ext cx="9349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3789360"/>
            <a:ext cx="9349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3789360"/>
            <a:ext cx="9349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93080" y="4724280"/>
            <a:ext cx="9349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4724280"/>
            <a:ext cx="9349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93080" y="5084640"/>
            <a:ext cx="9349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5084640"/>
            <a:ext cx="9349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259-9AB5-4D09-AC05-22951F15D6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on cropped SHV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22880" y="6308640"/>
            <a:ext cx="52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ing time for each test was almost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640720" cy="5208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093080" y="2781360"/>
            <a:ext cx="9349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35640" y="2781360"/>
            <a:ext cx="9349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93080" y="3141720"/>
            <a:ext cx="9349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3141720"/>
            <a:ext cx="9349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3789360"/>
            <a:ext cx="9349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3789360"/>
            <a:ext cx="9349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93080" y="4724280"/>
            <a:ext cx="9349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5640" y="4724280"/>
            <a:ext cx="9349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93080" y="5084640"/>
            <a:ext cx="9349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35640" y="5084640"/>
            <a:ext cx="9349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1A2-CBFC-4DDE-A719-18DA6A8C64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of directions to avoid significant performance los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7 modes for 4x4   (9 modes for SHV sequenc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4 modes for 8x8   (17 modes for SHV sequenc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4 (or 17) modes for 16x16  (17 modes for SHV sequenc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 modes or less for 32x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modes or less for 64x6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se results to decide the number of intra prediction directions when creating the next version of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337-0F5F-4D04-AF6F-B251AE1976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2:56:40Z</dcterms:created>
  <dc:creator>GB72714</dc:creator>
  <dc:description/>
  <dc:language>en-US</dc:language>
  <cp:lastModifiedBy>Kazuo Sugimoto</cp:lastModifiedBy>
  <dcterms:modified xsi:type="dcterms:W3CDTF">2011-01-20T00:41:32Z</dcterms:modified>
  <cp:revision>44</cp:revision>
  <dc:subject/>
  <dc:title>ドレスデン会合準備について</dc:title>
</cp:coreProperties>
</file>