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36EE-E842-40A3-A109-5196735994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[Viewer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Kimono QP=27    All results look simil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Kimono QP=32    Proponent1 and Proponent3 are worse than Anchor. Proponent2 looks similar to Anch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Q QP=27    All results look simil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Q QP=32    All results look simil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idyo3 QP=27    All results look simil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idyo3 QP=32    Anchor is the best. Proponent 2 has artifacts (dragging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[Viewer2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Kimono QP=27    Proponent 1 looks smoothed. Proponent 2 and 3 look similar to Anch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Kimono QP=32   All results look simil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Q QP=27    Proponent 1 and 3 have jaggy mot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Q QP=32    Proponent 1 looks similar to Anchor. Proponent2 looks smooth in flat area. Proponent 3 looks sharper in edg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idyo3 QP=27    All results look simil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idyo3 QP=32    Proponent 3 &gt; Proponent2 &gt; Proponent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[Viewer3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Kimono QP=27    All results look simil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Kimono QP=32   Proponent1 is worse than Anchor. Proponent2 and Proponent3 look similar to Anch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Q QP=27    All results look simil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Q QP=32    Proponent 1 is worse than Anchor. Proponent1 and Proponent2 look similar to Anch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idyo3 QP=27     Proponent2 slightly degrades text regions. Proponent1 and Proponent3 look similar to Anch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idyo3 QP=32    Proponent1 and Proponent3 degrade text region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[Viewer4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me regions are differ. However, all results look simil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[Viewer5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ponent2 looks better in some scene but worse in other scene in Kimono QP32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[Viewer6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Kimono QP=27    Proponent1 and Proponent3 look similar to Anchor. Proponent2 shows better visual quality in sky region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Kimono QP=32   Proponent1 and Proponent3 look similar to Anchor. Proponent2 shows better visual quality in sky region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Q QP=27    Perceiving visual differences is difficul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Q QP=32    Perceiving visual differences is difficul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idyo3 QP=27     Proponent1 and Proponent3 look similar to Anchor. Proponent2 shows slightly better visual quality in wall region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idyo3 QP=32    Proponent1 and Proponent3 degrade text region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[Viewer7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Kimono QP=27    Proponent1 is similar to Anchor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ponent2 shows better visual quality in sky regions but shows motion blur the fac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ponent3 shows worse visual quality in sky reg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Kimono QP=32   Proponent1 is similar to Anchor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ponent2 shows motion blur around the face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ponent3 shows less motion blur around the fac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Q QP=27    Proponent1 is similar to Anchor. Proponent2 shows motion blur around the wall. Proponent3 shows less motion blur around the wall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Q QP=32    Proponent1 shows motion blur around the wall. Proponent2 shows slight blocking noise. Proponent3 looks the bes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idyo3 QP=27     Proponent1, Proponent2 and Proponent3 looks slightly shaper. Proponent3 shows less color degradat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idyo3 QP=32    Proponent1 shows blocking artifacts. Proponen2 and Proponent3 are similar to Anchor.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25D4-3A6E-4387-8D37-EB4E77C137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186-3113-4594-8FE1-48294C18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8B9-4F7C-4BF5-9CEA-C3B647D3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582-8120-4AB6-8C22-F1BF9E69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3C2-7D4F-4C9E-9B91-B6C22559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5CF-DCFB-4D60-95CF-01726CF9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B11-9907-4328-9493-BC076232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006-ED11-41BD-84C7-9A83D191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E06-9B66-41E4-8D53-2E588F71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60B-6CF0-405D-B2F2-795B9AB7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E04-5711-46EA-B5BF-E40BD2FB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FF5-2C43-4935-BC76-FDEAA537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C81-FE70-42F0-8232-EF78D49A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B95E-3059-461F-9ABA-7BE849ACC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0920" y="2060640"/>
            <a:ext cx="88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8 Subtest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l Subjective Viewing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20800" y="5734080"/>
            <a:ext cx="750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8 Coord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edule and 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23840" y="1129680"/>
            <a:ext cx="8906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 19: Coordinators copy reference data to the computer and test viewing softw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 20: CE8 Subtest1 proponents copy their data to the computer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 20 and 21: CE8 Subtest1 proponents and volunteers view results in room “Arte” (no sco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 23:  Dr. Vittorio Baroncini checked results and determined that  scoring is unnecessary due to insignificant visual differenc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ing equi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25600" y="1409760"/>
            <a:ext cx="807696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omputer] Wind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PU : Intel(R) Core i7 860 Quad 2.80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phic: NVIDIA GeForce GTX 2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: 3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DD* : 148GB (Raid-SSD) SATA + 1TB 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Display] Samsung SyncMaster 305T 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agonal Size : TFT - 3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t Pitch / Pixel Pitch : 0.2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age Contrast Ratio : 1000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560 x 1600 / 60 Hz - 3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quences and cod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1"/>
          <p:cNvSpPr/>
          <p:nvPr/>
        </p:nvSpPr>
        <p:spPr>
          <a:xfrm>
            <a:off x="457200" y="1371600"/>
            <a:ext cx="86104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est sequenc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B: Kimono (1080p 24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C: BQMall (WVGA 60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E: Vidyo3 (720 60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oding condition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B: Kimono (HE RA w/o ALF QP=27 and 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C: BQ_Mall (LC RA QP=27 and 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E: Vidyo3 (LC LD QP=27 and 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1: The reason of selecting these sequences is that performance of the available computer is not fast enough to playback 1080 50/60p sequ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2: If time allows, other sequences of Class B, C , and D,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coding conditions specified in CE8 document can are additionally us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304920" y="2246400"/>
          <a:ext cx="849636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46400"/>
                    <a:ext cx="849636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t-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600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liminary informal view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Jan 20 and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1"/>
          <p:cNvSpPr/>
          <p:nvPr/>
        </p:nvSpPr>
        <p:spPr>
          <a:xfrm>
            <a:off x="279360" y="1963800"/>
            <a:ext cx="861048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sual) Double Stimulus Continuous Quality Scal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o sc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chor is played first; ProposalX is played n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iewers do not know who ProponentX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pro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ponent1: MediaTe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ponent2: NEC deb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ponent3: SKKU debloc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 viewing volunteers (excluding propon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viewers' commen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 preliminary informal vie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正方形/長方形 5"/>
          <p:cNvSpPr/>
          <p:nvPr/>
        </p:nvSpPr>
        <p:spPr>
          <a:xfrm>
            <a:off x="228600" y="1523880"/>
            <a:ext cx="8686800" cy="13737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nents' qualities are the same as Anchor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ing is unnecessary because the level of differences is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8"/>
          <p:cNvSpPr/>
          <p:nvPr/>
        </p:nvSpPr>
        <p:spPr>
          <a:xfrm>
            <a:off x="228600" y="3381480"/>
            <a:ext cx="8686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mono QP=27    Proponent1 looks smooth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nent2 shows better visual quality in sky regions; it shows blur around the fa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mono QP=32    Proponent1 is worse than Anch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nent2 shows better visual quality in sky regions; it worse in other sce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nent3 shows worse visual quality in sky reg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Q QP=27           Proponent1 have jaggy mo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nent2 shows motion blur around the wa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nent3 shows less motion blur around the wa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Q QP=32           Proponent2 looks smooth in flat are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nent3 looks sharper in ed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yo3 QP=27      Proponent2 shows better visual quality in wall regions; it slightly degrades text reg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nent3 shows less color degrad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yo3 QP=32      Proponent1 shows blocking artifacts and degrades text reg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nent2 has dragging artifac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nent3 degrade text reg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10"/>
          <p:cNvSpPr/>
          <p:nvPr/>
        </p:nvSpPr>
        <p:spPr>
          <a:xfrm>
            <a:off x="195120" y="3059280"/>
            <a:ext cx="50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presentative positive and negative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ono</cp:lastModifiedBy>
  <dcterms:modified xsi:type="dcterms:W3CDTF">2011-01-24T03:50:24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