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457200" y="718920"/>
            <a:ext cx="64008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1D5FA-579F-4CA9-98DE-2200475FA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72CE0-668B-4975-AE28-C2E901C7CA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4362B-54DB-4F85-8FB5-FB6A5BBD5C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0D57-8AB1-44EE-98B7-8E6BB2D3D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5E31-7179-4EA1-BDF8-81DEEB832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214E4-262C-4247-A37E-B05F353AC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83C5-1207-4F76-9B61-1928179D7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F4F24-1B5C-415E-8511-2DF882B6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289F8-BA1C-4823-B270-09F3630E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52613-3629-45FF-A753-3A808B95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79551-C36C-428D-B75C-09F13D6E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077A1-3E30-4683-9549-2AD31DB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48EB7-3574-4978-A2CC-3BFEFE41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0E511-6E49-4DFE-A041-999B030B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D0A5-4D81-48B4-88EC-9927D60AC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167C6-D978-44E0-BCC9-394D21B3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C6444-D8DE-41C2-A3FF-F714DE03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C1B2C-69AE-41B8-B09D-E6C1B513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A981E-7F8B-46A5-B257-97584210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AA51B-6892-4D32-9056-2E788AEB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A554-57B7-4244-9957-F73A73459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1537-E70F-41FF-BF4A-7C943FED3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D692A-B367-4A20-A8FF-B98F58646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357C-202B-4618-83A1-81C1257E5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CBEE-07FE-43B1-ADE7-38E4AF6B8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BEAD9-0704-43D2-9B1C-86EA1786E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D504-4A9A-4774-AF5A-BEC26C7F5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16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7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8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9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20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1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EC9F8F86-705A-4609-9949-7E32CD77C835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19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0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21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2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F044455E-EB65-44FB-A108-41346758E505}" type="slidenum"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4"/>
          <p:cNvSpPr/>
          <p:nvPr/>
        </p:nvSpPr>
        <p:spPr>
          <a:xfrm>
            <a:off x="24444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b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arallel Prediction Uni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r Parallel Intra Coding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D074</a:t>
            </a:r>
            <a:br>
              <a:rPr sz="3100"/>
            </a:br>
            <a:r>
              <a:rPr b="1" i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ie Zhao and Andrew Segall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gnaling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gnal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ighted prediction is signaled in the prediction unit syntax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8723160" y="839880"/>
          <a:ext cx="4708800" cy="68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23160" y="839880"/>
                    <a:ext cx="4708800" cy="6829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357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allel Intra Predict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compared our technology with the current, serial approach for intra-prediction in anc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M0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6 standard test Configu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U of 16x16 (HD on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Impact on BD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tra (HC&amp;LC):              0.3%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access (HC&amp;LC):  0.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delay (HC&amp;LC):          0.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399" descr=""/>
          <p:cNvPicPr/>
          <p:nvPr/>
        </p:nvPicPr>
        <p:blipFill>
          <a:blip r:embed="rId1"/>
          <a:stretch/>
        </p:blipFill>
        <p:spPr>
          <a:xfrm>
            <a:off x="7662960" y="1266840"/>
            <a:ext cx="61070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erformance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357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arallel Intra Prediction (Fast search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lso report the case for fast encoding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e, we only check the case when the PPB and PPU size are the same when the existing, recursive encoding strategy results in at least one PP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M0.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6 standard test Configu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PU of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Coding Impact on BD rate Vs. anc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tra (HC&amp;LC):              0.3%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access (HC&amp;LC):  0.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delay (HC&amp;LC):          0.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7488360" y="1368360"/>
            <a:ext cx="61038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96560" y="1251000"/>
            <a:ext cx="1301292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5000"/>
          </a:bodyPr>
          <a:p>
            <a:pPr marL="616680" indent="-616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44440" indent="-524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esented parallel intra prediction technique for HEVC desig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687320" indent="-52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parallelism for both encoder and deco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687320" indent="-52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ism is achieved by partitioning a PPB into two 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2385720" indent="-52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set predicted from boundaries of PP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2385720" indent="-52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set predicted from reconstructed first set and/or boundaries of PP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4440" indent="-524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--  impact on average BD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687320" indent="-52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 (both HC and LC)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687320" indent="-52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dom access (both HC and LC): 0.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687320" indent="-524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delay (both HC and LC)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4440" indent="-524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verified by Toshiba (JCTVC-D11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4440" indent="-524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 to adopt this technique to H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4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Goal 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duce serial dependencies in the intra-prediction proces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rallel Prediction Uni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rallel intra-predic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Prediction Unit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4000"/>
          </a:bodyPr>
          <a:p>
            <a:pPr marL="520560" indent="-520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tivation: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78560" indent="-46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ial bottleneck in intra-predi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616040" indent="-46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e to the casual prediction of pixel values (top/left/left top neighbo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616040" indent="-46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 block sizes results in more dependencies within an LC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20560" indent="-5205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Our solution –Parallel Prediction Uni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078560" indent="-46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CU size within a LCU that can be encoded/decoded in parall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78560" indent="-46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CUs that are larger than a defined PPU size, traditional sequential prediction is perform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78560" indent="-465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Enables parallelism as dependencies increase within an LCU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9317160" y="2701800"/>
            <a:ext cx="3797280" cy="379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1198160" y="2701800"/>
            <a:ext cx="0" cy="380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9342360" y="4597560"/>
            <a:ext cx="380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11160000" y="5530680"/>
            <a:ext cx="19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2141360" y="4574880"/>
            <a:ext cx="0" cy="19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10963440" y="4378320"/>
            <a:ext cx="2450880" cy="2378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9299160" y="2136600"/>
            <a:ext cx="9028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C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1140560" y="617076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1297520" y="2736720"/>
            <a:ext cx="54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9388440" y="6016680"/>
            <a:ext cx="54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9354240" y="4130640"/>
            <a:ext cx="54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11154240" y="527364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12054960" y="527364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12090600" y="620856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2912120" y="6811920"/>
            <a:ext cx="913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9"/>
          <p:cNvSpPr/>
          <p:nvPr/>
        </p:nvSpPr>
        <p:spPr>
          <a:xfrm>
            <a:off x="10341000" y="1720800"/>
            <a:ext cx="971640" cy="8859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arallel Prediction Block</a:t>
            </a:r>
            <a:endParaRPr b="1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554040" indent="-554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allel Prediction Block (PPB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s to a block within a PPU that uses parallel intra predi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for a 16x16 PPU, we support two types of PPB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803240" indent="-496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arenR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PU is split into 4-8x8 blocks, and at least one of these blocks is further divided into 4x4 blocks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803240" indent="-496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0000"/>
              <a:buFont typeface="Tahoma"/>
              <a:buAutoNum type="arabicParenR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16x16 PPU that is split entirely into 4x4 sub-blocks and is an entire PPB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sign is motivated by encoder desig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10341000" y="1684440"/>
            <a:ext cx="19080" cy="19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10333080" y="1682640"/>
            <a:ext cx="19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10321920" y="2616120"/>
            <a:ext cx="19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11302920" y="1660680"/>
            <a:ext cx="0" cy="19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0125000" y="1463760"/>
            <a:ext cx="2451240" cy="2378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0361160" y="325584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0315080" y="235908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11275560" y="235908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1252520" y="329400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12646080" y="3406680"/>
            <a:ext cx="913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12283920" y="1658520"/>
            <a:ext cx="0" cy="19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10345680" y="3610080"/>
            <a:ext cx="19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3"/>
          <p:cNvSpPr/>
          <p:nvPr/>
        </p:nvSpPr>
        <p:spPr>
          <a:xfrm>
            <a:off x="10350360" y="2136600"/>
            <a:ext cx="968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24"/>
          <p:cNvSpPr/>
          <p:nvPr/>
        </p:nvSpPr>
        <p:spPr>
          <a:xfrm>
            <a:off x="10836360" y="1655640"/>
            <a:ext cx="0" cy="97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9891720" y="4111560"/>
            <a:ext cx="195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) One type of PP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27"/>
          <p:cNvSpPr/>
          <p:nvPr/>
        </p:nvSpPr>
        <p:spPr>
          <a:xfrm>
            <a:off x="10320480" y="1677960"/>
            <a:ext cx="9921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8080200" y="4572000"/>
            <a:ext cx="1224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30"/>
          <p:cNvSpPr/>
          <p:nvPr/>
        </p:nvSpPr>
        <p:spPr>
          <a:xfrm flipH="1">
            <a:off x="9381240" y="1598760"/>
            <a:ext cx="1087560" cy="380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P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10347480" y="5056200"/>
            <a:ext cx="1928520" cy="18795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32"/>
          <p:cNvSpPr/>
          <p:nvPr/>
        </p:nvSpPr>
        <p:spPr>
          <a:xfrm>
            <a:off x="10347480" y="5019840"/>
            <a:ext cx="20520" cy="19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33"/>
          <p:cNvSpPr/>
          <p:nvPr/>
        </p:nvSpPr>
        <p:spPr>
          <a:xfrm>
            <a:off x="10341000" y="5016600"/>
            <a:ext cx="194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0329840" y="5951520"/>
            <a:ext cx="19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35"/>
          <p:cNvSpPr/>
          <p:nvPr/>
        </p:nvSpPr>
        <p:spPr>
          <a:xfrm flipV="1">
            <a:off x="11310840" y="4997520"/>
            <a:ext cx="0" cy="1977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10131480" y="4799160"/>
            <a:ext cx="2450880" cy="2379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10366920" y="659124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10325520" y="569268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11281320" y="569448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11260440" y="6629400"/>
            <a:ext cx="799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ahoma"/>
              </a:rPr>
              <a:t>CU/PU/TU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12573000" y="6168960"/>
            <a:ext cx="12603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B=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42"/>
          <p:cNvSpPr/>
          <p:nvPr/>
        </p:nvSpPr>
        <p:spPr>
          <a:xfrm flipV="1">
            <a:off x="12290400" y="4993920"/>
            <a:ext cx="0" cy="19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43"/>
          <p:cNvSpPr/>
          <p:nvPr/>
        </p:nvSpPr>
        <p:spPr>
          <a:xfrm>
            <a:off x="10353600" y="6945480"/>
            <a:ext cx="19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44"/>
          <p:cNvSpPr/>
          <p:nvPr/>
        </p:nvSpPr>
        <p:spPr>
          <a:xfrm>
            <a:off x="10358280" y="5473800"/>
            <a:ext cx="191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45"/>
          <p:cNvSpPr/>
          <p:nvPr/>
        </p:nvSpPr>
        <p:spPr>
          <a:xfrm flipH="1">
            <a:off x="10833120" y="4991040"/>
            <a:ext cx="9360" cy="194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46"/>
          <p:cNvSpPr/>
          <p:nvPr/>
        </p:nvSpPr>
        <p:spPr>
          <a:xfrm>
            <a:off x="10328400" y="5013360"/>
            <a:ext cx="995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10334520" y="6426360"/>
            <a:ext cx="191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49"/>
          <p:cNvSpPr/>
          <p:nvPr/>
        </p:nvSpPr>
        <p:spPr>
          <a:xfrm flipH="1">
            <a:off x="11794680" y="5011560"/>
            <a:ext cx="11160" cy="194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50"/>
          <p:cNvSpPr/>
          <p:nvPr/>
        </p:nvSpPr>
        <p:spPr>
          <a:xfrm>
            <a:off x="10096200" y="7316640"/>
            <a:ext cx="2329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) Another type of PP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6000"/>
          </a:bodyPr>
          <a:p>
            <a:pPr marL="531720" indent="-5317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 Intra Predi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01600" indent="-47520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ing a PPB to two 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30880" indent="-4766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Checker-board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30880" indent="-4766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ded blocks are one 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30880" indent="-47664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blocks are the other 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01600" indent="-47520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 within each partition are predicted in parallel and use reconstruct pixels from outside the PP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01600" indent="0">
              <a:spcBef>
                <a:spcPts val="60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e: This is compatible with all intra-prediction methods considered at this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9293400" y="3465360"/>
            <a:ext cx="3439800" cy="312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8" name="Text Box 8"/>
          <p:cNvSpPr/>
          <p:nvPr/>
        </p:nvSpPr>
        <p:spPr>
          <a:xfrm>
            <a:off x="8921160" y="6904080"/>
            <a:ext cx="21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cond set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1866680" y="7104240"/>
            <a:ext cx="184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rst set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10156680" y="6273720"/>
            <a:ext cx="351000" cy="6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 flipH="1" flipV="1">
            <a:off x="12285720" y="5513400"/>
            <a:ext cx="29664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2824280" y="3008160"/>
            <a:ext cx="886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B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2"/>
          <a:stretch/>
        </p:blipFill>
        <p:spPr>
          <a:xfrm>
            <a:off x="10036080" y="1390680"/>
            <a:ext cx="1136880" cy="1087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4"/>
          <p:cNvSpPr/>
          <p:nvPr/>
        </p:nvSpPr>
        <p:spPr>
          <a:xfrm>
            <a:off x="11417760" y="1076400"/>
            <a:ext cx="886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B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11866680" y="7104240"/>
            <a:ext cx="184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rst set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16"/>
          <p:cNvSpPr/>
          <p:nvPr/>
        </p:nvSpPr>
        <p:spPr>
          <a:xfrm flipH="1" flipV="1">
            <a:off x="12285720" y="5513400"/>
            <a:ext cx="29664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1401560" y="2389320"/>
            <a:ext cx="184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rst set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8"/>
          <p:cNvSpPr/>
          <p:nvPr/>
        </p:nvSpPr>
        <p:spPr>
          <a:xfrm flipH="1" flipV="1">
            <a:off x="10931040" y="1672920"/>
            <a:ext cx="946440" cy="71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8570160" y="2600280"/>
            <a:ext cx="21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cond set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V="1">
            <a:off x="9672480" y="1634760"/>
            <a:ext cx="525600" cy="87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b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508040" y="1332000"/>
            <a:ext cx="109728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noAutofit/>
          </a:bodyPr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 Processing 8 blocks at a tim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x speed up (5x compared to wavefro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4356000" y="2865600"/>
            <a:ext cx="3659040" cy="3657600"/>
            <a:chOff x="4356000" y="2865600"/>
            <a:chExt cx="3659040" cy="3657600"/>
          </a:xfrm>
        </p:grpSpPr>
        <p:sp>
          <p:nvSpPr>
            <p:cNvPr id="184" name="Rectangle 5"/>
            <p:cNvSpPr/>
            <p:nvPr/>
          </p:nvSpPr>
          <p:spPr>
            <a:xfrm>
              <a:off x="5270400" y="28656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Rectangle 6"/>
            <p:cNvSpPr/>
            <p:nvPr/>
          </p:nvSpPr>
          <p:spPr>
            <a:xfrm>
              <a:off x="4356000" y="37800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7100640" y="28656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Rectangle 8"/>
            <p:cNvSpPr/>
            <p:nvPr/>
          </p:nvSpPr>
          <p:spPr>
            <a:xfrm>
              <a:off x="6184800" y="37800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9"/>
            <p:cNvSpPr/>
            <p:nvPr/>
          </p:nvSpPr>
          <p:spPr>
            <a:xfrm>
              <a:off x="5270400" y="46944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4357440" y="56088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>
              <a:off x="7097400" y="46944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>
              <a:off x="6186240" y="56088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" name="Group 13"/>
          <p:cNvGrpSpPr/>
          <p:nvPr/>
        </p:nvGrpSpPr>
        <p:grpSpPr>
          <a:xfrm>
            <a:off x="4356000" y="2865600"/>
            <a:ext cx="3655800" cy="3657600"/>
            <a:chOff x="4356000" y="2865600"/>
            <a:chExt cx="3655800" cy="3657600"/>
          </a:xfrm>
        </p:grpSpPr>
        <p:sp>
          <p:nvSpPr>
            <p:cNvPr id="193" name="Rectangle 14"/>
            <p:cNvSpPr/>
            <p:nvPr/>
          </p:nvSpPr>
          <p:spPr>
            <a:xfrm>
              <a:off x="4357440" y="28656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Rectangle 15"/>
            <p:cNvSpPr/>
            <p:nvPr/>
          </p:nvSpPr>
          <p:spPr>
            <a:xfrm>
              <a:off x="5271840" y="37800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6186240" y="28656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7"/>
            <p:cNvSpPr/>
            <p:nvPr/>
          </p:nvSpPr>
          <p:spPr>
            <a:xfrm>
              <a:off x="7097400" y="37800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Rectangle 18"/>
            <p:cNvSpPr/>
            <p:nvPr/>
          </p:nvSpPr>
          <p:spPr>
            <a:xfrm>
              <a:off x="4356000" y="46944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Rectangle 19"/>
            <p:cNvSpPr/>
            <p:nvPr/>
          </p:nvSpPr>
          <p:spPr>
            <a:xfrm>
              <a:off x="5271840" y="56088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>
              <a:off x="6186240" y="46944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21"/>
            <p:cNvSpPr/>
            <p:nvPr/>
          </p:nvSpPr>
          <p:spPr>
            <a:xfrm>
              <a:off x="7097400" y="5608800"/>
              <a:ext cx="914400" cy="91440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50000">
                  <a:srgbClr val="e7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" name="Group 22"/>
          <p:cNvGrpSpPr/>
          <p:nvPr/>
        </p:nvGrpSpPr>
        <p:grpSpPr>
          <a:xfrm>
            <a:off x="4357800" y="2865600"/>
            <a:ext cx="3660840" cy="3657600"/>
            <a:chOff x="4357800" y="2865600"/>
            <a:chExt cx="3660840" cy="3657600"/>
          </a:xfrm>
        </p:grpSpPr>
        <p:sp>
          <p:nvSpPr>
            <p:cNvPr id="202" name="Rectangle 23"/>
            <p:cNvSpPr/>
            <p:nvPr/>
          </p:nvSpPr>
          <p:spPr>
            <a:xfrm>
              <a:off x="4357800" y="28656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24"/>
            <p:cNvSpPr/>
            <p:nvPr/>
          </p:nvSpPr>
          <p:spPr>
            <a:xfrm>
              <a:off x="5276880" y="28656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25"/>
            <p:cNvSpPr/>
            <p:nvPr/>
          </p:nvSpPr>
          <p:spPr>
            <a:xfrm>
              <a:off x="4362480" y="37800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26"/>
            <p:cNvSpPr/>
            <p:nvPr/>
          </p:nvSpPr>
          <p:spPr>
            <a:xfrm>
              <a:off x="5272200" y="37800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6186600" y="28656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7101000" y="28656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6191280" y="37800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7104240" y="37800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4362480" y="46944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5276880" y="46944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33"/>
            <p:cNvSpPr/>
            <p:nvPr/>
          </p:nvSpPr>
          <p:spPr>
            <a:xfrm>
              <a:off x="4357800" y="56088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34"/>
            <p:cNvSpPr/>
            <p:nvPr/>
          </p:nvSpPr>
          <p:spPr>
            <a:xfrm>
              <a:off x="5272200" y="56088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35"/>
            <p:cNvSpPr/>
            <p:nvPr/>
          </p:nvSpPr>
          <p:spPr>
            <a:xfrm>
              <a:off x="6186600" y="46944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36"/>
            <p:cNvSpPr/>
            <p:nvPr/>
          </p:nvSpPr>
          <p:spPr>
            <a:xfrm>
              <a:off x="7104240" y="46944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37"/>
            <p:cNvSpPr/>
            <p:nvPr/>
          </p:nvSpPr>
          <p:spPr>
            <a:xfrm>
              <a:off x="6186600" y="56088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38"/>
            <p:cNvSpPr/>
            <p:nvPr/>
          </p:nvSpPr>
          <p:spPr>
            <a:xfrm>
              <a:off x="7104240" y="560880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0680" rIns="130680" tIns="65160" bIns="65160" anchor="t">
              <a:noAutofit/>
            </a:bodyPr>
            <a:p>
              <a:pPr algn="ctr">
                <a:spcBef>
                  <a:spcPts val="726"/>
                </a:spcBef>
                <a:tabLst>
                  <a:tab algn="l" pos="0"/>
                  <a:tab algn="l" pos="1306440"/>
                  <a:tab algn="l" pos="2612880"/>
                  <a:tab algn="l" pos="3919680"/>
                  <a:tab algn="l" pos="5226120"/>
                  <a:tab algn="l" pos="6532560"/>
                  <a:tab algn="l" pos="7839000"/>
                  <a:tab algn="l" pos="9145440"/>
                  <a:tab algn="l" pos="1045224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18" name="Picture 39" descr=""/>
          <p:cNvPicPr/>
          <p:nvPr/>
        </p:nvPicPr>
        <p:blipFill>
          <a:blip r:embed="rId1"/>
          <a:srcRect l="0" t="0" r="23331" b="0"/>
          <a:stretch/>
        </p:blipFill>
        <p:spPr>
          <a:xfrm>
            <a:off x="10190160" y="1266840"/>
            <a:ext cx="3352680" cy="230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0" descr=""/>
          <p:cNvPicPr/>
          <p:nvPr/>
        </p:nvPicPr>
        <p:blipFill>
          <a:blip r:embed="rId2"/>
          <a:stretch/>
        </p:blipFill>
        <p:spPr>
          <a:xfrm>
            <a:off x="10399680" y="4573440"/>
            <a:ext cx="2124000" cy="1986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2"/>
          <p:cNvSpPr/>
          <p:nvPr/>
        </p:nvSpPr>
        <p:spPr>
          <a:xfrm>
            <a:off x="10143720" y="667692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llel intra predi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43"/>
          <p:cNvSpPr/>
          <p:nvPr/>
        </p:nvSpPr>
        <p:spPr>
          <a:xfrm>
            <a:off x="10074240" y="354024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al intra predi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44"/>
          <p:cNvSpPr/>
          <p:nvPr/>
        </p:nvSpPr>
        <p:spPr>
          <a:xfrm>
            <a:off x="9304200" y="3787920"/>
            <a:ext cx="633600" cy="965160"/>
          </a:xfrm>
          <a:custGeom>
            <a:avLst/>
            <a:gdLst>
              <a:gd name="textAreaLeft" fmla="*/ 84600 w 633600"/>
              <a:gd name="textAreaRight" fmla="*/ 549000 w 633600"/>
              <a:gd name="textAreaTop" fmla="*/ 168840 h 965160"/>
              <a:gd name="textAreaBottom" fmla="*/ 699840 h 96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554040" indent="-554040">
              <a:spcBef>
                <a:spcPts val="62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diction of First Set Block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only reconstructed pixels from neighboring PPB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diction uses existing intra-prediction techniq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147680" indent="-495360">
              <a:spcBef>
                <a:spcPts val="5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change: for DC prediction, we compute the DC as a weighted function of the distance between the block and the horizontal and left PPU boundar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80"/>
          <p:cNvSpPr/>
          <p:nvPr/>
        </p:nvSpPr>
        <p:spPr>
          <a:xfrm>
            <a:off x="9317160" y="2701800"/>
            <a:ext cx="3797280" cy="379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81"/>
          <p:cNvSpPr/>
          <p:nvPr/>
        </p:nvSpPr>
        <p:spPr>
          <a:xfrm>
            <a:off x="11198160" y="2701800"/>
            <a:ext cx="0" cy="380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9342360" y="4597560"/>
            <a:ext cx="380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11160000" y="5530680"/>
            <a:ext cx="19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84"/>
          <p:cNvSpPr/>
          <p:nvPr/>
        </p:nvSpPr>
        <p:spPr>
          <a:xfrm flipV="1">
            <a:off x="12141360" y="4574880"/>
            <a:ext cx="0" cy="19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85"/>
          <p:cNvSpPr/>
          <p:nvPr/>
        </p:nvSpPr>
        <p:spPr>
          <a:xfrm>
            <a:off x="10963440" y="4378320"/>
            <a:ext cx="2450880" cy="2378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9299160" y="2136600"/>
            <a:ext cx="9028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CU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 Box 87"/>
          <p:cNvSpPr/>
          <p:nvPr/>
        </p:nvSpPr>
        <p:spPr>
          <a:xfrm>
            <a:off x="11158920" y="6118200"/>
            <a:ext cx="762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8"/>
          <p:cNvSpPr/>
          <p:nvPr/>
        </p:nvSpPr>
        <p:spPr>
          <a:xfrm>
            <a:off x="11297520" y="2736720"/>
            <a:ext cx="54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89"/>
          <p:cNvSpPr/>
          <p:nvPr/>
        </p:nvSpPr>
        <p:spPr>
          <a:xfrm>
            <a:off x="9388440" y="6016680"/>
            <a:ext cx="54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90"/>
          <p:cNvSpPr/>
          <p:nvPr/>
        </p:nvSpPr>
        <p:spPr>
          <a:xfrm>
            <a:off x="9354240" y="4130640"/>
            <a:ext cx="54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U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91"/>
          <p:cNvSpPr/>
          <p:nvPr/>
        </p:nvSpPr>
        <p:spPr>
          <a:xfrm>
            <a:off x="11171520" y="5219640"/>
            <a:ext cx="762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92"/>
          <p:cNvSpPr/>
          <p:nvPr/>
        </p:nvSpPr>
        <p:spPr>
          <a:xfrm>
            <a:off x="12073320" y="5221440"/>
            <a:ext cx="762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93"/>
          <p:cNvSpPr/>
          <p:nvPr/>
        </p:nvSpPr>
        <p:spPr>
          <a:xfrm>
            <a:off x="12108960" y="6156360"/>
            <a:ext cx="762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/P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94"/>
          <p:cNvSpPr/>
          <p:nvPr/>
        </p:nvSpPr>
        <p:spPr>
          <a:xfrm>
            <a:off x="12925800" y="6811920"/>
            <a:ext cx="886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ahoma"/>
              </a:rPr>
              <a:t>PPB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95"/>
          <p:cNvSpPr/>
          <p:nvPr/>
        </p:nvSpPr>
        <p:spPr>
          <a:xfrm>
            <a:off x="10995120" y="4390920"/>
            <a:ext cx="2098440" cy="193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96"/>
          <p:cNvSpPr/>
          <p:nvPr/>
        </p:nvSpPr>
        <p:spPr>
          <a:xfrm rot="16200000">
            <a:off x="10036080" y="5330160"/>
            <a:ext cx="2097000" cy="1922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Picture 100" descr=""/>
          <p:cNvPicPr/>
          <p:nvPr/>
        </p:nvPicPr>
        <p:blipFill>
          <a:blip r:embed="rId1"/>
          <a:stretch/>
        </p:blipFill>
        <p:spPr>
          <a:xfrm>
            <a:off x="11192040" y="4597560"/>
            <a:ext cx="1927080" cy="1876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58" descr=""/>
          <p:cNvPicPr/>
          <p:nvPr/>
        </p:nvPicPr>
        <p:blipFill>
          <a:blip r:embed="rId1"/>
          <a:stretch/>
        </p:blipFill>
        <p:spPr>
          <a:xfrm>
            <a:off x="10825200" y="1525680"/>
            <a:ext cx="3543120" cy="37623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arallel Intra Predic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ediction of Second Set Bloc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Uses pixels in neighboring PPBs AND pixel in first set block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bottom and right boundaries may be availabl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We use prediction from the bottom/right neighbors.  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causal and non-causal predictions can be weighte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Note: the prediction from the bottom/right neighbors use the existing prediction mode.  We only alter the definition of the source pixel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2"/>
          <a:stretch/>
        </p:blipFill>
        <p:spPr>
          <a:xfrm>
            <a:off x="7763040" y="3486240"/>
            <a:ext cx="2431800" cy="220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7" name="Rectangle 9"/>
          <p:cNvSpPr/>
          <p:nvPr/>
        </p:nvSpPr>
        <p:spPr>
          <a:xfrm>
            <a:off x="4788000" y="2779560"/>
            <a:ext cx="18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4788720" y="2779560"/>
            <a:ext cx="24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148"/>
          <p:cNvSpPr/>
          <p:nvPr/>
        </p:nvSpPr>
        <p:spPr>
          <a:xfrm flipV="1">
            <a:off x="7807320" y="3382920"/>
            <a:ext cx="3525840" cy="6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49"/>
          <p:cNvSpPr/>
          <p:nvPr/>
        </p:nvSpPr>
        <p:spPr>
          <a:xfrm flipV="1">
            <a:off x="8352000" y="3373560"/>
            <a:ext cx="4440240" cy="65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151"/>
          <p:cNvSpPr/>
          <p:nvPr/>
        </p:nvSpPr>
        <p:spPr>
          <a:xfrm flipV="1">
            <a:off x="7800840" y="1987560"/>
            <a:ext cx="3556080" cy="150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Line 153"/>
          <p:cNvSpPr/>
          <p:nvPr/>
        </p:nvSpPr>
        <p:spPr>
          <a:xfrm flipV="1">
            <a:off x="8372520" y="1977840"/>
            <a:ext cx="4400640" cy="15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Signaling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gnal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 signal the PPU size in the sequence heade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5" name="Object 8"/>
          <p:cNvGraphicFramePr/>
          <p:nvPr/>
        </p:nvGraphicFramePr>
        <p:xfrm>
          <a:off x="7736040" y="1841400"/>
          <a:ext cx="527364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6040" y="1841400"/>
                    <a:ext cx="5273640" cy="4262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1c1c1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Segall, Andrew</cp:lastModifiedBy>
  <dcterms:modified xsi:type="dcterms:W3CDTF">2011-01-20T10:29:53Z</dcterms:modified>
  <cp:revision>590</cp:revision>
  <dc:subject/>
  <dc:title>PowerPoint Presentation</dc:title>
</cp:coreProperties>
</file>