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4D3A-6889-4F5B-AF9B-45FB9E9F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C6C-268C-4C16-A063-5212B870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B20-7ADA-4CDF-86B8-1AC15F6D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B3B-A445-47DE-A2D4-522344BC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AB0-1B5A-4208-9502-A8A649E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182-EC97-4A39-9781-99E45359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156-C718-4F48-A6A9-DB8BD164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360-86A6-4F9D-B57E-89B2B39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533-6C3A-4DB3-BAE5-41950DB0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39B-F787-46F2-8D9D-A7B6EDE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114-99B0-4787-AE7C-E4623DD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18C-C0F4-4BDA-8D8E-176D1F41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A838-9A7D-4F70-A69E-BAF19F037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eriodic initializations for wavefront cod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997-3A7E-4D7E-BA62-B44CD2D2E6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to enable wavefront coding/de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-stream maintains raster scan of LCU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encoder scenarios are sup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information in the slice header (better coding efficiency; requires bit-stream buffering at enco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information by header (lower coding efficiency but no write backs at encoder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tible with all slicing methods under consi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, 1.4% and 2.8% for entry point for each LCU row (~32x parallelism for 4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%, 1.5% and 1.6% for same configuration and alternative CABAC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BD6-70FD-411C-AF36-4F3A8972C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support for wave-front processing in the H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have proposed solutions to this problem that require transmitting LCUs out-of-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we seek to maintain the raster-scan order within the pi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7EF-3C75-4C06-99D1-D990DEFD4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130640" y="2286000"/>
            <a:ext cx="4741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initialize the entropy coder at the start of each LCU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 the locations of the “start of LCU row” location within the bitstream to deco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1: use explicit location information in slice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2: use he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two methods support different encoder scen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A5E2-A431-4856-B5C2-CC9321FD07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lustration for 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6040440" y="2743200"/>
            <a:ext cx="533520" cy="30492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573960" y="2743200"/>
            <a:ext cx="380880" cy="304920"/>
          </a:xfrm>
          <a:prstGeom prst="rect">
            <a:avLst/>
          </a:prstGeom>
          <a:solidFill>
            <a:srgbClr val="ffcf01"/>
          </a:solidFill>
          <a:ln w="25560">
            <a:solidFill>
              <a:srgbClr val="8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954840" y="2743200"/>
            <a:ext cx="685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640640" y="2743200"/>
            <a:ext cx="53352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8174160" y="2743200"/>
            <a:ext cx="380880" cy="304920"/>
          </a:xfrm>
          <a:prstGeom prst="rect">
            <a:avLst/>
          </a:prstGeom>
          <a:solidFill>
            <a:srgbClr val="e7bb01"/>
          </a:solidFill>
          <a:ln w="255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TextBox 1033"/>
          <p:cNvSpPr/>
          <p:nvPr/>
        </p:nvSpPr>
        <p:spPr>
          <a:xfrm>
            <a:off x="3794040" y="275580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ster-Scan Bit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7" name="Elbow Connector 5"/>
          <p:cNvCxnSpPr>
            <a:endCxn id="65" idx="0"/>
          </p:cNvCxnSpPr>
          <p:nvPr/>
        </p:nvCxnSpPr>
        <p:spPr>
          <a:xfrm>
            <a:off x="4114440" y="2495520"/>
            <a:ext cx="4250520" cy="24840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68" name="Elbow Connector 16"/>
          <p:cNvCxnSpPr>
            <a:endCxn id="64" idx="0"/>
          </p:cNvCxnSpPr>
          <p:nvPr/>
        </p:nvCxnSpPr>
        <p:spPr>
          <a:xfrm>
            <a:off x="4197240" y="2247840"/>
            <a:ext cx="3710880" cy="49608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69" name="Elbow Connector 20"/>
          <p:cNvCxnSpPr>
            <a:stCxn id="70" idx="3"/>
            <a:endCxn id="63" idx="0"/>
          </p:cNvCxnSpPr>
          <p:nvPr/>
        </p:nvCxnSpPr>
        <p:spPr>
          <a:xfrm>
            <a:off x="4197240" y="2021040"/>
            <a:ext cx="3101040" cy="72252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1" name="Elbow Connector 22"/>
          <p:cNvCxnSpPr>
            <a:endCxn id="62" idx="0"/>
          </p:cNvCxnSpPr>
          <p:nvPr/>
        </p:nvCxnSpPr>
        <p:spPr>
          <a:xfrm>
            <a:off x="4196880" y="1752480"/>
            <a:ext cx="2567880" cy="99144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2" name="Elbow Connector 25"/>
          <p:cNvCxnSpPr>
            <a:endCxn id="61" idx="0"/>
          </p:cNvCxnSpPr>
          <p:nvPr/>
        </p:nvCxnSpPr>
        <p:spPr>
          <a:xfrm>
            <a:off x="4199040" y="1523520"/>
            <a:ext cx="2108880" cy="122004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934920" y="1346040"/>
            <a:ext cx="3264120" cy="1349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1034"/>
          <p:cNvSpPr/>
          <p:nvPr/>
        </p:nvSpPr>
        <p:spPr>
          <a:xfrm>
            <a:off x="214560" y="473076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309600" y="3809880"/>
            <a:ext cx="5583240" cy="716040"/>
          </a:xfrm>
          <a:prstGeom prst="rect">
            <a:avLst/>
          </a:prstGeom>
          <a:noFill/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39204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149868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2624040" y="3851280"/>
            <a:ext cx="966960" cy="4176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3753000" y="3851280"/>
            <a:ext cx="968400" cy="4176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485460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1" name="Straight Arrow Connector 2058"/>
          <p:cNvCxnSpPr>
            <a:stCxn id="76" idx="2"/>
          </p:cNvCxnSpPr>
          <p:nvPr/>
        </p:nvCxnSpPr>
        <p:spPr>
          <a:xfrm flipH="1">
            <a:off x="87552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2" name="Straight Arrow Connector 2060"/>
          <p:cNvCxnSpPr>
            <a:stCxn id="77" idx="2"/>
          </p:cNvCxnSpPr>
          <p:nvPr/>
        </p:nvCxnSpPr>
        <p:spPr>
          <a:xfrm>
            <a:off x="198252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3" name="Straight Arrow Connector 2062"/>
          <p:cNvCxnSpPr>
            <a:stCxn id="78" idx="2"/>
          </p:cNvCxnSpPr>
          <p:nvPr/>
        </p:nvCxnSpPr>
        <p:spPr>
          <a:xfrm>
            <a:off x="3106800" y="4268520"/>
            <a:ext cx="216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4" name="Straight Arrow Connector 2064"/>
          <p:cNvCxnSpPr>
            <a:stCxn id="79" idx="2"/>
          </p:cNvCxnSpPr>
          <p:nvPr/>
        </p:nvCxnSpPr>
        <p:spPr>
          <a:xfrm>
            <a:off x="423684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5" name="Straight Arrow Connector 2066"/>
          <p:cNvCxnSpPr/>
          <p:nvPr/>
        </p:nvCxnSpPr>
        <p:spPr>
          <a:xfrm>
            <a:off x="5338440" y="4267080"/>
            <a:ext cx="1080" cy="1533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6" name="Elbow Connector 2068"/>
          <p:cNvCxnSpPr>
            <a:stCxn id="61" idx="2"/>
            <a:endCxn id="76" idx="0"/>
          </p:cNvCxnSpPr>
          <p:nvPr/>
        </p:nvCxnSpPr>
        <p:spPr>
          <a:xfrm rot="5400000">
            <a:off x="3191760" y="733320"/>
            <a:ext cx="800640" cy="5429880"/>
          </a:xfrm>
          <a:prstGeom prst="bentConnector3">
            <a:avLst>
              <a:gd name="adj1" fmla="val 49977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7" name="Elbow Connector 2070"/>
          <p:cNvCxnSpPr>
            <a:stCxn id="62" idx="2"/>
            <a:endCxn id="77" idx="0"/>
          </p:cNvCxnSpPr>
          <p:nvPr/>
        </p:nvCxnSpPr>
        <p:spPr>
          <a:xfrm rot="5400000">
            <a:off x="3973680" y="1058040"/>
            <a:ext cx="800640" cy="4780800"/>
          </a:xfrm>
          <a:prstGeom prst="bentConnector3">
            <a:avLst>
              <a:gd name="adj1" fmla="val 56410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8" name="Elbow Connector 2073"/>
          <p:cNvCxnSpPr>
            <a:stCxn id="63" idx="2"/>
            <a:endCxn id="75" idx="0"/>
          </p:cNvCxnSpPr>
          <p:nvPr/>
        </p:nvCxnSpPr>
        <p:spPr>
          <a:xfrm rot="5400000">
            <a:off x="4818240" y="1331280"/>
            <a:ext cx="762480" cy="4196160"/>
          </a:xfrm>
          <a:prstGeom prst="bentConnector3">
            <a:avLst>
              <a:gd name="adj1" fmla="val 49976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9" name="Elbow Connector 2076"/>
          <p:cNvCxnSpPr>
            <a:stCxn id="64" idx="2"/>
            <a:endCxn id="79" idx="0"/>
          </p:cNvCxnSpPr>
          <p:nvPr/>
        </p:nvCxnSpPr>
        <p:spPr>
          <a:xfrm rot="5400000">
            <a:off x="5670000" y="1614240"/>
            <a:ext cx="803880" cy="3670920"/>
          </a:xfrm>
          <a:prstGeom prst="bentConnector3">
            <a:avLst>
              <a:gd name="adj1" fmla="val 72311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0" name="Elbow Connector 96"/>
          <p:cNvCxnSpPr>
            <a:stCxn id="65" idx="2"/>
            <a:endCxn id="80" idx="0"/>
          </p:cNvCxnSpPr>
          <p:nvPr/>
        </p:nvCxnSpPr>
        <p:spPr>
          <a:xfrm rot="5400000">
            <a:off x="6450840" y="1935000"/>
            <a:ext cx="800640" cy="3026520"/>
          </a:xfrm>
          <a:prstGeom prst="bentConnector3">
            <a:avLst>
              <a:gd name="adj1" fmla="val 78857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494000" y="4844880"/>
            <a:ext cx="3295440" cy="1495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035"/>
          <p:cNvSpPr/>
          <p:nvPr/>
        </p:nvSpPr>
        <p:spPr>
          <a:xfrm>
            <a:off x="5938200" y="465768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quential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3" name="Straight Arrow Connector 117"/>
          <p:cNvCxnSpPr/>
          <p:nvPr/>
        </p:nvCxnSpPr>
        <p:spPr>
          <a:xfrm>
            <a:off x="6300360" y="3362400"/>
            <a:ext cx="1080" cy="4989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94" name="Rectangle 158"/>
          <p:cNvSpPr/>
          <p:nvPr/>
        </p:nvSpPr>
        <p:spPr>
          <a:xfrm>
            <a:off x="6099120" y="3819600"/>
            <a:ext cx="2525760" cy="706320"/>
          </a:xfrm>
          <a:prstGeom prst="rect">
            <a:avLst/>
          </a:prstGeom>
          <a:noFill/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159"/>
          <p:cNvSpPr/>
          <p:nvPr/>
        </p:nvSpPr>
        <p:spPr>
          <a:xfrm>
            <a:off x="6183360" y="3857760"/>
            <a:ext cx="2365200" cy="3474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6" name="Straight Arrow Connector 125"/>
          <p:cNvCxnSpPr/>
          <p:nvPr/>
        </p:nvCxnSpPr>
        <p:spPr>
          <a:xfrm>
            <a:off x="6757560" y="3438000"/>
            <a:ext cx="1080" cy="42012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7" name="Straight Arrow Connector 1026"/>
          <p:cNvCxnSpPr/>
          <p:nvPr/>
        </p:nvCxnSpPr>
        <p:spPr>
          <a:xfrm>
            <a:off x="7291080" y="3428640"/>
            <a:ext cx="1080" cy="42948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8" name="Straight Arrow Connector 1031"/>
          <p:cNvCxnSpPr/>
          <p:nvPr/>
        </p:nvCxnSpPr>
        <p:spPr>
          <a:xfrm>
            <a:off x="7911720" y="3448080"/>
            <a:ext cx="1080" cy="41040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9" name="Straight Arrow Connector 1037"/>
          <p:cNvCxnSpPr/>
          <p:nvPr/>
        </p:nvCxnSpPr>
        <p:spPr>
          <a:xfrm>
            <a:off x="8364240" y="3449520"/>
            <a:ext cx="1080" cy="4089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100" name="Straight Arrow Connector 1041"/>
          <p:cNvCxnSpPr>
            <a:stCxn id="95" idx="2"/>
          </p:cNvCxnSpPr>
          <p:nvPr/>
        </p:nvCxnSpPr>
        <p:spPr>
          <a:xfrm>
            <a:off x="7365600" y="4205160"/>
            <a:ext cx="1080" cy="14832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334120" y="5016600"/>
            <a:ext cx="3346200" cy="13842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4A3-BC48-40BB-9B14-02677C6605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stream Synt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1143000"/>
            <a:ext cx="2971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U resets enabled in the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entry points in the bit-stream signaled in the slice header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ac_init_idc sent in first LCU of row (optiona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5530-CE3A-4B26-89C3-F64AFCD611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Table 3" descr=""/>
          <p:cNvPicPr/>
          <p:nvPr/>
        </p:nvPicPr>
        <p:blipFill>
          <a:blip r:embed="rId1"/>
          <a:stretch/>
        </p:blipFill>
        <p:spPr>
          <a:xfrm>
            <a:off x="3578400" y="1712880"/>
            <a:ext cx="5333760" cy="1030320"/>
          </a:xfrm>
          <a:prstGeom prst="rect">
            <a:avLst/>
          </a:prstGeom>
          <a:ln w="0">
            <a:noFill/>
          </a:ln>
        </p:spPr>
      </p:pic>
      <p:pic>
        <p:nvPicPr>
          <p:cNvPr id="107" name="Table 4" descr=""/>
          <p:cNvPicPr/>
          <p:nvPr/>
        </p:nvPicPr>
        <p:blipFill>
          <a:blip r:embed="rId2"/>
          <a:stretch/>
        </p:blipFill>
        <p:spPr>
          <a:xfrm>
            <a:off x="3578400" y="2779560"/>
            <a:ext cx="5357520" cy="1335240"/>
          </a:xfrm>
          <a:prstGeom prst="rect">
            <a:avLst/>
          </a:prstGeom>
          <a:ln w="0">
            <a:noFill/>
          </a:ln>
        </p:spPr>
      </p:pic>
      <p:pic>
        <p:nvPicPr>
          <p:cNvPr id="108" name="Table 8" descr=""/>
          <p:cNvPicPr/>
          <p:nvPr/>
        </p:nvPicPr>
        <p:blipFill>
          <a:blip r:embed="rId3"/>
          <a:stretch/>
        </p:blipFill>
        <p:spPr>
          <a:xfrm>
            <a:off x="3591000" y="4151160"/>
            <a:ext cx="532764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tegrated into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point at each LCU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d two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LCU rows written in slice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of LCU rows marked with headers in the bit-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E54-B597-4136-BCA1-3015B6BF9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02ED-FDEA-4B6C-81E0-6AC82D5C44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479600" y="1371600"/>
            <a:ext cx="2863800" cy="511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863800" cy="51181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5222520" y="10018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y point Hea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1867320" y="9698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y points in 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bserve larger losses on low delay compared to random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second set of results, we used an alternative initialization table for CA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– Low delay improves by 1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FA3-75F5-4307-953E-FB6543FE5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8F3C-A91B-4213-8874-4BBA49D8A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222520" y="10018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y point Hea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1867320" y="96984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try points in 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465200" y="1379520"/>
            <a:ext cx="2863800" cy="511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2863800" cy="51181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6043320" y="650412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Using cabac_init_id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Segall, Andrew</cp:lastModifiedBy>
  <dcterms:modified xsi:type="dcterms:W3CDTF">2011-01-21T09:50:35Z</dcterms:modified>
  <cp:revision>846</cp:revision>
  <dc:subject/>
  <dc:title>Slide 1</dc:title>
</cp:coreProperties>
</file>