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F1EB8-096F-4015-A692-19F81B10F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DAFAA-1C33-4DB4-B57B-CCB81528D6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940C-B1AC-470C-8E16-1C19EC68E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EED4-96BD-4F79-9D5D-C459713E3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B788-1058-463E-9A3A-15F314905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FD83-8D76-43D0-9786-2E218B6B4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ACBC9-12FF-4275-AE95-C802822D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B012C-F0FB-4033-AD72-853C3BD6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45FBD-8CE7-4996-B9B0-E4943A38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30B59-59BB-4B91-838B-37606188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2C0D3-DD94-415D-AE74-D56E3267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C2A2-295A-46BF-8C5C-E6D36621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C091C-481A-444F-A7B2-AAD1E53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08A6-2118-4B46-9393-9574B2E49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49563-927F-4547-B9FD-F373CA50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8F081-EBEB-4866-974B-2C9E60C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45F8-582F-46AA-8924-30FE919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4185F-9643-45FF-AC80-6C94AD66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4CBE3-E809-4612-AF5B-C00E425D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47E8-4FF2-4750-A868-2393C4E60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6973-999C-49DA-910B-9A5B04060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43FF-A46A-4B7F-9843-E5F7A1C51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3AE5-7488-4846-BD5D-C94DBB9CB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62DC-D2EC-4BB1-AA1E-DAFD16C8B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C3F9-BFF3-4885-8131-1AED056FF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2AD2-8793-4B80-B8FF-80CB702C1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6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8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9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CC3FE369-E9A8-45E4-A2D1-0043760C0B7A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30EDCCCA-8952-4504-8CA8-51D6F4032282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ghtweight Slicing for Entropy Cod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D070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iran Misra and Andrew Segall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96560" y="1251000"/>
            <a:ext cx="130129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2000"/>
          </a:bodyPr>
          <a:p>
            <a:pPr marL="597240" indent="-597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108440" indent="-50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a more flexible slice design that supports additional slice restrictions on the pars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8440" indent="-508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634040" indent="-507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imple and direct extension of legacy slices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4040" indent="-507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teroperates with other proposed slicing method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4040" indent="-507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Reduces the overhead of the slice hea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4040" indent="-507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etter support of higher slice coun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4040" indent="-507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Direct approach to creating “parallel friendly” bit-strea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108440" indent="-50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634040" indent="-507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1%-0.2% decrease in coding efficiency for 32 slices (180,000 bin/slice lim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08440" indent="-50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verified by N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08440" indent="-508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 adoption into 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troduce flexibility in slices to support additional slice restrictions on the parsing proces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enefi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mple extension of legacy slic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teroperates with other proposed slicing method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duces the overhead of the slice heade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upport higher slice coun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irect approach to creating “parallel friendly” bit-strea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5000"/>
          </a:bodyPr>
          <a:p>
            <a:pPr marL="465840" indent="-46584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raditional slice desig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08720" indent="-389160"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lice picture into regions that can be parsed and reconstructed independent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08720" indent="-389160"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xample: Slice picture into regions with same number of pixel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08720" indent="-389160"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operties of example (from decoder)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51960" indent="-310680"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rovides similar load to reconstruction uni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51960" indent="-310680"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cern: Results in wide variability in entropy complexity in each sli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51960" indent="-310680"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ncern: In extreme, nearly all bins can be assigned to the same slic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8089920" y="2259000"/>
            <a:ext cx="5722920" cy="4011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8069400" y="2259000"/>
            <a:ext cx="5732280" cy="100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8070840" y="3260880"/>
            <a:ext cx="5732640" cy="100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8072280" y="4262400"/>
            <a:ext cx="5732640" cy="100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8083440" y="5264280"/>
            <a:ext cx="5732640" cy="1000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23920" y="1797120"/>
            <a:ext cx="4626000" cy="34700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5052960" y="1795320"/>
            <a:ext cx="4626000" cy="34704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9894960" y="1774800"/>
            <a:ext cx="4626000" cy="34704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9" name="Text Box 7"/>
          <p:cNvSpPr/>
          <p:nvPr/>
        </p:nvSpPr>
        <p:spPr>
          <a:xfrm>
            <a:off x="897480" y="5670720"/>
            <a:ext cx="1286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Distribution of bins when using one slice for LCU row (64x64 LCU). Note the heavy tail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2254320" y="4533840"/>
            <a:ext cx="2197080" cy="507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170840" y="4592520"/>
            <a:ext cx="2197080" cy="507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1979360" y="4543560"/>
            <a:ext cx="2197080" cy="507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raditional slice desig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12860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o manage entropy decoding complexity, we should bound the number of bins in a sli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2860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s has two drawbac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number of pixels within the slice is now highly variabl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-4762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50000"/>
              <a:buFont typeface="Tahoma"/>
              <a:buAutoNum type="arabicPeriod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e burden on encoders may be higher than when slicing by a fixed spatial reg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089920" y="2259000"/>
            <a:ext cx="5722920" cy="4011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8089920" y="2247840"/>
            <a:ext cx="5711760" cy="2367000"/>
          </a:xfrm>
          <a:custGeom>
            <a:avLst/>
            <a:gdLst/>
            <a:ahLst/>
            <a:rect l="l" t="t" r="r" b="b"/>
            <a:pathLst>
              <a:path w="3598" h="1491">
                <a:moveTo>
                  <a:pt x="0" y="1024"/>
                </a:moveTo>
                <a:lnTo>
                  <a:pt x="0" y="0"/>
                </a:lnTo>
                <a:lnTo>
                  <a:pt x="3598" y="0"/>
                </a:lnTo>
                <a:lnTo>
                  <a:pt x="3598" y="1261"/>
                </a:lnTo>
                <a:lnTo>
                  <a:pt x="623" y="1261"/>
                </a:lnTo>
                <a:lnTo>
                  <a:pt x="617" y="1491"/>
                </a:lnTo>
                <a:lnTo>
                  <a:pt x="7" y="148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15"/>
          <p:cNvSpPr/>
          <p:nvPr/>
        </p:nvSpPr>
        <p:spPr>
          <a:xfrm>
            <a:off x="8078760" y="4270320"/>
            <a:ext cx="5711760" cy="968400"/>
          </a:xfrm>
          <a:custGeom>
            <a:avLst/>
            <a:gdLst/>
            <a:ahLst/>
            <a:rect l="l" t="t" r="r" b="b"/>
            <a:pathLst>
              <a:path w="3598" h="610">
                <a:moveTo>
                  <a:pt x="7" y="210"/>
                </a:moveTo>
                <a:lnTo>
                  <a:pt x="630" y="217"/>
                </a:lnTo>
                <a:lnTo>
                  <a:pt x="630" y="0"/>
                </a:lnTo>
                <a:lnTo>
                  <a:pt x="3598" y="0"/>
                </a:lnTo>
                <a:lnTo>
                  <a:pt x="3598" y="610"/>
                </a:lnTo>
                <a:lnTo>
                  <a:pt x="0" y="610"/>
                </a:lnTo>
                <a:lnTo>
                  <a:pt x="7" y="21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8083440" y="5264280"/>
            <a:ext cx="5732640" cy="51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8074080" y="5788080"/>
            <a:ext cx="573228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posed Approach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41168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3000"/>
          </a:bodyPr>
          <a:p>
            <a:pPr marL="456120" indent="-456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posed approach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9874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upport dividing a “traditional” slice into additional “entropy slices”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19200" indent="-304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ntropy slices can be parsed independentl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987480" indent="-380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19200" indent="-304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llows structuring a bit-stream that is better balanced in both entropy decoding and reconstruction complexity loa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519200" indent="-3042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verhead of entropy slices is smaller than traditional slic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2125800" indent="-303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Better support for high slice counts anticipated for parallel applicatio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2125800" indent="-303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Lower burden for encoders when signaling bit-stream regions with bounds on bin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892080" y="3259080"/>
            <a:ext cx="5724720" cy="176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903240" y="3270240"/>
            <a:ext cx="4270320" cy="581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905040" y="3849840"/>
            <a:ext cx="2700000" cy="581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917640" y="4429080"/>
            <a:ext cx="5689440" cy="5810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614760" y="3855960"/>
            <a:ext cx="2990880" cy="5810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5149800" y="3268800"/>
            <a:ext cx="1463760" cy="581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4961520" y="51656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ditional Sl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1288800" y="548496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ntropy Sl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0" name="AutoShape 25"/>
          <p:cNvCxnSpPr>
            <a:stCxn id="139" idx="3"/>
          </p:cNvCxnSpPr>
          <p:nvPr/>
        </p:nvCxnSpPr>
        <p:spPr>
          <a:xfrm flipV="1">
            <a:off x="3030480" y="4722480"/>
            <a:ext cx="1085040" cy="9612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28"/>
          <p:cNvCxnSpPr>
            <a:stCxn id="139" idx="3"/>
          </p:cNvCxnSpPr>
          <p:nvPr/>
        </p:nvCxnSpPr>
        <p:spPr>
          <a:xfrm flipV="1">
            <a:off x="3030120" y="4333680"/>
            <a:ext cx="73800" cy="1350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AutoShape 30"/>
          <p:cNvCxnSpPr>
            <a:stCxn id="139" idx="1"/>
          </p:cNvCxnSpPr>
          <p:nvPr/>
        </p:nvCxnSpPr>
        <p:spPr>
          <a:xfrm flipH="1" rot="10800000">
            <a:off x="1277640" y="3577680"/>
            <a:ext cx="1326240" cy="2105640"/>
          </a:xfrm>
          <a:prstGeom prst="curvedConnector5">
            <a:avLst>
              <a:gd name="adj1" fmla="val -17241"/>
              <a:gd name="adj2" fmla="val 27359"/>
              <a:gd name="adj3" fmla="val -1724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posed Approach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Use lightweight slice header to signal entropy slic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eader only includes information necessary for entropy decoding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dditional benefit: entropy slices do not require reconfiguration of the reconstruction process at the decoder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8424720" y="1065240"/>
            <a:ext cx="4921560" cy="6518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nfiguratio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 traditional slice per pict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Entropy slices constrained to 180,000 bi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6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arget: 32x parallelism for H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ompared to anchor – 0.1-0.2% los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782" descr=""/>
          <p:cNvPicPr/>
          <p:nvPr/>
        </p:nvPicPr>
        <p:blipFill>
          <a:blip r:embed="rId1"/>
          <a:stretch/>
        </p:blipFill>
        <p:spPr>
          <a:xfrm>
            <a:off x="7935840" y="955800"/>
            <a:ext cx="61120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Anticipated Applicat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Example application – mixed CPU/GP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128600" indent="-476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rend toward multi-core CPU and highly parallel GPU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8600" indent="-476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e anticipate mapping entropy decoding to CPU and reconstruction to GPU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128600" indent="-476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s is consistent with deployment of previous standard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oftware onl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PU parsing with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construction accelera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78272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lice level accelera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8397720" y="1606680"/>
            <a:ext cx="5305680" cy="249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8991720" y="4983120"/>
            <a:ext cx="4432320" cy="2084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2099240" y="735336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ith entropy sl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11578680" y="425124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ithout entropy sl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4762440" y="4616280"/>
            <a:ext cx="0" cy="247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4748040" y="5586480"/>
            <a:ext cx="0" cy="247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Segall, Andrew</cp:lastModifiedBy>
  <dcterms:modified xsi:type="dcterms:W3CDTF">2011-01-22T01:08:47Z</dcterms:modified>
  <cp:revision>600</cp:revision>
  <dc:subject/>
  <dc:title>PowerPoint Presentation</dc:title>
</cp:coreProperties>
</file>