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D964-C57B-46E7-9788-144DB0810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E127-4E89-427B-80CF-5E76675AF72E}" type="slidenum"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7240" y="434196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1DE-6177-41EA-8D99-7BF3EC8C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C73-8A4C-4235-9D34-580A939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68F-F0E1-478F-AAF0-CF7988B4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DCC-8FB6-4049-9D7B-BFB2E1EC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4BD-CD2C-4D7C-B77F-5A588049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FA0-3508-42D2-B131-6534CE66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82A-F23A-4FF4-8348-8B307C61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2A2-71A8-4647-ACCB-5925C795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777-9696-4FF7-977C-6FF79909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3FD-336B-41AA-9845-FE8ACE84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179-F3F8-4A1E-BFD2-39E537B3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34C-B628-47BB-9064-DCB2AC02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00"/>
                </a:spcBef>
                <a:buClr>
                  <a:srgbClr val="3333cc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6C86-3A53-4C08-A868-AA8DFBE37B94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2057400"/>
            <a:ext cx="91440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HY견고딕"/>
              </a:rPr>
              <a:t>CE 7 : Cross-Check for Toshiba’s proposal 1-d Directional Unified Transform by Sam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HY견고딕"/>
              </a:rPr>
              <a:t>JCTVC-D0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HY견고딕"/>
              </a:rPr>
              <a:t>Ankur Saxena &amp; Felix C. Ferna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HY견고딕"/>
              </a:rPr>
              <a:t>Samsung Electronics, Co.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HY견고딕"/>
              </a:rPr>
              <a:t>Dallas R&amp;D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3821-D66E-4E30-B882-E95D31776E9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914400"/>
          <a:ext cx="7925040" cy="5549760"/>
        </p:xfrm>
        <a:graphic>
          <a:graphicData uri="http://schemas.openxmlformats.org/drawingml/2006/table">
            <a:tbl>
              <a:tblPr/>
              <a:tblGrid>
                <a:gridCol w="2075040"/>
                <a:gridCol w="1658880"/>
                <a:gridCol w="4191120"/>
              </a:tblGrid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plied for TU siz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4*4 and 8*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 sizes 16*16 and 32*32, DCT is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otal number of  transforms for size 4*4 and 8*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CT in TMuC 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Modified DCT  different than TMuC 0.9 DC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KLT (1-D DU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dditional TMuC Quantization matrices requir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dditional set of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Q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1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matrices at size 4 and 8 is used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torage increases from 960 to 1920 elem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dditional TMuC Transform cores required for 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Modified DCT uses a different co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Modified DCT is used only in I-slices co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can   mod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 different initial scan orders at size 4*4 and 8*8 are used. They appear to be obtained from train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xperimental Results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9072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Check was performed for Intra HE, Intra LC, Random Access HE, Random Access LC configurations according to stipulated conditions in CE 7 description (JCTVC-C507, Robert Cohen et a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BD Results as sent by Toshiba. Slight difference in decoding times in Intra LC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5574-5DCE-4634-A71E-98C0F2C5071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120" y="2362320"/>
          <a:ext cx="7162560" cy="3959280"/>
        </p:xfrm>
        <a:graphic>
          <a:graphicData uri="http://schemas.openxmlformats.org/drawingml/2006/table">
            <a:tbl>
              <a:tblPr/>
              <a:tblGrid>
                <a:gridCol w="954000"/>
                <a:gridCol w="1020600"/>
                <a:gridCol w="1020960"/>
                <a:gridCol w="689040"/>
                <a:gridCol w="1395360"/>
                <a:gridCol w="1395360"/>
                <a:gridCol w="687240"/>
              </a:tblGrid>
              <a:tr h="15876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 rowSpan="2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Lo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56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o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56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4148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60480" rIns="60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F82C-AE2D-4EC3-A501-3029B1CBCD9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CT matrix introduced in the proposal, original DCT kernels in TMuC 0.9 can be us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also not require the need of additional set of quantization and inverse quantization matrices only for I-slices which are currently being used in Toshiba’s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ed tool from Toshiba combines transform and sca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8854-F52E-4422-A3F4-EAF46D731DD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21:00:57Z</dcterms:created>
  <dc:creator>asaxena</dc:creator>
  <dc:description/>
  <dc:language>en-US</dc:language>
  <cp:lastModifiedBy>asaxena</cp:lastModifiedBy>
  <dcterms:modified xsi:type="dcterms:W3CDTF">2011-01-21T00:22:52Z</dcterms:modified>
  <cp:revision>122</cp:revision>
  <dc:subject/>
  <dc:title>Slide 1</dc:title>
</cp:coreProperties>
</file>