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E7218-7277-47A9-82EB-BB8179A52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42F89-93C8-40EA-AB24-132A761F4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FB9F49-90A0-452A-ACB6-9C58E6400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723D6F-B4A6-4E13-AC2B-D6EA88D6A7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26EF7-2E12-4091-AB66-2B804FB4B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F9A7A-3FA5-4CA4-9B9E-E8C17B6E89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AD586-C1B3-4557-8AA5-115658EB36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35EF13-BB16-4C9A-A152-A7C184E8B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FC407-48DE-4CCA-B332-01E4A2188B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26BB2E-397C-475E-BCAC-67604DAD0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2EF124-99F9-4A5F-A7ED-13995669FC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F2839F-77DE-4969-BFEB-128C6CAFD6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40AB1-F063-4063-8799-EB0EBF2A4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BBE4D9-37A5-4646-8525-38101E0D68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62E979-B9BE-4B00-8687-5F926A8D75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DB2380-CEBF-46FA-82E9-5F0E85D6FD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F76E67-D739-431B-972E-C7827C8AB2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8B0ACA-316A-470B-AC8D-31B14CBDEA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CF25B-B304-43D0-B91A-65732CE326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F97A87-381E-4B5F-9888-2B6120956F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748357-A1B4-4922-914E-E6557E9693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2DC326-0698-4628-818A-980CBFEB58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4224E0-B0E8-46BE-942D-70F4A05424A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5FF31-EC1A-4A00-91D5-1331BDE17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234BC5-204C-4531-A1A4-B90DEA2EBD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F9011E-17E5-487F-8270-9E2AEB9855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E56FC0-B9B6-441E-85C7-B2EC1D1DB4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22F8E9-AEB0-4B29-AD59-9FFAB4DFD2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32073B-3D0A-460D-92EC-E4B52BD55B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3C1A61-2C85-400F-A59C-231F499025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149C6D-033C-45C5-AD2B-0950511907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5B463E-B793-473E-9A2A-8BCEFC0294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44BE39-8AA0-452E-AE66-05A54CAA77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C7228B-FD27-46BC-A2AE-8511439228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A60DB-FD11-4FCD-A491-C89CEAC5A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F9C637-58FA-4CDA-A3A5-F0C2A4F1F3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E02FBF-09BA-4192-A456-FF1EB42FA0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CC900D-6E40-4682-BA77-EDD1C24915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C5C874F-D67A-4AE4-BDA2-6EE7C74A31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F1ACD3-789C-47B7-B3C0-A78F10E7F8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A38859-4561-484D-8787-6ECF8019CC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64831E5-FE55-4B0A-9F2D-56D2985157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0A0A4C-C6C8-463C-A4A2-6DAA80E0EF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F7D8DF-6CCE-4A12-BD57-F7DA05AD1F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1C59F5-19FF-4DA3-B4C6-F86629CFF5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A791E-007D-44E9-8E48-27945513F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DD810-152E-41B0-9B37-58C2ABBE7B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252900-E6FB-4332-99CD-8A61944724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77758A-E22C-4D3C-AC6B-A633406CA5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0B0901-7356-48EA-A5D4-0FF566F92B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5D3953-3282-4269-B319-BF37F9F040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6D3BB-EA52-43E9-9874-18639E2E8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22AFA-47DB-4189-9099-5A55BCB75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A8EFF-7DFC-40F1-9630-4981450D8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6D625-9300-42A6-BE93-CA75B785D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5C87F-9ACF-45B1-9C57-1087165B4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DDBEC-8346-4463-AF05-288862E7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EF14B-A4C8-45BE-A73B-9541B16C2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1735-CB0B-40D5-B02A-2FCF68D16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25715-3F5A-4C62-B7FC-61980D35F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0EC6C-CCCC-4929-A5A4-E0D21AE06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5A0A6-5DC3-4D40-B9BE-70EAEA9BF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CB033-50CB-47D9-8608-F519339949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FDE045-2AF5-47E4-A94A-F2556BC97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3AD00-1795-458A-BE16-F88C1B22A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A58DA-CB35-4292-9AEF-E73CE8DBF4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20586-CC13-456C-BBB4-8C4892FE6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33855-7471-4259-A0D3-B27BA5E8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FC6B6C-14E4-4D56-A861-CEF76B27F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00CB0-D08C-4D8A-9651-65FF72E33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75812-5362-49AF-9171-D199134F8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6745B-2134-4E54-8F30-BBF89375A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EBA5D8-A2AD-42A4-9FA8-43D15CD1C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E7170C-82B6-4B94-8805-E1CB76602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59615-39E9-4209-8C68-F7654511E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85CDC5-FBD7-447B-A9E2-6C89604C51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52570-B3AC-4265-BB60-C103D3F96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954A7-C52D-4847-90C0-3F320F37D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90B73-7B6C-4E54-AF1C-8C57B2AD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BA532-ED38-4F5D-AC0A-02992C64D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53008-2C88-4DCA-9EF2-5FE5BE1E1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CA6A68-C31B-47BC-A25A-008399CB5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7677E-CBFD-4AD1-9C9C-EA2762310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B42AE-A2B9-4744-B795-341D4EEE1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41AB9-9BEB-4C6B-85CF-F500B88E7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B82DA-2196-4E7F-B315-0E6C0FD15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112594-2084-4502-A79C-B88371F61B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54497-D577-447C-86C6-64BB68F355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9E53E5-077B-49DE-8C53-79127AECF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9F1E3-A4D0-47C7-86E3-E185F2E87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BC402-4A72-4D65-906C-56FA40477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AF7C5-31D0-499C-8A46-E25144758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EA73A-8B13-4BA1-AC8C-004D460B7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5A05A-105A-47D5-81A9-6C558DFBAB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70B3D7-F45C-488E-976A-B0EE59489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F9A3A-5EA6-4F07-9926-F51F04049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03278-6DF3-4315-ADF4-47F2E4B04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C068E-21F1-46FC-8CE5-C251F3BE2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EDCBA-42CD-489A-80B6-A6EDBC71A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00697C-C341-4137-8135-9979DD0062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7855-0A22-470B-87D3-82076876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7D7124-0F61-4803-9637-A957855BB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53BBA0-D8BB-4DDA-B58C-A2F498D97F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AC55AD-A004-4A42-8F0B-69F8ADE95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3160CE-42FD-4383-B92B-D25C97DFA3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86CB3-9B25-4F40-BA9A-CE3724994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5628C-3899-4F68-9625-FAB9C1E31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1747F-28ED-42E2-968B-E67C7E5587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5DF5B-257A-49E0-B45B-8B7CD5C57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A3F06-F0BA-4F65-984B-DD1218A99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61943-0406-4D1D-8E69-3CB5E76FA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53F3-1474-428F-BD07-1BA6F506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4F452-A82A-428D-B485-560DAA200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F55261-609A-4783-85AB-EC31377589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E9308A-4236-4352-B528-D61653A16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9FE3E5-80AA-4A1F-87F4-81102398DB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19005-2F06-40C1-A400-E116F802B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C1023-3186-4A86-BEBD-43DC7BA751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2B07B-DA18-44BB-91F6-1D85C4FFD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EEE92-2404-400C-9000-605717E40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8468F-4995-4175-8B70-1E04BCB05B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7F40B-3160-4C2F-86A5-AE69AC8FE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09F7-A27E-4C20-9155-7F38377B1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987FE-845B-4E8E-A822-EAA8575BF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BE867-2085-49CA-BE3E-8F1F1DAEF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9ED71-CEA5-4B5E-BA8C-E91CE195EE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051825-0B26-4FEA-AA43-00C0453E78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73743E-358F-4A59-B9C2-568A8C66A8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002BAA-FB87-40E9-9ED3-713480ED46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166558-D1D7-4E7B-A97E-818D22846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2BE04-63ED-4A1E-8D89-27895F6979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41E26-213A-49A3-80BA-35FE77BDAE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8F5B3B-19AF-4EC3-B3C7-F96C2C49A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AD70C-EB7E-4EC6-9C90-7EF58CC8F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E0E55E-A0FC-47D5-9EC6-4DB272E2A3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9655D-F453-40A2-AC9B-E063FE509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103C4D-112D-4E34-AF59-E8FB1CA2C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DD996-6E79-41A1-8AB6-1374E60A6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66C64-4485-490C-9F43-3C6F88D45E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270FC5-C36F-4730-8084-727D359308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95FFE9-F2D8-470A-920A-ED1EBE9506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7DA8F0-032E-41A8-B8DE-2A6E6F5A5C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4E6FE8-AC63-4191-8C32-2C9E14FF86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70A40-DFC3-4FEA-B8C0-518CE82C42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A5E6-C53B-4673-AC49-3CBDE75BB6A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4327-4BF9-48B0-BA17-8C89B1A4C0C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0D7C-6D9E-4738-9200-F18A2881B49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7538-FA1B-4612-9759-CFAD290898F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1ACD-F34D-4337-BD94-4196764B4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2E5D-2D42-4860-B001-D0CB932A044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91AC-F69C-4579-A133-FF164911DC1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72CB-2707-48C2-B288-C5161523C9E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EFDC-1668-4E3A-A951-CEA41C27DBB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C739-92C8-41F2-B456-73BB077C796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255D-8921-4F42-83B1-70C05C6670F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D3D6-07CF-406A-A0F0-3A142000F40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6840"/>
            <a:ext cx="777240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CTVC-D012, 4th Meeting: Daegu, KR, 20-28 January, 2011</a:t>
            </a:r>
            <a:br>
              <a:rPr sz="2400"/>
            </a:br>
            <a:br>
              <a:rPr sz="2400"/>
            </a:br>
            <a:r>
              <a:rPr b="0" lang="en-US" sz="4400" spc="-1" strike="noStrike">
                <a:solidFill>
                  <a:srgbClr val="000000"/>
                </a:solidFill>
                <a:latin typeface="Calibri"/>
              </a:rPr>
              <a:t>JCT-VC AHG report: </a:t>
            </a:r>
            <a:br>
              <a:rPr sz="4400"/>
            </a:br>
            <a:r>
              <a:rPr b="0" lang="en-US" sz="4400" spc="-1" strike="noStrike">
                <a:solidFill>
                  <a:srgbClr val="000000"/>
                </a:solidFill>
                <a:latin typeface="Calibri"/>
              </a:rPr>
              <a:t>Complexity assessment</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066320" y="4191120"/>
            <a:ext cx="723924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Daniele Alfonso, STMicroelectronic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Justin Ridge, Nokia</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Xing Wen, Hong Kong Univ. of Science &amp; Technology</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dates</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e measurement criteria to assess the complexity of encoder and decoder algorithmic design elements, including computational complexity, parallelism, memory bandwidth, memory capacity, dynamic range requirements, etc.</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d recommend tools for algorithmic complexity assess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2C66-97ED-41B8-8C4E-84EE3E788334}" type="slidenum">
              <a:rPr b="0" lang="it-IT"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or activity</a:t>
            </a:r>
            <a:endParaRPr b="0" lang="en-US" sz="4400" spc="-1" strike="noStrike">
              <a:solidFill>
                <a:srgbClr val="000000"/>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otal of about 50 e-mails were exchanged discussing topics related to Complexity assessment. In particular:</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erformance of TMuC version 0.9 was compared to version 0.8 considering Rate-Distortion and Encoding/Decoding time. The results reported on the reflector demonstrated consistent speed-up at both encoder and decoder side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cope of the Spatial Transforms AHG, it has been pointed out that it is very desirable to have available methods of measure complexity that directly relate to implementation, especially for hardware. While such methods do exist, they are proprietary and likely time consuming.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scope of Entropy slices AHG, it has been pointed out to consider both high-level parallelism (entropy-slice) and low-level parallelism (syntax or sub-process level).</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4C35-65FE-47ED-8120-FA3B8CE73C1C}" type="slidenum">
              <a:rPr b="0" lang="it-IT"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ed Contributions</a:t>
            </a:r>
            <a:endParaRPr b="0" lang="en-US" sz="4400" spc="-1" strike="noStrike">
              <a:solidFill>
                <a:srgbClr val="000000"/>
              </a:solidFill>
              <a:latin typeface="Calibri"/>
            </a:endParaRPr>
          </a:p>
        </p:txBody>
      </p:sp>
      <p:sp>
        <p:nvSpPr>
          <p:cNvPr id="50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ides the Complexity Assessment AHG, seven other Ad-Hoc Groups have mandates related to complexity assessment, showing that Complexity is currently a primary concern for JCT-VC.</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tial Transforms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Loop and Post-Process Filtering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ding block structures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pictures memory compression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opy coding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opy slices AHG</a:t>
            </a:r>
            <a:endParaRPr b="0" lang="en-US" sz="2000" spc="-1" strike="noStrike">
              <a:solidFill>
                <a:srgbClr val="000000"/>
              </a:solidFill>
              <a:latin typeface="Calibri"/>
            </a:endParaRPr>
          </a:p>
          <a:p>
            <a:pPr lvl="1" marL="792000" indent="-3394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otion compensation i</a:t>
            </a:r>
            <a:r>
              <a:rPr b="0" lang="en-US" sz="2000" spc="-1" strike="noStrike">
                <a:solidFill>
                  <a:srgbClr val="000000"/>
                </a:solidFill>
                <a:latin typeface="Calibri"/>
              </a:rPr>
              <a:t>interpolation AHG</a:t>
            </a:r>
            <a:endParaRPr b="0" lang="en-US" sz="2000" spc="-1" strike="noStrike">
              <a:solidFill>
                <a:srgbClr val="000000"/>
              </a:solidFill>
              <a:latin typeface="Calibri"/>
            </a:endParaRPr>
          </a:p>
        </p:txBody>
      </p:sp>
      <p:sp>
        <p:nvSpPr>
          <p:cNvPr id="5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915E-F28B-496E-9FB9-C0258E4E71EF}" type="slidenum">
              <a:rPr b="0" lang="it-IT"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ed software</a:t>
            </a:r>
            <a:endParaRPr b="0" lang="en-US" sz="4400" spc="-1" strike="noStrike">
              <a:solidFill>
                <a:srgbClr val="000000"/>
              </a:solidFill>
              <a:latin typeface="Calibri"/>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oftware Development AHG released the new TMuC 0.9, which showed consistent encoding and decoding speedup with respect to previous release, as discussed on the refle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mory Compression AHG provided a software for measuring memory bandwidth of TMuC 0.9 decoder. The software is available in the “0.9-ahg-memory” branch of the TMuC SVN repository.</a:t>
            </a:r>
            <a:endParaRPr b="0" lang="en-US" sz="24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23DD-2B95-45A2-9E20-ABADC7F1B780}" type="slidenum">
              <a:rPr b="0" lang="it-IT"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507" name=""/>
          <p:cNvSpPr txBox="1"/>
          <p:nvPr/>
        </p:nvSpPr>
        <p:spPr>
          <a:xfrm>
            <a:off x="457200" y="144792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lexity Assessment AHG recommend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view and compare the complexity results reported by the other Ad-Hoc Group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sider the possibility to harmonize the different complexity assessment methodologies in a common method shared among the various group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inue discussions among JCT-VC experts to reach consensus on suitable complexity definitions and methods to measure i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inue complexity assessment experiments in order to further optimize the trade-off between complexity and coding efficiency in the new HM softwar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F35E-FBAF-4374-A316-1C33ECC14A25}" type="slidenum">
              <a:rPr b="0" lang="it-IT"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54:16Z</dcterms:created>
  <dc:creator>Daniele Alfonso</dc:creator>
  <dc:description/>
  <dc:language>en-US</dc:language>
  <cp:lastModifiedBy>Daniele Alfonso</cp:lastModifiedBy>
  <dcterms:modified xsi:type="dcterms:W3CDTF">2011-01-15T23:34:20Z</dcterms:modified>
  <cp:revision>5</cp:revision>
  <dc:subject/>
  <dc:title>Slide 0</dc:title>
</cp:coreProperties>
</file>