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3AF-2362-41A5-988D-6A9A3A27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3BD-DDAB-4E1E-B8A5-EC63EF43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449-718B-4578-A88A-825403ED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924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680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168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924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680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9CB-EFFF-4274-AE3C-31E98B0D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6634-0489-423A-A1B7-8775B27E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D5E6-41F7-44AC-90EE-F99408FD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F132-F7CD-441F-AE4B-FA2EA7D1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922A-646B-47A0-8F11-F5A936F0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0623-96BD-4CFF-B66F-22D967AA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963C-8FAB-4A1E-ACAA-F1010050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CEA0-7447-4932-8894-11631737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45B-C6D9-49E9-91A2-16263A57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CA65-5550-403D-8819-284EF079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DCD9-D868-42D0-A520-4E4C0127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1EE9-15F3-4B85-8952-0698902C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3976-9196-4D17-BA96-53BCDEF4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8924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7680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0168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8924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7680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3419-0145-4EF1-858E-D1F36EA0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440-F243-4491-903D-76021263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862-4EE4-474F-9F78-D5AA7360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D8C-7E4A-481C-9F76-4CFD6275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E52-00C0-45D3-AE42-46FABE37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8B8-848F-4D95-9C9F-614E6F11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F5B-F33F-4BC9-AB28-9C9EAA5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0DC-643C-4056-8C66-91F835BA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95880"/>
            <a:ext cx="8305920" cy="3049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400800"/>
            <a:ext cx="8763120" cy="3049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76320"/>
            <a:ext cx="8534520" cy="3045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545A-5489-4BA9-884B-CB9F99135B18}" type="slidenum">
              <a:rPr b="0" lang="zh-CN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525780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57913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7242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1911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65760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1240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909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0"/>
              <a:ext cx="9144000" cy="2590920"/>
              <a:chOff x="0" y="0"/>
              <a:chExt cx="9144000" cy="2590920"/>
            </a:xfrm>
          </p:grpSpPr>
          <p:sp>
            <p:nvSpPr>
              <p:cNvPr id="57" name=""/>
              <p:cNvSpPr/>
              <p:nvPr/>
            </p:nvSpPr>
            <p:spPr>
              <a:xfrm>
                <a:off x="0" y="20574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52388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990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4572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3715-3F39-4901-AF4D-2CB1D5A0D594}" type="slidenum">
              <a:rPr b="0" lang="zh-CN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4191120" y="0"/>
              <a:ext cx="4952880" cy="4572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90720" y="1523880"/>
              <a:ext cx="815328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720" y="990720"/>
              <a:ext cx="7010280" cy="533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5791320"/>
              <a:ext cx="7467480" cy="533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457200"/>
              <a:ext cx="601992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99"/>
                </a:solidFill>
                <a:latin typeface="Times New Roman"/>
                <a:ea typeface="黑体"/>
              </a:rPr>
              <a:t>Arithmetic Coding based on Probability Aggregation</a:t>
            </a:r>
            <a:endParaRPr b="1" lang="en-US" sz="5500" spc="-1" strike="noStrike">
              <a:solidFill>
                <a:srgbClr val="9900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58560" y="4149720"/>
            <a:ext cx="640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Hongbo Zhu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JCTVC-C296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48E0-293A-4886-9BD6-F53227BD56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MPS Parallel dec. in the PA-Coder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0" y="56973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On high bitrate, the significance map is dominated by MPS=0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and last is dominated by MPS=0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Very high bitrate?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Iterate on one symbol with MPS=1 for zer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873000"/>
          <a:ext cx="6480000" cy="481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73000"/>
                    <a:ext cx="6480000" cy="48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72C-1E0D-4AB6-A86B-F53A9C23229B}" type="slidenum">
              <a:t>10</a:t>
            </a:fld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Performance of the PA-coder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About 0.2% BD-rate increase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Need more tests on TMuC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CB2-C35A-42BF-BDCA-591FA8CB88F2}" type="slidenum">
              <a:t>11</a:t>
            </a:fld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Comments on arithmetic coding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23880"/>
            <a:ext cx="8842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e PA-coder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Very simple encoder, more complex decoder than encod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torage cost about 2times of the m-coder but when multi-bin decoding, the storage cost of m-coder grows fastly.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kewer distribution, faster decoding, but for the distribution near 0.5, not that fast. (Luck thing: higher bitrate, skewer distribution.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e m-coder in CABAC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Very hard to parallel because of the range dependency, once decoding one bit, the range changes and renormalization. It is hard to estimate the (range&gt;&gt;6)&amp;3 for the next symbol before one symbol is decoded. High frequency for multi-symbol parallel decoding because the dependency chain is very long.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e V2V&amp;PIP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ust load one context from cache because register is not addressed by index when in software for common CPU (x86/x64, arm), such as mov r[8], r[7]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ig storage cost (big rom cost) (high power dispersal?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arallel decoding for multi-probability bin but the actual distribution is not with uniform distribution. Besides, the level decoding from bin2 to bin13 must span over several contexts for the V2V&amp;PIPE.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080-F921-422E-A20C-32028B1F3635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71640" y="1484280"/>
            <a:ext cx="72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const u8 cabac_Lkup2MPSOffst[256]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const u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nsigned short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 cabac_LkupLPS2Value[63*4*3]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u32 subLPS2(u32 range, u32 state, u32 *lfshft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u32 twobit = (range&gt;&gt;6) &amp; 3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u32 idx = twobit+(state&lt;&lt;2)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u32 lpscurr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idx = idx+(idx&lt;&lt;1) + (((range&amp;0x3f)+cabac_Lkup2MPSOffst[idx])&gt;&gt;5)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lpscurr = cabac_LkupLPS2Value[idx]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range = (range&lt;&lt;3)-lpscurr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while(range&gt;&gt;9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range &gt;&gt;= 1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return range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Decoding two MPS in m-coder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9FB-B246-455D-874C-8321FBBC8F56}" type="slidenum">
              <a:t>13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1280" y="333360"/>
          <a:ext cx="9215280" cy="49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1280" y="333360"/>
                    <a:ext cx="921528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042920" y="5297400"/>
                <a:ext cx="72360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val is denoted by logPro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e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n which bas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maps the probability p to interval 0x1000000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ll probabilities associated with input symbols is allocated tw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Prob named lgPrbMPS and lgPrbLP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5FB-3EC8-4697-966F-6BFBF9E54C09}" type="slidenum">
              <a:t>2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368280"/>
          <a:ext cx="914400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82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384-C9DE-4B02-8B36-0360856330FE}" type="slidenum">
              <a:t>3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58920" y="333360"/>
                <a:ext cx="87850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locate</m:t>
                    </m:r>
                    <m:r>
                      <m:rPr>
                        <m:lit/>
                        <m:nor/>
                      </m:rPr>
                      <m:t xml:space="preserve"> lgPrbMPS and lgPrbLPS to 64 states in CAB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3120" y="960480"/>
                <a:ext cx="8104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as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gP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LPS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as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gP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MPS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03280" y="2205000"/>
                <a:ext cx="7135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Pr</m:t>
                        </m:r>
                        <m:r>
                          <m:rPr>
                            <m:lit/>
                            <m:nor/>
                          </m:rPr>
                          <m:t xml:space="preserve">bLPS</m:t>
                        </m:r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Pr</m:t>
                        </m:r>
                        <m:r>
                          <m:rPr>
                            <m:lit/>
                            <m:nor/>
                          </m:rPr>
                          <m:t xml:space="preserve">bMPS</m:t>
                        </m:r>
                      </m:e>
                    </m:d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73880" y="1720800"/>
            <a:ext cx="46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in which p is the probability of LP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76360" y="2816280"/>
          <a:ext cx="511164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816280"/>
                    <a:ext cx="511164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FE8-ADA0-46D1-BAE7-0A26781C1810}" type="slidenum">
              <a:t>4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80160" y="1305000"/>
                <a:ext cx="3400200" cy="24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he Performance los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e to 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PrbMP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PrbLP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ke sense when select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the upper Interval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0" y="0"/>
          <a:ext cx="5579640" cy="6597360"/>
        </p:xfrm>
        <a:graphic>
          <a:graphicData uri="http://schemas.openxmlformats.org/drawingml/2006/table">
            <a:tbl>
              <a:tblPr/>
              <a:tblGrid>
                <a:gridCol w="462960"/>
                <a:gridCol w="652680"/>
                <a:gridCol w="744480"/>
                <a:gridCol w="462960"/>
                <a:gridCol w="652680"/>
                <a:gridCol w="743760"/>
                <a:gridCol w="463680"/>
                <a:gridCol w="652320"/>
                <a:gridCol w="744120"/>
              </a:tblGrid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ob.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ss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ob.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ss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ob.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ss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49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0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8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4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6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47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7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6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44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4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6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6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41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6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6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4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5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5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5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39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0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5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5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36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5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35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3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5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33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2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5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3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2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30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1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4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4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4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28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0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4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27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0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4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9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0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4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24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9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4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23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4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8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3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21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8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3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21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6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6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20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4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74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3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3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89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7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21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025</a:t>
                      </a:r>
                      <a:endParaRPr b="0" lang="en-US" sz="1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611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731-659A-4ABB-A03E-65413EF6C153}" type="slidenum">
              <a:t>5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asic Operations on the Enc. Side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22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268280"/>
          <a:ext cx="9144000" cy="5419800"/>
        </p:xfrm>
        <a:graphic>
          <a:graphicData uri="http://schemas.openxmlformats.org/drawingml/2006/table">
            <a:tbl>
              <a:tblPr/>
              <a:tblGrid>
                <a:gridCol w="544680"/>
                <a:gridCol w="2462040"/>
                <a:gridCol w="2660760"/>
                <a:gridCol w="34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-Coder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BAC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IPE&amp;V2V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PS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gProb+=lgPrbMPS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rLPS=rLPSTbl[state][(range&gt;&gt;6)&amp;3];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range-=rLPS;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renormalization range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ad the approximate context 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write the bit to the context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ore the context to cache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PS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gProb+=lgPrbLPS;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w+=I(logProb+lgPrbMPS)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rLPS=rLPSTbl[state][(range&gt;&gt;6)&amp;3];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low+=( Range-rLPS);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Range=rLPS;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renormalization range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thers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enormalization when outputing one word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utput VLC when one symbol is full.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0" y="462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E16-140B-43BE-81ED-9F296AC6FE18}" type="slidenum">
              <a:t>6</a:t>
            </a:fld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Map the value to logProb in Dec.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2920" y="1197000"/>
                <a:ext cx="8821800" cy="31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the value, current logProb,  map the value to logprbOf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fy the following condition: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gprbOfVal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value; and logprbOfVal is as bigger as it ca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 table named </m:t>
                        </m:r>
                        <m:r>
                          <m:t xml:space="preserve">unsigned</m:t>
                        </m:r>
                        <m:r>
                          <m:t xml:space="preserve">short</m:t>
                        </m:r>
                        <m:r>
                          <m:t xml:space="preserve">val</m:t>
                        </m:r>
                        <m:r>
                          <m:t xml:space="preserve">2</m:t>
                        </m:r>
                        <m:r>
                          <m:t xml:space="preserve">lngprb</m:t>
                        </m:r>
                        <m:r>
                          <m:rPr>
                            <m:lit/>
                            <m:nor/>
                          </m:rPr>
                          <m:t xml:space="preserve"> \[ </m:t>
                        </m:r>
                        <m:r>
                          <m:t xml:space="preserve">256</m:t>
                        </m:r>
                        <m:r>
                          <m:rPr>
                            <m:lit/>
                            <m:nor/>
                          </m:rPr>
                          <m:t xml:space="preserve"> \] </m:t>
                        </m:r>
                        <m:r>
                          <m:rPr>
                            <m:lit/>
                            <m:nor/>
                          </m:rPr>
                          <m:t xml:space="preserve"> is used to give the ma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 high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Prob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rPr>
                            <m:lit/>
                            <m:nor/>
                          </m:rPr>
                          <m:t xml:space="preserve">12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prbOfVal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gProb&amp;0xf00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l2lngprb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-high4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2120" y="4581360"/>
                <a:ext cx="384624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as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val2lngprb</m:t>
                            </m:r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p>
                        </m:sSup>
                        <m:r>
                          <m:t xml:space="preserve">≥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rPr>
                            <m:lit/>
                            <m:nor/>
                          </m:rPr>
                          <m:t xml:space="preserve">some</m:t>
                        </m:r>
                        <m:r>
                          <m:rPr>
                            <m:lit/>
                            <m:nor/>
                          </m:rPr>
                          <m:t xml:space="preserve"> in accurac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Loss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val2lngprb</m:t>
                            </m:r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curacy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all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99% Most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438-5C4B-4FDD-B134-564A5EDC32C3}" type="slidenum">
              <a:t>7</a:t>
            </a:fld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Basic Operations on Dec. sid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052640"/>
          <a:ext cx="9143640" cy="5805000"/>
        </p:xfrm>
        <a:graphic>
          <a:graphicData uri="http://schemas.openxmlformats.org/drawingml/2006/table">
            <a:tbl>
              <a:tblPr/>
              <a:tblGrid>
                <a:gridCol w="528840"/>
                <a:gridCol w="4205160"/>
                <a:gridCol w="2150280"/>
                <a:gridCol w="2259360"/>
              </a:tblGrid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-Coder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BAC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IPE&amp;V2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PS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f(rngPrbOfVal&gt;= logProb+ lgPrbMPS)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gProb+=lgPrbMPS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lse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{if(I(logProb+lgPrbMPS)&gt;value)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gProb+=lgPrbMPS}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LPS=rLPSTbl[state][(range&gt;&gt;6)&amp;3];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ange-=rLPS;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f(value&lt;range)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enormalization range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ad the approximate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ntext 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ead the bit from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context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ore the context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che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PS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f( (rngPrbOfVal&lt; logProb+ lgPrbMPS)&amp;&amp; (I(logProb+lgPrbMPS)&lt;=value) )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{ logProb+=lgPrbLPS;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w+=I(logProb+lgPrbMPS)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pVal2LogProb}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LPS=rLPSTbl[state][(range&gt;&gt;6)&amp;3];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f(value&gt;=range-rLPS)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{Value-=( Range-rLPS); 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ange=rLPS;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enormalization range}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enormalization when inputing one word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put VLC when one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ymbol is used up.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0" y="50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261-315B-43DA-88C2-0645AC35FF60}" type="slidenum">
              <a:t>8</a:t>
            </a:fld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Parallel dec. in the PA-Coder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305000"/>
          <a:ext cx="8496360" cy="46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05000"/>
                    <a:ext cx="8496360" cy="46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480" y="5877000"/>
            <a:ext cx="77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lP is logProb and the  denotes the MPSlogprob/LPSlogprob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of i-th symbol to be decoded. The r0-r6 is all possible division of 3 symbol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The computation grows exponentially with the parallel number.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A1E-0155-446F-9409-0FF443101339}" type="slidenum">
              <a:t>9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igw</cp:lastModifiedBy>
  <dcterms:modified xsi:type="dcterms:W3CDTF">2010-10-07T17:56:20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6</vt:r8>
  </property>
</Properties>
</file>