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4B42-1201-4D44-AE51-A01F98E4E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B61D-3CDD-4CB6-B245-43159CEF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3254-5A99-4269-A293-D5698E41E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889E-15B5-4E32-968A-C11D2EA8A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28A0-8E5F-4531-92CE-6B57EEA5B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E41E-6A49-42B6-B667-E395302D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1723-8101-4BB8-B9D9-1F6FEF2F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AFB6-0EDA-473E-ACFF-6CE53FB8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F96F-F64A-4117-95DC-41E2FD25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1BB1-DB3D-42EF-95C3-A6330756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D9E8-7847-4932-809B-596FB9AE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5EE9-3A5C-4B0C-A2D4-FA3ED04D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DCA5-B7AE-4870-BE92-56E4BFDB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0F73-852A-47DB-8A0F-2A583B5A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4A53-D2FE-414F-811E-5018CE47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F742-EC58-47A5-BD7E-EE3452F6F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C9F6-0C06-4023-AAC7-08C2879EF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81071-8BB4-4D14-9AC2-DBACCE37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F370C-E311-4605-9106-C93FEF09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B5038-9C57-4B6F-BD20-2F60DB6E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8CDB2-2F0E-40B6-913F-88488401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C2DE7-1237-4480-A163-73B0F2D6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A889-0BD0-4A44-A9CD-28C5B271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AEE1D-44D2-4C3D-AD04-D09AF240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77091-120A-455D-B7B0-4C8EEFDA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0EC32-C22F-4800-99D6-264920E2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1243B-B272-46DF-9E8F-7A8B9AC0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51D19-90C9-4383-9EFE-1AB09370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81D0D-D503-4631-B0FB-020C6EA7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B9C9C-C72D-4AC6-92BF-757994A73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719AF-A06D-4C1E-B467-7EBF6878D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971E3-1568-450F-8716-C3122F3D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DF90D-53DE-4E9A-9A03-782579FE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07A4-93FF-428E-883D-B969ADAF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930C0-F197-483A-9BFD-92F1EF3C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8213A-9B14-4D15-9D55-63566C5F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68007-CFEF-4B6D-A369-BC518C3A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458FC-79CF-43A6-90F7-FEA95832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E3A12-89B5-4D55-B2D0-AC88ED59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260FC-BC92-45B1-A235-B96AA69C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45A73-76FA-45A0-9723-3D342E71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B990E-7741-4403-9CD3-4B7F30BF4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04372-C8FB-4511-9190-A638394B9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57B85-5AE2-43A2-A938-77379195E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9644-765F-48BF-B9F7-2011E631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1C4F7-3AB6-405C-9BB7-AB0EB438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BB564-5E0E-4EDF-A310-B044F531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016B4-2E50-4A87-A844-DDE4DCAB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BF9CB-4B24-4C1D-9067-B99E0DC4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ADFCB-6BE2-449E-99D3-AD9D28DF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2F738-912E-45D5-BE5C-CCA543B7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1B7E2-CF11-4C78-83A0-EB4BA6DC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3D58F-45A2-4F26-9E4F-9C9529A3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86168-BCE9-49EB-8A06-823ACD60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11276-6EA7-4F82-92A8-20B945C50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D6E5-DB79-45AF-B7FC-C8B046A3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9D7D8-71E5-422B-9103-04C1D088B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F325-247E-4C84-912E-91D17F7B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0591-5324-49B4-9142-C9A8C41E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AE7A-292F-41B2-8BB6-68032701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F373-F5A3-4374-ADCA-23E6D274FBB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圆角矩形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矩形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0004-EDD4-4B94-81D8-02A02CA9887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圆角矩形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圆角矩形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矩形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7DF6-7002-419B-8E02-2C49ED2DB4F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圆角矩形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BE44-A4EF-43A5-8266-96E9B1ADD30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矩形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矩形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B777-2E42-4CAC-A7B5-EBA32D2521A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96464"/>
                </a:solidFill>
                <a:latin typeface="Perpetua"/>
              </a:rPr>
              <a:t>Bin Li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96464"/>
                </a:solidFill>
                <a:latin typeface="Perpetua"/>
              </a:rPr>
              <a:t>Jizheng Xu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96464"/>
                </a:solidFill>
                <a:latin typeface="Perpetua"/>
              </a:rPr>
              <a:t>Gary Sullivan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96464"/>
                </a:solidFill>
                <a:latin typeface="Perpetua"/>
              </a:rPr>
              <a:t>Feng Wu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Microsoft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826920" y="1341000"/>
            <a:ext cx="7632720" cy="18939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Redundancy reduction in B-frame coding at temporal level zer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clus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ow dela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PB cod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BBBB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andom acc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0 frames are of GPB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r GPB, ref list 0 and list 1 have the same reference fram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 current TMuC, list 1 is a copy of list 0 for GPB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GPB reference lists handl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ist 0=list 1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rovide flexibility to use bidirectional prediction from one reference fra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oth unidirectional predictions from list 0 and list 1 are use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ncrease encoding tim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Redundancy bits to represent prediction from which lis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ference list handl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VC/H.264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en list0=list1, the first two frames of list 1 are switche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mply disabling prediction from list 1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ncoding chooses not to prediction from list 1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ecrease encoding t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till some redundancy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xperimental results for low dela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5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MuC0.7 as the ancho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692360" y="3068640"/>
          <a:ext cx="6080040" cy="1096920"/>
        </p:xfrm>
        <a:graphic>
          <a:graphicData uri="http://schemas.openxmlformats.org/drawingml/2006/table">
            <a:tbl>
              <a:tblPr/>
              <a:tblGrid>
                <a:gridCol w="2027160"/>
                <a:gridCol w="2025720"/>
                <a:gridCol w="2027160"/>
              </a:tblGrid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 effici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 complex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po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wi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coder on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矩形 5"/>
          <p:cNvSpPr/>
          <p:nvPr/>
        </p:nvSpPr>
        <p:spPr>
          <a:xfrm>
            <a:off x="780840" y="4437000"/>
            <a:ext cx="72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oder crashed with several points, which are not included in the averaging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ncoding time reduct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340000" y="2133720"/>
          <a:ext cx="4443480" cy="2228760"/>
        </p:xfrm>
        <a:graphic>
          <a:graphicData uri="http://schemas.openxmlformats.org/drawingml/2006/table">
            <a:tbl>
              <a:tblPr/>
              <a:tblGrid>
                <a:gridCol w="1332000"/>
                <a:gridCol w="311148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ding time compared to the anch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ketballDri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.5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QM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7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ySc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5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Ho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.4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ketballP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QSqu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.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wingBubb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6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Hor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8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.6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clus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mply disabling prediction from list 1 leads to the best coding efficiency and decrease the encoding ti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ame solution as that in JCTVC-C285 proposed by Qualcom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nfirm the resul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commend TM to consider such an approac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矩形 3" descr=""/>
          <p:cNvPicPr/>
          <p:nvPr/>
        </p:nvPicPr>
        <p:blipFill>
          <a:blip r:embed="rId1"/>
          <a:stretch/>
        </p:blipFill>
        <p:spPr>
          <a:xfrm>
            <a:off x="3090960" y="2803680"/>
            <a:ext cx="29620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5:32:31Z</dcterms:created>
  <dc:creator>Ji-Zheng Xu</dc:creator>
  <dc:description/>
  <dc:language>en-US</dc:language>
  <cp:lastModifiedBy>Ji-Zheng Xu</cp:lastModifiedBy>
  <dcterms:modified xsi:type="dcterms:W3CDTF">2010-10-10T16:25:10Z</dcterms:modified>
  <cp:revision>35</cp:revision>
  <dc:subject/>
  <dc:title>PowerPoint 演示文稿</dc:title>
</cp:coreProperties>
</file>