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1209-442D-4E4D-854F-7E26D5B41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3F11-BB24-4F29-A331-E7CC249B4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2911-31EB-4A08-9D3E-D6F10FD92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2057-D591-4873-8FB8-504B7A766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2B605-0DAC-4C60-A40A-56742F914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13AC6-774C-49C6-A277-A6A7CED42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608C0-B929-4B8D-BF88-0CC3CE722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DCEBA-C4C5-48E4-B52F-EC71C4C05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8EFDD-FF16-4C62-B7C5-45B3037DB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66F24-A8A6-460D-A91C-AF05D077B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64830-6E30-4B1A-9619-F115309CC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FCAB-A597-45EE-9BC7-FBBF88723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FBE96-A27C-4000-B427-6946B4107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70EE4-8C85-4329-8850-72876FEDC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D3CFC-A42F-4BE2-98D2-AA84B828F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2ECB7-86DC-43F1-92F3-E91A8006B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91F7B-B64A-427C-8FF1-FF8202204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4CD96-EAAC-4729-BB4E-754004A6F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A1ABB-C1C0-4D9E-B9CB-5A1C25677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11548-BD6E-43FB-9D09-55520DA0B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B69C3-C1F6-4739-B16A-6E3D4914F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E01B6-7B32-48BC-839F-F310E7FB4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0BF9-7BBA-4393-B614-1AE05B548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FA9B6-B7AC-47D1-9F12-0BCA92104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A822F-91BF-41E0-A60D-86C37CBF6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2C0C6-A9FF-4AA1-9F6C-8DE34A70E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CEB12-F53B-4C16-9DEE-D7C15E816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0EABC-CB1C-4E45-BC8F-4038DB6CB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AB417-6812-44DE-B984-E5E323A05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4EE50-7C2B-4637-AE5F-7C56475DB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187025-263A-4C86-B872-156B7C5B2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FB96D6-B978-4FAA-B044-8CE8CCC8E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177D7-D3ED-4932-8234-37A917971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D07D-6BE7-4469-ABC6-B920DD399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BE686-257C-47BC-9D71-5BD734F9B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58C83-F666-4A59-A814-966871F3C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4312A-2CA3-407D-87AF-E6803167B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79711-F44A-47F4-B0A4-4445F8E5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F56DA-C535-4B08-8D99-852644268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B2C91-92F3-4593-8EED-315F84098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08A65-09CD-4B84-A96F-3E61565A4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89A81-5820-4944-B279-6E8247C48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D99A0-E49B-479A-B9FD-8414DAB51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527B58-2B9B-4780-9CAE-31B188D23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EA05-57FE-4448-BB8A-BE1A4C572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7E9344-B034-4434-8450-15C8EE8C0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1430EA-965F-42B6-8635-3421D660B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87D383-1E8D-45B2-BC3F-68086EF0A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CB59F5-4BC6-4AC3-AD1A-CD7741F32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A61E65-7369-4CCF-A7D8-F6516AF4D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69B1C5-5EAD-4F1D-B671-115F5EEC5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7DF174-AB95-42E7-B614-526D94CA3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10D0D6-E8F0-4F9D-977D-9A5CAA8F6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75CC5B-749D-413C-8FBB-FAB5F8DEE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2D8465-1E76-439D-8732-C9B58D9E3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A230-BBF3-4E55-8AAF-F9E0FD86E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31DFA9-DEE0-460A-8055-F3EC9078F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8023-E237-4B58-9655-5793B2EFC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27C6-7DF8-4792-AEEF-C4D942E10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BE89-EB66-4F99-B953-98F457077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" name="圆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7A315-4EDE-4E18-8DFC-E91C39A77F5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圆角矩形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矩形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矩形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矩形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B853C-FDB0-49BF-B5B0-DE4DA411FF7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90" name="圆角矩形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圆角矩形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93" name="矩形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4" name="矩形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" name="矩形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63A44-BC7B-4033-A071-7A14430659A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圆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圆角矩形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D0B71-FCE1-4AAB-9C30-2FDA101C89A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圆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矩形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" name="矩形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" name="矩形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65685-7174-41F6-B272-E42A98C8E0E4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96464"/>
                </a:solidFill>
                <a:latin typeface="Perpetua"/>
              </a:rPr>
              <a:t>Bin Li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96464"/>
                </a:solidFill>
                <a:latin typeface="Perpetua"/>
              </a:rPr>
              <a:t>Jizheng Xu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96464"/>
                </a:solidFill>
                <a:latin typeface="Perpetua"/>
              </a:rPr>
              <a:t>Feng Wu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96464"/>
                </a:solidFill>
                <a:latin typeface="Perpetua"/>
              </a:rPr>
              <a:t>Gary Sullivan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Microsoft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826920" y="1341000"/>
            <a:ext cx="7632720" cy="189396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Franklin Gothic Book"/>
              </a:rPr>
              <a:t>Redundancy reduction in Cbf and Merging coding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onclusion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urrent quadtree representation may have some redundanc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Cbf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Merging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Hierarchical ALF signaling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commend to make corresponding modifications in the desig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矩形 3" descr=""/>
          <p:cNvPicPr/>
          <p:nvPr/>
        </p:nvPicPr>
        <p:blipFill>
          <a:blip r:embed="rId1"/>
          <a:stretch/>
        </p:blipFill>
        <p:spPr>
          <a:xfrm>
            <a:off x="3090960" y="2803680"/>
            <a:ext cx="296208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Outlin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ossible redundancy in the current tree-based represent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dundancy reduction in Cbf cod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dundancy reduction in PU-based merg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dundancy reduction in CU-based merg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nclus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Tree-based representation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3" name="矩形 3"/>
          <p:cNvSpPr/>
          <p:nvPr/>
        </p:nvSpPr>
        <p:spPr>
          <a:xfrm>
            <a:off x="900000" y="1844640"/>
            <a:ext cx="2448000" cy="244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855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4" name="直接连接符 5"/>
          <p:cNvSpPr/>
          <p:nvPr/>
        </p:nvSpPr>
        <p:spPr>
          <a:xfrm>
            <a:off x="900000" y="3068640"/>
            <a:ext cx="2448000" cy="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5" name="直接连接符 7"/>
          <p:cNvSpPr/>
          <p:nvPr/>
        </p:nvSpPr>
        <p:spPr>
          <a:xfrm>
            <a:off x="2124000" y="1844640"/>
            <a:ext cx="0" cy="244800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6" name="TextBox 8"/>
          <p:cNvSpPr/>
          <p:nvPr/>
        </p:nvSpPr>
        <p:spPr>
          <a:xfrm>
            <a:off x="2782440" y="1866960"/>
            <a:ext cx="68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Node splitting means that the node has non-uniform attribute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7" name="矩形 10"/>
          <p:cNvSpPr/>
          <p:nvPr/>
        </p:nvSpPr>
        <p:spPr>
          <a:xfrm>
            <a:off x="900000" y="1844640"/>
            <a:ext cx="1224000" cy="1224000"/>
          </a:xfrm>
          <a:prstGeom prst="rect">
            <a:avLst/>
          </a:prstGeom>
          <a:solidFill>
            <a:srgbClr val="a6a6a6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8" name="矩形 11"/>
          <p:cNvSpPr/>
          <p:nvPr/>
        </p:nvSpPr>
        <p:spPr>
          <a:xfrm>
            <a:off x="2127240" y="1841400"/>
            <a:ext cx="1224000" cy="1224000"/>
          </a:xfrm>
          <a:prstGeom prst="rect">
            <a:avLst/>
          </a:prstGeom>
          <a:solidFill>
            <a:srgbClr val="a6a6a6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9" name="矩形 12"/>
          <p:cNvSpPr/>
          <p:nvPr/>
        </p:nvSpPr>
        <p:spPr>
          <a:xfrm>
            <a:off x="900000" y="3062160"/>
            <a:ext cx="1224000" cy="1224000"/>
          </a:xfrm>
          <a:prstGeom prst="rect">
            <a:avLst/>
          </a:prstGeom>
          <a:solidFill>
            <a:srgbClr val="a6a6a6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0" name="矩形 13"/>
          <p:cNvSpPr/>
          <p:nvPr/>
        </p:nvSpPr>
        <p:spPr>
          <a:xfrm>
            <a:off x="2127240" y="3068640"/>
            <a:ext cx="1224000" cy="1224000"/>
          </a:xfrm>
          <a:prstGeom prst="rect">
            <a:avLst/>
          </a:prstGeom>
          <a:solidFill>
            <a:srgbClr val="ef8c6a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1" name="TextBox 14"/>
          <p:cNvSpPr/>
          <p:nvPr/>
        </p:nvSpPr>
        <p:spPr>
          <a:xfrm>
            <a:off x="3054600" y="3062160"/>
            <a:ext cx="574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When all previous sub-nodes have a same attribute,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The last one must have a different one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2" name="TextBox 15"/>
          <p:cNvSpPr/>
          <p:nvPr/>
        </p:nvSpPr>
        <p:spPr>
          <a:xfrm>
            <a:off x="-210960" y="4941720"/>
            <a:ext cx="98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Tree-based structure is used to provide a hierarchical representation, which is used widely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in AVC and TMuC.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bf coding in residue transform quadtre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4" name="矩形 5"/>
          <p:cNvSpPr/>
          <p:nvPr/>
        </p:nvSpPr>
        <p:spPr>
          <a:xfrm>
            <a:off x="-603360" y="4724280"/>
            <a:ext cx="603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Split flag=0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Send one cbf to indicate if there is non-zero coefficient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5" name="对象 6" descr=""/>
          <p:cNvPicPr/>
          <p:nvPr/>
        </p:nvPicPr>
        <p:blipFill>
          <a:blip r:embed="rId1"/>
          <a:stretch/>
        </p:blipFill>
        <p:spPr>
          <a:xfrm>
            <a:off x="1332000" y="1989000"/>
            <a:ext cx="2160360" cy="21592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"/>
          <p:cNvPicPr/>
          <p:nvPr/>
        </p:nvPicPr>
        <p:blipFill>
          <a:blip r:embed="rId2"/>
          <a:stretch/>
        </p:blipFill>
        <p:spPr>
          <a:xfrm>
            <a:off x="5796000" y="1989000"/>
            <a:ext cx="2160720" cy="2160720"/>
          </a:xfrm>
          <a:prstGeom prst="rect">
            <a:avLst/>
          </a:prstGeom>
          <a:ln w="0">
            <a:noFill/>
          </a:ln>
        </p:spPr>
      </p:pic>
      <p:sp>
        <p:nvSpPr>
          <p:cNvPr id="247" name="矩形 7"/>
          <p:cNvSpPr/>
          <p:nvPr/>
        </p:nvSpPr>
        <p:spPr>
          <a:xfrm>
            <a:off x="4405680" y="2874960"/>
            <a:ext cx="41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8" name="矩形 8"/>
          <p:cNvSpPr/>
          <p:nvPr/>
        </p:nvSpPr>
        <p:spPr>
          <a:xfrm>
            <a:off x="5619600" y="4727520"/>
            <a:ext cx="262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Split flag=1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Send 4 cbf to for 4 sub unit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Redundancy in cbf coding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914040" y="1447920"/>
            <a:ext cx="5745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case that four cbf=0 should not happe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When it is detected that all the previous TU with cbf=0, no cbf for the last TU needs to be transmitte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5724360" y="3213000"/>
            <a:ext cx="23767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Merging coding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When it is detected that all the previous TU with a same MV, there is no need to merge the last block into that MV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U-based merging with redundancy reduction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914400" y="1447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185400" indent="-1854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U-based merging as the ancho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185400" indent="-1854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proposed modification leads to minor bit-sav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1760400" y="3276720"/>
          <a:ext cx="6080400" cy="914400"/>
        </p:xfrm>
        <a:graphic>
          <a:graphicData uri="http://schemas.openxmlformats.org/drawingml/2006/table">
            <a:tbl>
              <a:tblPr/>
              <a:tblGrid>
                <a:gridCol w="1216080"/>
                <a:gridCol w="1216080"/>
                <a:gridCol w="1216080"/>
                <a:gridCol w="1216080"/>
                <a:gridCol w="1216080"/>
              </a:tblGrid>
              <a:tr h="152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Average Class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0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0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152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Average Class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0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0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0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0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Average Class 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0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0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0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0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Average Class 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0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0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0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0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Average Class 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0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0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Average 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0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0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0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0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2987640" y="3068640"/>
          <a:ext cx="4863960" cy="152280"/>
        </p:xfrm>
        <a:graphic>
          <a:graphicData uri="http://schemas.openxmlformats.org/drawingml/2006/table">
            <a:tbl>
              <a:tblPr/>
              <a:tblGrid>
                <a:gridCol w="1216080"/>
                <a:gridCol w="1216080"/>
                <a:gridCol w="1216080"/>
                <a:gridCol w="1215720"/>
              </a:tblGrid>
              <a:tr h="1522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A Lo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L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LD Lo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PU-based merging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914400" y="1447560"/>
            <a:ext cx="7772400" cy="29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2Nx2N, Nx2N, 2NxnU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Reduce the number of MV candidates to be merged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780840" indent="-21708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NumMergeCandidates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Nx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Disabling merging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xperimental resul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MuC0.7.4 with the PU-based bug fixed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PU-based merging with redundancy reduction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914400" y="1447560"/>
            <a:ext cx="7772400" cy="19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U-based merging as the ancho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1760400" y="4098960"/>
          <a:ext cx="6080400" cy="914400"/>
        </p:xfrm>
        <a:graphic>
          <a:graphicData uri="http://schemas.openxmlformats.org/drawingml/2006/table">
            <a:tbl>
              <a:tblPr/>
              <a:tblGrid>
                <a:gridCol w="1216080"/>
                <a:gridCol w="1216080"/>
                <a:gridCol w="1216080"/>
                <a:gridCol w="1216080"/>
                <a:gridCol w="1216080"/>
              </a:tblGrid>
              <a:tr h="1526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Average Class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0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0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1526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Average Class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0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0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1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0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Average Class 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0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0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0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0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Average Class 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0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0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0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Average Class 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1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0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Average 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0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0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0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0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3" name=""/>
          <p:cNvGraphicFramePr/>
          <p:nvPr/>
        </p:nvGraphicFramePr>
        <p:xfrm>
          <a:off x="2987640" y="3890880"/>
          <a:ext cx="4863960" cy="152640"/>
        </p:xfrm>
        <a:graphic>
          <a:graphicData uri="http://schemas.openxmlformats.org/drawingml/2006/table">
            <a:tbl>
              <a:tblPr/>
              <a:tblGrid>
                <a:gridCol w="1216080"/>
                <a:gridCol w="1216080"/>
                <a:gridCol w="1216080"/>
                <a:gridCol w="1215720"/>
              </a:tblGrid>
              <a:tr h="1526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A Lo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L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LD Lo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6T15:32:31Z</dcterms:created>
  <dc:creator>Ji-Zheng Xu</dc:creator>
  <dc:description/>
  <dc:language>en-US</dc:language>
  <cp:lastModifiedBy>Ji-Zheng Xu</cp:lastModifiedBy>
  <dcterms:modified xsi:type="dcterms:W3CDTF">2010-10-10T16:31:47Z</dcterms:modified>
  <cp:revision>29</cp:revision>
  <dc:subject/>
  <dc:title>PowerPoint 演示文稿</dc:title>
</cp:coreProperties>
</file>